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2AA-C5FD-41F9-B5DB-ECA06A50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EA6-D2B3-44C5-9C7D-0561DDA0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657-D61F-4B7C-812F-90416D9E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7C4-9579-4DC9-8671-7AA41DB3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826E-3387-4E50-BA57-979B080C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E333-FFE7-4C97-AFFF-A6F77865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F82-9AC4-418E-8F04-867E477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8772-BC08-4726-8A0F-DAA9C5EF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57F7-52AE-4151-B243-03367057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0253-AC26-4D6A-A27B-D75237FC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F61C-5D60-4247-9F76-3BA957A8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783-9898-4B48-BE49-3404459E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43E4-7B17-4281-BD55-090054B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6F1-6F33-4AAE-B846-464BA82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44F-3155-4EF2-9B53-264DD9FF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6056-E68F-4766-833E-7CB2F905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58A-D527-4D3B-B57E-6990220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EA8-240E-4495-AD67-89017186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EF2-C237-4191-AF39-C26A7982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2F9-186A-489B-B86A-FDFFF4D9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F9F-621B-4DD4-9155-2F1F8E91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2D5-0143-423D-9F16-14FE700A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CCF-AE90-4A50-AFE3-19DCDD3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C65-4B45-4593-B2B3-3DF340B4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0DB-4B0B-409C-AC94-EE4124DAD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DD8-2D9E-4451-AC33-1F2A330D89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Wednesday, January 7th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Place Important Paper #4 into your binder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ebd40"/>
                </a:solidFill>
                <a:latin typeface="Arial"/>
              </a:rPr>
              <a:t>Double Angle Formulas</a:t>
            </a:r>
            <a:endParaRPr b="0" lang="en-US" sz="6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Use the figure to find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1295280"/>
            <a:ext cx="2666880" cy="381024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5205240"/>
            <a:ext cx="204840" cy="358920"/>
          </a:xfrm>
          <a:custGeom>
            <a:avLst/>
            <a:gdLst/>
            <a:ahLst/>
            <a:rect l="l" t="t" r="r" b="b"/>
            <a:pathLst>
              <a:path w="571" h="993">
                <a:moveTo>
                  <a:pt x="19596" y="14486"/>
                </a:moveTo>
                <a:cubicBezTo>
                  <a:pt x="19694" y="14486"/>
                  <a:pt x="19777" y="14484"/>
                  <a:pt x="19869" y="14461"/>
                </a:cubicBezTo>
                <a:cubicBezTo>
                  <a:pt x="19898" y="14454"/>
                  <a:pt x="19938" y="14461"/>
                  <a:pt x="19968" y="14461"/>
                </a:cubicBezTo>
              </a:path>
              <a:path w="571" h="993">
                <a:moveTo>
                  <a:pt x="19496" y="14536"/>
                </a:moveTo>
                <a:cubicBezTo>
                  <a:pt x="19496" y="14612"/>
                  <a:pt x="19478" y="14624"/>
                  <a:pt x="19472" y="14684"/>
                </a:cubicBezTo>
                <a:cubicBezTo>
                  <a:pt x="19467" y="14734"/>
                  <a:pt x="19487" y="14740"/>
                  <a:pt x="19496" y="14759"/>
                </a:cubicBezTo>
                <a:cubicBezTo>
                  <a:pt x="19510" y="14789"/>
                  <a:pt x="19525" y="14785"/>
                  <a:pt x="19546" y="14759"/>
                </a:cubicBezTo>
                <a:cubicBezTo>
                  <a:pt x="19569" y="14730"/>
                  <a:pt x="19568" y="14734"/>
                  <a:pt x="19621" y="14734"/>
                </a:cubicBezTo>
                <a:cubicBezTo>
                  <a:pt x="19663" y="14734"/>
                  <a:pt x="19734" y="14759"/>
                  <a:pt x="19769" y="14784"/>
                </a:cubicBezTo>
                <a:cubicBezTo>
                  <a:pt x="19811" y="14814"/>
                  <a:pt x="19852" y="14852"/>
                  <a:pt x="19893" y="14883"/>
                </a:cubicBezTo>
                <a:cubicBezTo>
                  <a:pt x="19945" y="14922"/>
                  <a:pt x="19964" y="14986"/>
                  <a:pt x="19993" y="15032"/>
                </a:cubicBezTo>
                <a:cubicBezTo>
                  <a:pt x="20017" y="15070"/>
                  <a:pt x="20037" y="15106"/>
                  <a:pt x="20042" y="15156"/>
                </a:cubicBezTo>
                <a:cubicBezTo>
                  <a:pt x="20044" y="15179"/>
                  <a:pt x="20027" y="15283"/>
                  <a:pt x="20017" y="15304"/>
                </a:cubicBezTo>
                <a:cubicBezTo>
                  <a:pt x="20011" y="15317"/>
                  <a:pt x="19973" y="15401"/>
                  <a:pt x="19968" y="15404"/>
                </a:cubicBezTo>
                <a:cubicBezTo>
                  <a:pt x="19940" y="15423"/>
                  <a:pt x="19876" y="15444"/>
                  <a:pt x="19844" y="15453"/>
                </a:cubicBezTo>
                <a:cubicBezTo>
                  <a:pt x="19790" y="15468"/>
                  <a:pt x="19736" y="15437"/>
                  <a:pt x="19695" y="15429"/>
                </a:cubicBezTo>
                <a:cubicBezTo>
                  <a:pt x="19664" y="15423"/>
                  <a:pt x="19590" y="15433"/>
                  <a:pt x="19571" y="15404"/>
                </a:cubicBezTo>
                <a:cubicBezTo>
                  <a:pt x="19571" y="15379"/>
                  <a:pt x="19571" y="15371"/>
                  <a:pt x="19546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224080"/>
            <a:ext cx="2135160" cy="401760"/>
          </a:xfrm>
          <a:custGeom>
            <a:avLst/>
            <a:gdLst/>
            <a:ahLst/>
            <a:rect l="l" t="t" r="r" b="b"/>
            <a:pathLst>
              <a:path w="5929" h="1118">
                <a:moveTo>
                  <a:pt x="6424" y="6672"/>
                </a:moveTo>
                <a:cubicBezTo>
                  <a:pt x="6470" y="6672"/>
                  <a:pt x="6483" y="6694"/>
                  <a:pt x="6524" y="6697"/>
                </a:cubicBezTo>
                <a:cubicBezTo>
                  <a:pt x="6630" y="6705"/>
                  <a:pt x="6740" y="6697"/>
                  <a:pt x="6846" y="6697"/>
                </a:cubicBezTo>
                <a:cubicBezTo>
                  <a:pt x="6821" y="6697"/>
                  <a:pt x="6797" y="6697"/>
                  <a:pt x="6772" y="6697"/>
                </a:cubicBezTo>
              </a:path>
              <a:path w="5929" h="1118">
                <a:moveTo>
                  <a:pt x="6350" y="6896"/>
                </a:moveTo>
                <a:cubicBezTo>
                  <a:pt x="6394" y="6929"/>
                  <a:pt x="6416" y="6921"/>
                  <a:pt x="6474" y="6921"/>
                </a:cubicBezTo>
                <a:cubicBezTo>
                  <a:pt x="6611" y="6921"/>
                  <a:pt x="6742" y="6928"/>
                  <a:pt x="6871" y="6896"/>
                </a:cubicBezTo>
                <a:cubicBezTo>
                  <a:pt x="6896" y="6896"/>
                  <a:pt x="6904" y="6896"/>
                  <a:pt x="6896" y="6921"/>
                </a:cubicBezTo>
              </a:path>
              <a:path w="5929" h="1118">
                <a:moveTo>
                  <a:pt x="7218" y="6350"/>
                </a:moveTo>
                <a:cubicBezTo>
                  <a:pt x="7179" y="6337"/>
                  <a:pt x="7195" y="6310"/>
                  <a:pt x="7218" y="6276"/>
                </a:cubicBezTo>
                <a:cubicBezTo>
                  <a:pt x="7242" y="6241"/>
                  <a:pt x="7273" y="6216"/>
                  <a:pt x="7293" y="6201"/>
                </a:cubicBezTo>
                <a:cubicBezTo>
                  <a:pt x="7331" y="6172"/>
                  <a:pt x="7344" y="6176"/>
                  <a:pt x="7392" y="6176"/>
                </a:cubicBezTo>
                <a:cubicBezTo>
                  <a:pt x="7444" y="6176"/>
                  <a:pt x="7444" y="6171"/>
                  <a:pt x="7466" y="6201"/>
                </a:cubicBezTo>
                <a:cubicBezTo>
                  <a:pt x="7498" y="6243"/>
                  <a:pt x="7513" y="6296"/>
                  <a:pt x="7516" y="6350"/>
                </a:cubicBezTo>
                <a:cubicBezTo>
                  <a:pt x="7522" y="6450"/>
                  <a:pt x="7513" y="6554"/>
                  <a:pt x="7491" y="6648"/>
                </a:cubicBezTo>
                <a:cubicBezTo>
                  <a:pt x="7461" y="6778"/>
                  <a:pt x="7398" y="6884"/>
                  <a:pt x="7342" y="6995"/>
                </a:cubicBezTo>
                <a:cubicBezTo>
                  <a:pt x="7302" y="7075"/>
                  <a:pt x="7285" y="7136"/>
                  <a:pt x="7218" y="7193"/>
                </a:cubicBezTo>
                <a:cubicBezTo>
                  <a:pt x="7183" y="7223"/>
                  <a:pt x="7122" y="7262"/>
                  <a:pt x="7069" y="7243"/>
                </a:cubicBezTo>
                <a:cubicBezTo>
                  <a:pt x="7019" y="7225"/>
                  <a:pt x="7029" y="7207"/>
                  <a:pt x="6995" y="7169"/>
                </a:cubicBezTo>
                <a:cubicBezTo>
                  <a:pt x="6963" y="7134"/>
                  <a:pt x="6970" y="7115"/>
                  <a:pt x="6970" y="7069"/>
                </a:cubicBezTo>
                <a:cubicBezTo>
                  <a:pt x="6970" y="7004"/>
                  <a:pt x="7001" y="6989"/>
                  <a:pt x="7045" y="6945"/>
                </a:cubicBezTo>
                <a:cubicBezTo>
                  <a:pt x="7088" y="6902"/>
                  <a:pt x="7105" y="6915"/>
                  <a:pt x="7144" y="6921"/>
                </a:cubicBezTo>
                <a:cubicBezTo>
                  <a:pt x="7239" y="6935"/>
                  <a:pt x="7268" y="6963"/>
                  <a:pt x="7317" y="7045"/>
                </a:cubicBezTo>
                <a:cubicBezTo>
                  <a:pt x="7339" y="7082"/>
                  <a:pt x="7384" y="7156"/>
                  <a:pt x="7392" y="7193"/>
                </a:cubicBezTo>
                <a:cubicBezTo>
                  <a:pt x="7392" y="7235"/>
                  <a:pt x="7392" y="7243"/>
                  <a:pt x="7392" y="7268"/>
                </a:cubicBezTo>
              </a:path>
              <a:path w="5929" h="1118">
                <a:moveTo>
                  <a:pt x="7987" y="6722"/>
                </a:moveTo>
                <a:cubicBezTo>
                  <a:pt x="7949" y="6709"/>
                  <a:pt x="7967" y="6697"/>
                  <a:pt x="7913" y="6697"/>
                </a:cubicBezTo>
                <a:cubicBezTo>
                  <a:pt x="7862" y="6697"/>
                  <a:pt x="7854" y="6708"/>
                  <a:pt x="7813" y="6722"/>
                </a:cubicBezTo>
                <a:cubicBezTo>
                  <a:pt x="7770" y="6737"/>
                  <a:pt x="7751" y="6750"/>
                  <a:pt x="7739" y="6796"/>
                </a:cubicBezTo>
                <a:cubicBezTo>
                  <a:pt x="7779" y="6828"/>
                  <a:pt x="7822" y="6847"/>
                  <a:pt x="7863" y="6871"/>
                </a:cubicBezTo>
                <a:cubicBezTo>
                  <a:pt x="7927" y="6908"/>
                  <a:pt x="7984" y="6947"/>
                  <a:pt x="8012" y="7020"/>
                </a:cubicBezTo>
                <a:cubicBezTo>
                  <a:pt x="8034" y="7077"/>
                  <a:pt x="7997" y="7108"/>
                  <a:pt x="7962" y="7144"/>
                </a:cubicBezTo>
                <a:cubicBezTo>
                  <a:pt x="7931" y="7176"/>
                  <a:pt x="7907" y="7213"/>
                  <a:pt x="7863" y="7218"/>
                </a:cubicBezTo>
                <a:cubicBezTo>
                  <a:pt x="7826" y="7222"/>
                  <a:pt x="7735" y="7234"/>
                  <a:pt x="7714" y="7193"/>
                </a:cubicBezTo>
                <a:cubicBezTo>
                  <a:pt x="7714" y="7165"/>
                  <a:pt x="7717" y="7155"/>
                  <a:pt x="7739" y="7144"/>
                </a:cubicBezTo>
              </a:path>
              <a:path w="5929" h="1118">
                <a:moveTo>
                  <a:pt x="8210" y="6722"/>
                </a:moveTo>
                <a:cubicBezTo>
                  <a:pt x="8210" y="6747"/>
                  <a:pt x="8213" y="7202"/>
                  <a:pt x="8186" y="7193"/>
                </a:cubicBezTo>
                <a:cubicBezTo>
                  <a:pt x="8186" y="7165"/>
                  <a:pt x="8183" y="7155"/>
                  <a:pt x="8161" y="7144"/>
                </a:cubicBezTo>
              </a:path>
              <a:path w="5929" h="1118">
                <a:moveTo>
                  <a:pt x="8210" y="6524"/>
                </a:moveTo>
                <a:cubicBezTo>
                  <a:pt x="8218" y="6516"/>
                  <a:pt x="8227" y="6507"/>
                  <a:pt x="8235" y="6499"/>
                </a:cubicBezTo>
              </a:path>
              <a:path w="5929" h="1118">
                <a:moveTo>
                  <a:pt x="8310" y="7119"/>
                </a:moveTo>
                <a:cubicBezTo>
                  <a:pt x="8310" y="7152"/>
                  <a:pt x="8310" y="7185"/>
                  <a:pt x="8310" y="7218"/>
                </a:cubicBezTo>
                <a:cubicBezTo>
                  <a:pt x="8310" y="7159"/>
                  <a:pt x="8325" y="7129"/>
                  <a:pt x="8334" y="7069"/>
                </a:cubicBezTo>
                <a:cubicBezTo>
                  <a:pt x="8343" y="7005"/>
                  <a:pt x="8349" y="6928"/>
                  <a:pt x="8384" y="6871"/>
                </a:cubicBezTo>
                <a:cubicBezTo>
                  <a:pt x="8419" y="6814"/>
                  <a:pt x="8460" y="6790"/>
                  <a:pt x="8508" y="6747"/>
                </a:cubicBezTo>
                <a:cubicBezTo>
                  <a:pt x="8547" y="6712"/>
                  <a:pt x="8568" y="6712"/>
                  <a:pt x="8607" y="6747"/>
                </a:cubicBezTo>
                <a:cubicBezTo>
                  <a:pt x="8652" y="6787"/>
                  <a:pt x="8672" y="6837"/>
                  <a:pt x="8682" y="6896"/>
                </a:cubicBezTo>
                <a:cubicBezTo>
                  <a:pt x="8694" y="6967"/>
                  <a:pt x="8643" y="7246"/>
                  <a:pt x="8706" y="7268"/>
                </a:cubicBezTo>
              </a:path>
              <a:path w="5929" h="1118">
                <a:moveTo>
                  <a:pt x="9103" y="6598"/>
                </a:moveTo>
                <a:lnTo>
                  <a:pt x="9103" y="6598"/>
                </a:lnTo>
              </a:path>
              <a:path w="5929" h="1118">
                <a:moveTo>
                  <a:pt x="9103" y="6598"/>
                </a:moveTo>
                <a:cubicBezTo>
                  <a:pt x="9078" y="6664"/>
                  <a:pt x="9054" y="6730"/>
                  <a:pt x="9029" y="6796"/>
                </a:cubicBezTo>
              </a:path>
              <a:path w="5929" h="1118">
                <a:moveTo>
                  <a:pt x="9029" y="6796"/>
                </a:moveTo>
                <a:cubicBezTo>
                  <a:pt x="8998" y="6876"/>
                  <a:pt x="8925" y="7000"/>
                  <a:pt x="8954" y="7094"/>
                </a:cubicBezTo>
                <a:cubicBezTo>
                  <a:pt x="8974" y="7159"/>
                  <a:pt x="8981" y="7195"/>
                  <a:pt x="9029" y="7243"/>
                </a:cubicBezTo>
                <a:cubicBezTo>
                  <a:pt x="9057" y="7271"/>
                  <a:pt x="9113" y="7245"/>
                  <a:pt x="9153" y="7218"/>
                </a:cubicBezTo>
                <a:cubicBezTo>
                  <a:pt x="9202" y="7185"/>
                  <a:pt x="9266" y="7050"/>
                  <a:pt x="9277" y="6995"/>
                </a:cubicBezTo>
                <a:cubicBezTo>
                  <a:pt x="9292" y="6919"/>
                  <a:pt x="9271" y="6841"/>
                  <a:pt x="9252" y="6772"/>
                </a:cubicBezTo>
                <a:cubicBezTo>
                  <a:pt x="9230" y="6694"/>
                  <a:pt x="9208" y="6571"/>
                  <a:pt x="9128" y="6524"/>
                </a:cubicBezTo>
                <a:cubicBezTo>
                  <a:pt x="9098" y="6507"/>
                  <a:pt x="9101" y="6499"/>
                  <a:pt x="9054" y="6499"/>
                </a:cubicBezTo>
              </a:path>
              <a:path w="5929" h="1118">
                <a:moveTo>
                  <a:pt x="8855" y="6896"/>
                </a:moveTo>
                <a:cubicBezTo>
                  <a:pt x="8952" y="6896"/>
                  <a:pt x="9037" y="6885"/>
                  <a:pt x="9128" y="6871"/>
                </a:cubicBezTo>
                <a:cubicBezTo>
                  <a:pt x="9208" y="6858"/>
                  <a:pt x="9281" y="6867"/>
                  <a:pt x="9351" y="6846"/>
                </a:cubicBezTo>
                <a:cubicBezTo>
                  <a:pt x="9376" y="6846"/>
                  <a:pt x="9384" y="6846"/>
                  <a:pt x="9401" y="6846"/>
                </a:cubicBezTo>
              </a:path>
              <a:path w="5929" h="1118">
                <a:moveTo>
                  <a:pt x="9723" y="6747"/>
                </a:moveTo>
                <a:cubicBezTo>
                  <a:pt x="9723" y="6788"/>
                  <a:pt x="9731" y="6804"/>
                  <a:pt x="9699" y="6796"/>
                </a:cubicBezTo>
                <a:cubicBezTo>
                  <a:pt x="9699" y="6753"/>
                  <a:pt x="9692" y="6747"/>
                  <a:pt x="9674" y="6722"/>
                </a:cubicBezTo>
                <a:cubicBezTo>
                  <a:pt x="9642" y="6679"/>
                  <a:pt x="9607" y="6693"/>
                  <a:pt x="9575" y="6722"/>
                </a:cubicBezTo>
                <a:cubicBezTo>
                  <a:pt x="9540" y="6754"/>
                  <a:pt x="9508" y="6825"/>
                  <a:pt x="9500" y="6871"/>
                </a:cubicBezTo>
                <a:cubicBezTo>
                  <a:pt x="9490" y="6930"/>
                  <a:pt x="9451" y="7033"/>
                  <a:pt x="9475" y="7094"/>
                </a:cubicBezTo>
                <a:cubicBezTo>
                  <a:pt x="9483" y="7114"/>
                  <a:pt x="9509" y="7208"/>
                  <a:pt x="9525" y="7218"/>
                </a:cubicBezTo>
                <a:cubicBezTo>
                  <a:pt x="9566" y="7245"/>
                  <a:pt x="9643" y="7211"/>
                  <a:pt x="9674" y="7193"/>
                </a:cubicBezTo>
                <a:cubicBezTo>
                  <a:pt x="9735" y="7158"/>
                  <a:pt x="9719" y="7161"/>
                  <a:pt x="9748" y="7094"/>
                </a:cubicBezTo>
              </a:path>
              <a:path w="5929" h="1118">
                <a:moveTo>
                  <a:pt x="9823" y="6846"/>
                </a:moveTo>
                <a:cubicBezTo>
                  <a:pt x="9803" y="6964"/>
                  <a:pt x="9791" y="7064"/>
                  <a:pt x="9823" y="7169"/>
                </a:cubicBezTo>
                <a:cubicBezTo>
                  <a:pt x="9838" y="7217"/>
                  <a:pt x="9845" y="7218"/>
                  <a:pt x="9897" y="7218"/>
                </a:cubicBezTo>
                <a:cubicBezTo>
                  <a:pt x="9934" y="7218"/>
                  <a:pt x="9999" y="7135"/>
                  <a:pt x="10021" y="7094"/>
                </a:cubicBezTo>
                <a:cubicBezTo>
                  <a:pt x="10048" y="7043"/>
                  <a:pt x="10046" y="6979"/>
                  <a:pt x="10046" y="6921"/>
                </a:cubicBezTo>
                <a:cubicBezTo>
                  <a:pt x="10046" y="6878"/>
                  <a:pt x="10012" y="6795"/>
                  <a:pt x="9971" y="6772"/>
                </a:cubicBezTo>
                <a:cubicBezTo>
                  <a:pt x="9941" y="6755"/>
                  <a:pt x="9911" y="6747"/>
                  <a:pt x="9872" y="6747"/>
                </a:cubicBezTo>
                <a:cubicBezTo>
                  <a:pt x="9860" y="6794"/>
                  <a:pt x="9826" y="6784"/>
                  <a:pt x="9823" y="6821"/>
                </a:cubicBezTo>
                <a:cubicBezTo>
                  <a:pt x="9823" y="6863"/>
                  <a:pt x="9823" y="6871"/>
                  <a:pt x="9823" y="6896"/>
                </a:cubicBezTo>
              </a:path>
              <a:path w="5929" h="1118">
                <a:moveTo>
                  <a:pt x="10344" y="6722"/>
                </a:moveTo>
                <a:cubicBezTo>
                  <a:pt x="10265" y="6730"/>
                  <a:pt x="10213" y="6753"/>
                  <a:pt x="10145" y="6796"/>
                </a:cubicBezTo>
                <a:cubicBezTo>
                  <a:pt x="10137" y="6804"/>
                  <a:pt x="10128" y="6813"/>
                  <a:pt x="10120" y="6821"/>
                </a:cubicBezTo>
                <a:cubicBezTo>
                  <a:pt x="10160" y="6915"/>
                  <a:pt x="10140" y="6868"/>
                  <a:pt x="10220" y="6921"/>
                </a:cubicBezTo>
                <a:cubicBezTo>
                  <a:pt x="10261" y="6948"/>
                  <a:pt x="10338" y="7020"/>
                  <a:pt x="10344" y="7069"/>
                </a:cubicBezTo>
                <a:cubicBezTo>
                  <a:pt x="10349" y="7113"/>
                  <a:pt x="10348" y="7137"/>
                  <a:pt x="10319" y="7169"/>
                </a:cubicBezTo>
                <a:cubicBezTo>
                  <a:pt x="10275" y="7217"/>
                  <a:pt x="10205" y="7193"/>
                  <a:pt x="10145" y="7193"/>
                </a:cubicBezTo>
                <a:cubicBezTo>
                  <a:pt x="10106" y="7193"/>
                  <a:pt x="10120" y="7177"/>
                  <a:pt x="10120" y="7144"/>
                </a:cubicBezTo>
              </a:path>
              <a:path w="5929" h="1118">
                <a:moveTo>
                  <a:pt x="10567" y="6623"/>
                </a:moveTo>
                <a:cubicBezTo>
                  <a:pt x="10549" y="6729"/>
                  <a:pt x="10521" y="6839"/>
                  <a:pt x="10517" y="6945"/>
                </a:cubicBezTo>
                <a:cubicBezTo>
                  <a:pt x="10513" y="7046"/>
                  <a:pt x="10495" y="7099"/>
                  <a:pt x="10517" y="7193"/>
                </a:cubicBezTo>
                <a:cubicBezTo>
                  <a:pt x="10527" y="7238"/>
                  <a:pt x="10511" y="7227"/>
                  <a:pt x="10542" y="7268"/>
                </a:cubicBezTo>
                <a:cubicBezTo>
                  <a:pt x="10573" y="7260"/>
                  <a:pt x="10621" y="7247"/>
                  <a:pt x="10641" y="7218"/>
                </a:cubicBezTo>
                <a:cubicBezTo>
                  <a:pt x="10685" y="7155"/>
                  <a:pt x="10699" y="7089"/>
                  <a:pt x="10716" y="7020"/>
                </a:cubicBezTo>
                <a:cubicBezTo>
                  <a:pt x="10737" y="6937"/>
                  <a:pt x="10751" y="6829"/>
                  <a:pt x="10716" y="6747"/>
                </a:cubicBezTo>
                <a:cubicBezTo>
                  <a:pt x="10701" y="6711"/>
                  <a:pt x="10638" y="6594"/>
                  <a:pt x="10592" y="6573"/>
                </a:cubicBezTo>
                <a:cubicBezTo>
                  <a:pt x="10564" y="6573"/>
                  <a:pt x="10553" y="6571"/>
                  <a:pt x="10542" y="6548"/>
                </a:cubicBezTo>
              </a:path>
              <a:path w="5929" h="1118">
                <a:moveTo>
                  <a:pt x="10319" y="6896"/>
                </a:moveTo>
                <a:cubicBezTo>
                  <a:pt x="10472" y="6896"/>
                  <a:pt x="10617" y="6899"/>
                  <a:pt x="10765" y="6871"/>
                </a:cubicBezTo>
                <a:cubicBezTo>
                  <a:pt x="10811" y="6862"/>
                  <a:pt x="10867" y="6871"/>
                  <a:pt x="10914" y="6871"/>
                </a:cubicBezTo>
              </a:path>
              <a:path w="5929" h="1118">
                <a:moveTo>
                  <a:pt x="11212" y="6747"/>
                </a:moveTo>
                <a:cubicBezTo>
                  <a:pt x="11303" y="6747"/>
                  <a:pt x="11394" y="6747"/>
                  <a:pt x="11485" y="6747"/>
                </a:cubicBezTo>
              </a:path>
              <a:path w="5929" h="1118">
                <a:moveTo>
                  <a:pt x="11212" y="6970"/>
                </a:moveTo>
                <a:cubicBezTo>
                  <a:pt x="11301" y="6970"/>
                  <a:pt x="11378" y="6987"/>
                  <a:pt x="11460" y="6995"/>
                </a:cubicBezTo>
                <a:cubicBezTo>
                  <a:pt x="11499" y="6999"/>
                  <a:pt x="11536" y="6988"/>
                  <a:pt x="11485" y="6970"/>
                </a:cubicBezTo>
              </a:path>
              <a:path w="5929" h="1118">
                <a:moveTo>
                  <a:pt x="11906" y="6474"/>
                </a:moveTo>
                <a:cubicBezTo>
                  <a:pt x="11944" y="6461"/>
                  <a:pt x="11931" y="6445"/>
                  <a:pt x="11931" y="6400"/>
                </a:cubicBezTo>
                <a:cubicBezTo>
                  <a:pt x="11931" y="6356"/>
                  <a:pt x="11968" y="6337"/>
                  <a:pt x="11981" y="6300"/>
                </a:cubicBezTo>
                <a:cubicBezTo>
                  <a:pt x="11991" y="6272"/>
                  <a:pt x="12015" y="6255"/>
                  <a:pt x="12055" y="6251"/>
                </a:cubicBezTo>
                <a:cubicBezTo>
                  <a:pt x="12170" y="6238"/>
                  <a:pt x="12122" y="6271"/>
                  <a:pt x="12154" y="6350"/>
                </a:cubicBezTo>
                <a:cubicBezTo>
                  <a:pt x="12175" y="6403"/>
                  <a:pt x="12179" y="6435"/>
                  <a:pt x="12179" y="6499"/>
                </a:cubicBezTo>
                <a:cubicBezTo>
                  <a:pt x="12179" y="6614"/>
                  <a:pt x="12196" y="6738"/>
                  <a:pt x="12154" y="6846"/>
                </a:cubicBezTo>
                <a:cubicBezTo>
                  <a:pt x="12121" y="6932"/>
                  <a:pt x="12105" y="6990"/>
                  <a:pt x="12055" y="7069"/>
                </a:cubicBezTo>
                <a:cubicBezTo>
                  <a:pt x="12011" y="7139"/>
                  <a:pt x="11991" y="7164"/>
                  <a:pt x="11931" y="7218"/>
                </a:cubicBezTo>
                <a:cubicBezTo>
                  <a:pt x="11914" y="7234"/>
                  <a:pt x="11854" y="7296"/>
                  <a:pt x="11832" y="7293"/>
                </a:cubicBezTo>
                <a:cubicBezTo>
                  <a:pt x="11766" y="7284"/>
                  <a:pt x="11759" y="7257"/>
                  <a:pt x="11733" y="7218"/>
                </a:cubicBezTo>
                <a:cubicBezTo>
                  <a:pt x="11694" y="7160"/>
                  <a:pt x="11714" y="7176"/>
                  <a:pt x="11733" y="7119"/>
                </a:cubicBezTo>
                <a:cubicBezTo>
                  <a:pt x="11757" y="7046"/>
                  <a:pt x="11773" y="7074"/>
                  <a:pt x="11832" y="7045"/>
                </a:cubicBezTo>
                <a:cubicBezTo>
                  <a:pt x="11895" y="7014"/>
                  <a:pt x="11935" y="7027"/>
                  <a:pt x="12005" y="7069"/>
                </a:cubicBezTo>
                <a:cubicBezTo>
                  <a:pt x="12031" y="7085"/>
                  <a:pt x="12052" y="7142"/>
                  <a:pt x="12055" y="7169"/>
                </a:cubicBezTo>
                <a:cubicBezTo>
                  <a:pt x="12060" y="7210"/>
                  <a:pt x="11993" y="7250"/>
                  <a:pt x="12030" y="7268"/>
                </a:cubicBezTo>
                <a:cubicBezTo>
                  <a:pt x="12038" y="7268"/>
                  <a:pt x="12047" y="7268"/>
                  <a:pt x="12055" y="7268"/>
                </a:cubicBezTo>
              </a:path>
              <a:path w="5929" h="1118">
                <a:moveTo>
                  <a:pt x="12278" y="7218"/>
                </a:moveTo>
                <a:lnTo>
                  <a:pt x="12278" y="721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81360" y="2295360"/>
            <a:ext cx="1374840" cy="714600"/>
          </a:xfrm>
          <a:custGeom>
            <a:avLst/>
            <a:gdLst/>
            <a:ahLst/>
            <a:rect l="l" t="t" r="r" b="b"/>
            <a:pathLst>
              <a:path w="3821" h="1985">
                <a:moveTo>
                  <a:pt x="12923" y="6474"/>
                </a:moveTo>
                <a:cubicBezTo>
                  <a:pt x="12923" y="6611"/>
                  <a:pt x="12915" y="6742"/>
                  <a:pt x="12898" y="6871"/>
                </a:cubicBezTo>
                <a:cubicBezTo>
                  <a:pt x="12888" y="6945"/>
                  <a:pt x="12897" y="7172"/>
                  <a:pt x="12898" y="7169"/>
                </a:cubicBezTo>
                <a:cubicBezTo>
                  <a:pt x="12906" y="7152"/>
                  <a:pt x="12915" y="7136"/>
                  <a:pt x="12923" y="7119"/>
                </a:cubicBezTo>
              </a:path>
              <a:path w="3821" h="1985">
                <a:moveTo>
                  <a:pt x="13072" y="6623"/>
                </a:moveTo>
                <a:cubicBezTo>
                  <a:pt x="13131" y="6564"/>
                  <a:pt x="13183" y="6483"/>
                  <a:pt x="13271" y="6474"/>
                </a:cubicBezTo>
                <a:cubicBezTo>
                  <a:pt x="13308" y="6470"/>
                  <a:pt x="13347" y="6466"/>
                  <a:pt x="13370" y="6499"/>
                </a:cubicBezTo>
                <a:cubicBezTo>
                  <a:pt x="13422" y="6573"/>
                  <a:pt x="13382" y="6624"/>
                  <a:pt x="13370" y="6697"/>
                </a:cubicBezTo>
                <a:cubicBezTo>
                  <a:pt x="13359" y="6764"/>
                  <a:pt x="13340" y="6838"/>
                  <a:pt x="13295" y="6896"/>
                </a:cubicBezTo>
                <a:cubicBezTo>
                  <a:pt x="13252" y="6951"/>
                  <a:pt x="13207" y="7018"/>
                  <a:pt x="13171" y="7069"/>
                </a:cubicBezTo>
                <a:cubicBezTo>
                  <a:pt x="13143" y="7108"/>
                  <a:pt x="13103" y="7120"/>
                  <a:pt x="13097" y="7169"/>
                </a:cubicBezTo>
                <a:cubicBezTo>
                  <a:pt x="13097" y="7193"/>
                  <a:pt x="13097" y="7202"/>
                  <a:pt x="13097" y="7218"/>
                </a:cubicBezTo>
                <a:cubicBezTo>
                  <a:pt x="13194" y="7218"/>
                  <a:pt x="13286" y="7218"/>
                  <a:pt x="13370" y="7193"/>
                </a:cubicBezTo>
                <a:cubicBezTo>
                  <a:pt x="13397" y="7185"/>
                  <a:pt x="13441" y="7193"/>
                  <a:pt x="13469" y="7193"/>
                </a:cubicBezTo>
              </a:path>
              <a:path w="3821" h="1985">
                <a:moveTo>
                  <a:pt x="12725" y="7392"/>
                </a:moveTo>
                <a:cubicBezTo>
                  <a:pt x="12777" y="7414"/>
                  <a:pt x="12839" y="7433"/>
                  <a:pt x="12898" y="7417"/>
                </a:cubicBezTo>
                <a:cubicBezTo>
                  <a:pt x="12969" y="7397"/>
                  <a:pt x="13020" y="7392"/>
                  <a:pt x="13097" y="7392"/>
                </a:cubicBezTo>
                <a:cubicBezTo>
                  <a:pt x="13180" y="7392"/>
                  <a:pt x="13262" y="7392"/>
                  <a:pt x="13345" y="7392"/>
                </a:cubicBezTo>
              </a:path>
              <a:path w="3821" h="1985">
                <a:moveTo>
                  <a:pt x="12898" y="7665"/>
                </a:moveTo>
                <a:cubicBezTo>
                  <a:pt x="12892" y="7768"/>
                  <a:pt x="12874" y="7860"/>
                  <a:pt x="12874" y="7962"/>
                </a:cubicBezTo>
                <a:cubicBezTo>
                  <a:pt x="12874" y="8034"/>
                  <a:pt x="12854" y="8071"/>
                  <a:pt x="12849" y="8136"/>
                </a:cubicBezTo>
                <a:cubicBezTo>
                  <a:pt x="12844" y="8190"/>
                  <a:pt x="12849" y="8192"/>
                  <a:pt x="12849" y="8136"/>
                </a:cubicBezTo>
                <a:cubicBezTo>
                  <a:pt x="12849" y="8128"/>
                  <a:pt x="12849" y="8119"/>
                  <a:pt x="12849" y="8111"/>
                </a:cubicBezTo>
              </a:path>
              <a:path w="3821" h="1985">
                <a:moveTo>
                  <a:pt x="12998" y="7714"/>
                </a:moveTo>
                <a:cubicBezTo>
                  <a:pt x="13079" y="7658"/>
                  <a:pt x="13109" y="7622"/>
                  <a:pt x="13196" y="7615"/>
                </a:cubicBezTo>
                <a:cubicBezTo>
                  <a:pt x="13247" y="7611"/>
                  <a:pt x="13251" y="7612"/>
                  <a:pt x="13271" y="7640"/>
                </a:cubicBezTo>
                <a:cubicBezTo>
                  <a:pt x="13294" y="7672"/>
                  <a:pt x="13275" y="7720"/>
                  <a:pt x="13246" y="7764"/>
                </a:cubicBezTo>
                <a:cubicBezTo>
                  <a:pt x="13209" y="7820"/>
                  <a:pt x="13049" y="7842"/>
                  <a:pt x="13097" y="7888"/>
                </a:cubicBezTo>
                <a:cubicBezTo>
                  <a:pt x="13123" y="7913"/>
                  <a:pt x="13173" y="7892"/>
                  <a:pt x="13196" y="7863"/>
                </a:cubicBezTo>
                <a:cubicBezTo>
                  <a:pt x="13234" y="7815"/>
                  <a:pt x="13245" y="7846"/>
                  <a:pt x="13295" y="7863"/>
                </a:cubicBezTo>
                <a:cubicBezTo>
                  <a:pt x="13335" y="7876"/>
                  <a:pt x="13341" y="7910"/>
                  <a:pt x="13345" y="7962"/>
                </a:cubicBezTo>
                <a:cubicBezTo>
                  <a:pt x="13349" y="8011"/>
                  <a:pt x="13330" y="8099"/>
                  <a:pt x="13295" y="8136"/>
                </a:cubicBezTo>
                <a:cubicBezTo>
                  <a:pt x="13272" y="8160"/>
                  <a:pt x="13153" y="8239"/>
                  <a:pt x="13122" y="8235"/>
                </a:cubicBezTo>
                <a:cubicBezTo>
                  <a:pt x="13075" y="8229"/>
                  <a:pt x="13013" y="8198"/>
                  <a:pt x="12973" y="8186"/>
                </a:cubicBezTo>
                <a:cubicBezTo>
                  <a:pt x="12940" y="8177"/>
                  <a:pt x="12933" y="8151"/>
                  <a:pt x="12923" y="8111"/>
                </a:cubicBezTo>
              </a:path>
              <a:path w="3821" h="1985">
                <a:moveTo>
                  <a:pt x="13767" y="7392"/>
                </a:moveTo>
                <a:cubicBezTo>
                  <a:pt x="13759" y="7392"/>
                  <a:pt x="13750" y="7392"/>
                  <a:pt x="13742" y="7392"/>
                </a:cubicBezTo>
              </a:path>
              <a:path w="3821" h="1985">
                <a:moveTo>
                  <a:pt x="14213" y="6524"/>
                </a:moveTo>
                <a:cubicBezTo>
                  <a:pt x="14296" y="6524"/>
                  <a:pt x="14378" y="6524"/>
                  <a:pt x="14461" y="6524"/>
                </a:cubicBezTo>
              </a:path>
              <a:path w="3821" h="1985">
                <a:moveTo>
                  <a:pt x="14163" y="6573"/>
                </a:moveTo>
                <a:cubicBezTo>
                  <a:pt x="14155" y="6616"/>
                  <a:pt x="14161" y="6757"/>
                  <a:pt x="14139" y="6796"/>
                </a:cubicBezTo>
                <a:cubicBezTo>
                  <a:pt x="14114" y="6821"/>
                  <a:pt x="14106" y="6829"/>
                  <a:pt x="14139" y="6846"/>
                </a:cubicBezTo>
                <a:cubicBezTo>
                  <a:pt x="14164" y="6812"/>
                  <a:pt x="14170" y="6786"/>
                  <a:pt x="14213" y="6772"/>
                </a:cubicBezTo>
                <a:cubicBezTo>
                  <a:pt x="14255" y="6759"/>
                  <a:pt x="14306" y="6772"/>
                  <a:pt x="14337" y="6796"/>
                </a:cubicBezTo>
                <a:cubicBezTo>
                  <a:pt x="14369" y="6821"/>
                  <a:pt x="14427" y="6904"/>
                  <a:pt x="14436" y="6945"/>
                </a:cubicBezTo>
                <a:cubicBezTo>
                  <a:pt x="14445" y="6984"/>
                  <a:pt x="14481" y="7078"/>
                  <a:pt x="14461" y="7119"/>
                </a:cubicBezTo>
                <a:cubicBezTo>
                  <a:pt x="14444" y="7153"/>
                  <a:pt x="14401" y="7210"/>
                  <a:pt x="14387" y="7218"/>
                </a:cubicBezTo>
                <a:cubicBezTo>
                  <a:pt x="14321" y="7253"/>
                  <a:pt x="14262" y="7243"/>
                  <a:pt x="14188" y="7243"/>
                </a:cubicBezTo>
                <a:cubicBezTo>
                  <a:pt x="14126" y="7243"/>
                  <a:pt x="14187" y="7219"/>
                  <a:pt x="14139" y="7243"/>
                </a:cubicBezTo>
                <a:cubicBezTo>
                  <a:pt x="14131" y="7243"/>
                  <a:pt x="14122" y="7243"/>
                  <a:pt x="14114" y="7243"/>
                </a:cubicBezTo>
              </a:path>
              <a:path w="3821" h="1985">
                <a:moveTo>
                  <a:pt x="13965" y="7367"/>
                </a:moveTo>
                <a:cubicBezTo>
                  <a:pt x="14164" y="7367"/>
                  <a:pt x="14724" y="7405"/>
                  <a:pt x="14536" y="7342"/>
                </a:cubicBezTo>
                <a:cubicBezTo>
                  <a:pt x="14519" y="7342"/>
                  <a:pt x="14503" y="7342"/>
                  <a:pt x="14486" y="7342"/>
                </a:cubicBezTo>
              </a:path>
              <a:path w="3821" h="1985">
                <a:moveTo>
                  <a:pt x="13990" y="7689"/>
                </a:moveTo>
                <a:cubicBezTo>
                  <a:pt x="13990" y="7863"/>
                  <a:pt x="14069" y="8325"/>
                  <a:pt x="13965" y="8186"/>
                </a:cubicBezTo>
                <a:cubicBezTo>
                  <a:pt x="13965" y="8178"/>
                  <a:pt x="13965" y="8169"/>
                  <a:pt x="13965" y="8161"/>
                </a:cubicBezTo>
              </a:path>
              <a:path w="3821" h="1985">
                <a:moveTo>
                  <a:pt x="14139" y="7764"/>
                </a:moveTo>
                <a:cubicBezTo>
                  <a:pt x="14199" y="7703"/>
                  <a:pt x="14229" y="7683"/>
                  <a:pt x="14312" y="7665"/>
                </a:cubicBezTo>
                <a:cubicBezTo>
                  <a:pt x="14350" y="7657"/>
                  <a:pt x="14397" y="7665"/>
                  <a:pt x="14436" y="7665"/>
                </a:cubicBezTo>
                <a:cubicBezTo>
                  <a:pt x="14436" y="7723"/>
                  <a:pt x="14438" y="7744"/>
                  <a:pt x="14412" y="7789"/>
                </a:cubicBezTo>
                <a:cubicBezTo>
                  <a:pt x="14374" y="7855"/>
                  <a:pt x="14391" y="7852"/>
                  <a:pt x="14337" y="7888"/>
                </a:cubicBezTo>
                <a:cubicBezTo>
                  <a:pt x="14306" y="7909"/>
                  <a:pt x="14296" y="7931"/>
                  <a:pt x="14288" y="7962"/>
                </a:cubicBezTo>
                <a:cubicBezTo>
                  <a:pt x="14326" y="7924"/>
                  <a:pt x="14334" y="7913"/>
                  <a:pt x="14387" y="7913"/>
                </a:cubicBezTo>
                <a:cubicBezTo>
                  <a:pt x="14429" y="7913"/>
                  <a:pt x="14457" y="7949"/>
                  <a:pt x="14461" y="7987"/>
                </a:cubicBezTo>
                <a:cubicBezTo>
                  <a:pt x="14467" y="8038"/>
                  <a:pt x="14453" y="8071"/>
                  <a:pt x="14436" y="8111"/>
                </a:cubicBezTo>
                <a:cubicBezTo>
                  <a:pt x="14405" y="8185"/>
                  <a:pt x="14370" y="8191"/>
                  <a:pt x="14312" y="8235"/>
                </a:cubicBezTo>
                <a:cubicBezTo>
                  <a:pt x="14270" y="8267"/>
                  <a:pt x="14244" y="8260"/>
                  <a:pt x="14188" y="8260"/>
                </a:cubicBezTo>
                <a:cubicBezTo>
                  <a:pt x="14163" y="8260"/>
                  <a:pt x="14155" y="8260"/>
                  <a:pt x="14139" y="8260"/>
                </a:cubicBezTo>
                <a:cubicBezTo>
                  <a:pt x="14139" y="8195"/>
                  <a:pt x="14143" y="8182"/>
                  <a:pt x="14188" y="8136"/>
                </a:cubicBezTo>
              </a:path>
              <a:path w="3821" h="1985">
                <a:moveTo>
                  <a:pt x="14784" y="7169"/>
                </a:moveTo>
                <a:cubicBezTo>
                  <a:pt x="14846" y="7169"/>
                  <a:pt x="14881" y="7159"/>
                  <a:pt x="14932" y="7144"/>
                </a:cubicBezTo>
                <a:cubicBezTo>
                  <a:pt x="14959" y="7136"/>
                  <a:pt x="15003" y="7144"/>
                  <a:pt x="15032" y="7144"/>
                </a:cubicBezTo>
              </a:path>
              <a:path w="3821" h="1985">
                <a:moveTo>
                  <a:pt x="14759" y="7392"/>
                </a:moveTo>
                <a:cubicBezTo>
                  <a:pt x="14850" y="7392"/>
                  <a:pt x="14941" y="7392"/>
                  <a:pt x="15032" y="7392"/>
                </a:cubicBezTo>
              </a:path>
              <a:path w="3821" h="1985">
                <a:moveTo>
                  <a:pt x="15453" y="6400"/>
                </a:moveTo>
                <a:cubicBezTo>
                  <a:pt x="15453" y="6496"/>
                  <a:pt x="15445" y="6589"/>
                  <a:pt x="15429" y="6672"/>
                </a:cubicBezTo>
                <a:cubicBezTo>
                  <a:pt x="15410" y="6768"/>
                  <a:pt x="15429" y="6888"/>
                  <a:pt x="15453" y="6970"/>
                </a:cubicBezTo>
                <a:cubicBezTo>
                  <a:pt x="15464" y="7010"/>
                  <a:pt x="15497" y="7106"/>
                  <a:pt x="15478" y="7069"/>
                </a:cubicBezTo>
                <a:cubicBezTo>
                  <a:pt x="15470" y="7061"/>
                  <a:pt x="15461" y="7053"/>
                  <a:pt x="15453" y="7045"/>
                </a:cubicBezTo>
              </a:path>
              <a:path w="3821" h="1985">
                <a:moveTo>
                  <a:pt x="15652" y="6524"/>
                </a:moveTo>
                <a:cubicBezTo>
                  <a:pt x="15691" y="6489"/>
                  <a:pt x="15752" y="6422"/>
                  <a:pt x="15801" y="6400"/>
                </a:cubicBezTo>
                <a:cubicBezTo>
                  <a:pt x="15835" y="6385"/>
                  <a:pt x="15859" y="6375"/>
                  <a:pt x="15900" y="6375"/>
                </a:cubicBezTo>
                <a:cubicBezTo>
                  <a:pt x="15935" y="6375"/>
                  <a:pt x="15971" y="6397"/>
                  <a:pt x="15974" y="6424"/>
                </a:cubicBezTo>
                <a:cubicBezTo>
                  <a:pt x="15982" y="6486"/>
                  <a:pt x="15974" y="6543"/>
                  <a:pt x="15949" y="6598"/>
                </a:cubicBezTo>
                <a:cubicBezTo>
                  <a:pt x="15924" y="6653"/>
                  <a:pt x="15906" y="6696"/>
                  <a:pt x="15875" y="6747"/>
                </a:cubicBezTo>
                <a:cubicBezTo>
                  <a:pt x="15845" y="6796"/>
                  <a:pt x="15827" y="6850"/>
                  <a:pt x="15801" y="6896"/>
                </a:cubicBezTo>
                <a:cubicBezTo>
                  <a:pt x="15781" y="6931"/>
                  <a:pt x="15755" y="6984"/>
                  <a:pt x="15751" y="7020"/>
                </a:cubicBezTo>
                <a:cubicBezTo>
                  <a:pt x="15751" y="7028"/>
                  <a:pt x="15751" y="7037"/>
                  <a:pt x="15751" y="7045"/>
                </a:cubicBezTo>
                <a:cubicBezTo>
                  <a:pt x="15789" y="7007"/>
                  <a:pt x="15797" y="6995"/>
                  <a:pt x="15850" y="6995"/>
                </a:cubicBezTo>
                <a:cubicBezTo>
                  <a:pt x="15889" y="6995"/>
                  <a:pt x="15904" y="7020"/>
                  <a:pt x="15949" y="7020"/>
                </a:cubicBezTo>
                <a:cubicBezTo>
                  <a:pt x="16010" y="7020"/>
                  <a:pt x="15990" y="7064"/>
                  <a:pt x="16049" y="7020"/>
                </a:cubicBezTo>
              </a:path>
              <a:path w="3821" h="1985">
                <a:moveTo>
                  <a:pt x="16297" y="6449"/>
                </a:moveTo>
                <a:cubicBezTo>
                  <a:pt x="16282" y="6494"/>
                  <a:pt x="16236" y="6576"/>
                  <a:pt x="16222" y="6648"/>
                </a:cubicBezTo>
                <a:cubicBezTo>
                  <a:pt x="16206" y="6731"/>
                  <a:pt x="16197" y="6807"/>
                  <a:pt x="16197" y="6896"/>
                </a:cubicBezTo>
                <a:cubicBezTo>
                  <a:pt x="16197" y="6934"/>
                  <a:pt x="16213" y="7024"/>
                  <a:pt x="16247" y="7045"/>
                </a:cubicBezTo>
                <a:cubicBezTo>
                  <a:pt x="16263" y="7055"/>
                  <a:pt x="16321" y="7083"/>
                  <a:pt x="16346" y="7069"/>
                </a:cubicBezTo>
                <a:cubicBezTo>
                  <a:pt x="16417" y="7031"/>
                  <a:pt x="16419" y="7039"/>
                  <a:pt x="16470" y="6970"/>
                </a:cubicBezTo>
                <a:cubicBezTo>
                  <a:pt x="16508" y="6918"/>
                  <a:pt x="16534" y="6860"/>
                  <a:pt x="16545" y="6796"/>
                </a:cubicBezTo>
                <a:cubicBezTo>
                  <a:pt x="16555" y="6735"/>
                  <a:pt x="16538" y="6653"/>
                  <a:pt x="16520" y="6598"/>
                </a:cubicBezTo>
                <a:cubicBezTo>
                  <a:pt x="16499" y="6534"/>
                  <a:pt x="16494" y="6497"/>
                  <a:pt x="16446" y="6449"/>
                </a:cubicBezTo>
                <a:cubicBezTo>
                  <a:pt x="16418" y="6420"/>
                  <a:pt x="16381" y="6387"/>
                  <a:pt x="16346" y="6375"/>
                </a:cubicBezTo>
                <a:cubicBezTo>
                  <a:pt x="16310" y="6363"/>
                  <a:pt x="16276" y="6387"/>
                  <a:pt x="16247" y="6400"/>
                </a:cubicBezTo>
              </a:path>
              <a:path w="3821" h="1985">
                <a:moveTo>
                  <a:pt x="15230" y="7243"/>
                </a:moveTo>
                <a:cubicBezTo>
                  <a:pt x="15399" y="7243"/>
                  <a:pt x="15562" y="7250"/>
                  <a:pt x="15726" y="7268"/>
                </a:cubicBezTo>
                <a:cubicBezTo>
                  <a:pt x="15906" y="7288"/>
                  <a:pt x="16097" y="7271"/>
                  <a:pt x="16272" y="7293"/>
                </a:cubicBezTo>
                <a:cubicBezTo>
                  <a:pt x="16282" y="7294"/>
                  <a:pt x="16490" y="7293"/>
                  <a:pt x="16421" y="7293"/>
                </a:cubicBezTo>
                <a:cubicBezTo>
                  <a:pt x="16413" y="7293"/>
                  <a:pt x="16404" y="7293"/>
                  <a:pt x="16396" y="7293"/>
                </a:cubicBezTo>
              </a:path>
              <a:path w="3821" h="1985">
                <a:moveTo>
                  <a:pt x="15453" y="7491"/>
                </a:moveTo>
                <a:cubicBezTo>
                  <a:pt x="15453" y="7668"/>
                  <a:pt x="15453" y="7840"/>
                  <a:pt x="15429" y="8012"/>
                </a:cubicBezTo>
                <a:cubicBezTo>
                  <a:pt x="15418" y="8093"/>
                  <a:pt x="15428" y="8164"/>
                  <a:pt x="15404" y="8235"/>
                </a:cubicBezTo>
                <a:cubicBezTo>
                  <a:pt x="15404" y="8263"/>
                  <a:pt x="15406" y="8274"/>
                  <a:pt x="15429" y="8285"/>
                </a:cubicBezTo>
                <a:cubicBezTo>
                  <a:pt x="15429" y="8238"/>
                  <a:pt x="15425" y="8223"/>
                  <a:pt x="15453" y="8186"/>
                </a:cubicBezTo>
              </a:path>
              <a:path w="3821" h="1985">
                <a:moveTo>
                  <a:pt x="15726" y="7565"/>
                </a:moveTo>
                <a:cubicBezTo>
                  <a:pt x="15726" y="7640"/>
                  <a:pt x="15713" y="7694"/>
                  <a:pt x="15701" y="7764"/>
                </a:cubicBezTo>
                <a:cubicBezTo>
                  <a:pt x="15690" y="7831"/>
                  <a:pt x="15663" y="7896"/>
                  <a:pt x="15652" y="7962"/>
                </a:cubicBezTo>
                <a:cubicBezTo>
                  <a:pt x="15640" y="8033"/>
                  <a:pt x="15661" y="8074"/>
                  <a:pt x="15677" y="8136"/>
                </a:cubicBezTo>
                <a:cubicBezTo>
                  <a:pt x="15684" y="8162"/>
                  <a:pt x="15697" y="8221"/>
                  <a:pt x="15726" y="8235"/>
                </a:cubicBezTo>
                <a:cubicBezTo>
                  <a:pt x="15766" y="8255"/>
                  <a:pt x="15848" y="8231"/>
                  <a:pt x="15875" y="8210"/>
                </a:cubicBezTo>
                <a:cubicBezTo>
                  <a:pt x="15948" y="8152"/>
                  <a:pt x="15992" y="8142"/>
                  <a:pt x="16024" y="8037"/>
                </a:cubicBezTo>
                <a:cubicBezTo>
                  <a:pt x="16040" y="7984"/>
                  <a:pt x="16029" y="7902"/>
                  <a:pt x="15999" y="7863"/>
                </a:cubicBezTo>
                <a:cubicBezTo>
                  <a:pt x="15961" y="7872"/>
                  <a:pt x="15924" y="7901"/>
                  <a:pt x="15900" y="7938"/>
                </a:cubicBezTo>
                <a:cubicBezTo>
                  <a:pt x="15875" y="7977"/>
                  <a:pt x="15873" y="8029"/>
                  <a:pt x="15850" y="8062"/>
                </a:cubicBezTo>
                <a:cubicBezTo>
                  <a:pt x="15825" y="8098"/>
                  <a:pt x="15825" y="8091"/>
                  <a:pt x="15825" y="8136"/>
                </a:cubicBezTo>
              </a:path>
              <a:path w="3821" h="1985">
                <a:moveTo>
                  <a:pt x="16321" y="7615"/>
                </a:moveTo>
                <a:cubicBezTo>
                  <a:pt x="16321" y="7590"/>
                  <a:pt x="16321" y="7566"/>
                  <a:pt x="16321" y="7541"/>
                </a:cubicBezTo>
                <a:cubicBezTo>
                  <a:pt x="16283" y="7541"/>
                  <a:pt x="16247" y="7530"/>
                  <a:pt x="16222" y="7565"/>
                </a:cubicBezTo>
                <a:cubicBezTo>
                  <a:pt x="16193" y="7607"/>
                  <a:pt x="16151" y="7663"/>
                  <a:pt x="16148" y="7714"/>
                </a:cubicBezTo>
                <a:cubicBezTo>
                  <a:pt x="16145" y="7757"/>
                  <a:pt x="16132" y="7837"/>
                  <a:pt x="16173" y="7863"/>
                </a:cubicBezTo>
                <a:cubicBezTo>
                  <a:pt x="16203" y="7882"/>
                  <a:pt x="16253" y="7855"/>
                  <a:pt x="16272" y="7838"/>
                </a:cubicBezTo>
                <a:cubicBezTo>
                  <a:pt x="16315" y="7800"/>
                  <a:pt x="16316" y="7789"/>
                  <a:pt x="16346" y="7739"/>
                </a:cubicBezTo>
                <a:cubicBezTo>
                  <a:pt x="16371" y="7698"/>
                  <a:pt x="16371" y="7690"/>
                  <a:pt x="16371" y="7640"/>
                </a:cubicBezTo>
                <a:cubicBezTo>
                  <a:pt x="16378" y="7647"/>
                  <a:pt x="16385" y="7741"/>
                  <a:pt x="16371" y="7789"/>
                </a:cubicBezTo>
                <a:cubicBezTo>
                  <a:pt x="16351" y="7860"/>
                  <a:pt x="16346" y="7910"/>
                  <a:pt x="16346" y="7987"/>
                </a:cubicBezTo>
                <a:cubicBezTo>
                  <a:pt x="16346" y="8061"/>
                  <a:pt x="16327" y="8115"/>
                  <a:pt x="16321" y="8186"/>
                </a:cubicBezTo>
                <a:cubicBezTo>
                  <a:pt x="16316" y="8252"/>
                  <a:pt x="16382" y="8414"/>
                  <a:pt x="16346" y="8359"/>
                </a:cubicBezTo>
                <a:cubicBezTo>
                  <a:pt x="16338" y="8351"/>
                  <a:pt x="16329" y="8342"/>
                  <a:pt x="16321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95360" y="310680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6400" y="8632"/>
                </a:moveTo>
                <a:cubicBezTo>
                  <a:pt x="6474" y="8632"/>
                  <a:pt x="6549" y="8632"/>
                  <a:pt x="6623" y="8632"/>
                </a:cubicBezTo>
              </a:path>
              <a:path w="274" h="224">
                <a:moveTo>
                  <a:pt x="6375" y="8830"/>
                </a:moveTo>
                <a:cubicBezTo>
                  <a:pt x="6413" y="8859"/>
                  <a:pt x="6426" y="8855"/>
                  <a:pt x="6474" y="8855"/>
                </a:cubicBezTo>
                <a:cubicBezTo>
                  <a:pt x="6538" y="8855"/>
                  <a:pt x="6598" y="8867"/>
                  <a:pt x="6648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36920" y="2840040"/>
            <a:ext cx="615960" cy="330120"/>
          </a:xfrm>
          <a:custGeom>
            <a:avLst/>
            <a:gdLst/>
            <a:ahLst/>
            <a:rect l="l" t="t" r="r" b="b"/>
            <a:pathLst>
              <a:path w="1712" h="919">
                <a:moveTo>
                  <a:pt x="7268" y="8285"/>
                </a:moveTo>
                <a:cubicBezTo>
                  <a:pt x="7255" y="8247"/>
                  <a:pt x="7243" y="8264"/>
                  <a:pt x="7243" y="8210"/>
                </a:cubicBezTo>
                <a:cubicBezTo>
                  <a:pt x="7243" y="8180"/>
                  <a:pt x="7217" y="8169"/>
                  <a:pt x="7193" y="8161"/>
                </a:cubicBezTo>
                <a:cubicBezTo>
                  <a:pt x="7178" y="8166"/>
                  <a:pt x="7132" y="8185"/>
                  <a:pt x="7119" y="8210"/>
                </a:cubicBezTo>
                <a:cubicBezTo>
                  <a:pt x="7092" y="8264"/>
                  <a:pt x="7090" y="8327"/>
                  <a:pt x="7069" y="8384"/>
                </a:cubicBezTo>
                <a:cubicBezTo>
                  <a:pt x="7048" y="8442"/>
                  <a:pt x="7045" y="8488"/>
                  <a:pt x="7045" y="8558"/>
                </a:cubicBezTo>
                <a:cubicBezTo>
                  <a:pt x="7045" y="8633"/>
                  <a:pt x="7048" y="8670"/>
                  <a:pt x="7094" y="8731"/>
                </a:cubicBezTo>
                <a:cubicBezTo>
                  <a:pt x="7115" y="8758"/>
                  <a:pt x="7183" y="8793"/>
                  <a:pt x="7218" y="8781"/>
                </a:cubicBezTo>
                <a:cubicBezTo>
                  <a:pt x="7241" y="8758"/>
                  <a:pt x="7245" y="8750"/>
                  <a:pt x="7268" y="8756"/>
                </a:cubicBezTo>
              </a:path>
              <a:path w="1712" h="919">
                <a:moveTo>
                  <a:pt x="7466" y="8285"/>
                </a:moveTo>
                <a:cubicBezTo>
                  <a:pt x="7453" y="8338"/>
                  <a:pt x="7441" y="8370"/>
                  <a:pt x="7441" y="8434"/>
                </a:cubicBezTo>
                <a:cubicBezTo>
                  <a:pt x="7441" y="8500"/>
                  <a:pt x="7398" y="8563"/>
                  <a:pt x="7417" y="8632"/>
                </a:cubicBezTo>
                <a:cubicBezTo>
                  <a:pt x="7430" y="8679"/>
                  <a:pt x="7446" y="8738"/>
                  <a:pt x="7466" y="8756"/>
                </a:cubicBezTo>
                <a:cubicBezTo>
                  <a:pt x="7505" y="8790"/>
                  <a:pt x="7526" y="8791"/>
                  <a:pt x="7565" y="8756"/>
                </a:cubicBezTo>
                <a:cubicBezTo>
                  <a:pt x="7607" y="8718"/>
                  <a:pt x="7652" y="8664"/>
                  <a:pt x="7665" y="8607"/>
                </a:cubicBezTo>
                <a:cubicBezTo>
                  <a:pt x="7678" y="8550"/>
                  <a:pt x="7689" y="8495"/>
                  <a:pt x="7689" y="8434"/>
                </a:cubicBezTo>
                <a:cubicBezTo>
                  <a:pt x="7689" y="8382"/>
                  <a:pt x="7666" y="8303"/>
                  <a:pt x="7640" y="8260"/>
                </a:cubicBezTo>
                <a:cubicBezTo>
                  <a:pt x="7608" y="8207"/>
                  <a:pt x="7571" y="8210"/>
                  <a:pt x="7516" y="8210"/>
                </a:cubicBezTo>
                <a:cubicBezTo>
                  <a:pt x="7473" y="8210"/>
                  <a:pt x="7475" y="8226"/>
                  <a:pt x="7466" y="8260"/>
                </a:cubicBezTo>
              </a:path>
              <a:path w="1712" h="919">
                <a:moveTo>
                  <a:pt x="7962" y="8210"/>
                </a:moveTo>
                <a:cubicBezTo>
                  <a:pt x="7924" y="8227"/>
                  <a:pt x="7868" y="8240"/>
                  <a:pt x="7838" y="8260"/>
                </a:cubicBezTo>
                <a:cubicBezTo>
                  <a:pt x="7785" y="8296"/>
                  <a:pt x="7774" y="8335"/>
                  <a:pt x="7813" y="8384"/>
                </a:cubicBezTo>
                <a:cubicBezTo>
                  <a:pt x="7840" y="8418"/>
                  <a:pt x="7847" y="8457"/>
                  <a:pt x="7888" y="8483"/>
                </a:cubicBezTo>
                <a:cubicBezTo>
                  <a:pt x="7960" y="8529"/>
                  <a:pt x="7947" y="8541"/>
                  <a:pt x="7987" y="8607"/>
                </a:cubicBezTo>
                <a:cubicBezTo>
                  <a:pt x="8014" y="8652"/>
                  <a:pt x="8027" y="8662"/>
                  <a:pt x="7987" y="8706"/>
                </a:cubicBezTo>
                <a:cubicBezTo>
                  <a:pt x="7961" y="8735"/>
                  <a:pt x="7923" y="8769"/>
                  <a:pt x="7888" y="8781"/>
                </a:cubicBezTo>
                <a:cubicBezTo>
                  <a:pt x="7851" y="8793"/>
                  <a:pt x="7832" y="8806"/>
                  <a:pt x="7789" y="8806"/>
                </a:cubicBezTo>
                <a:cubicBezTo>
                  <a:pt x="7789" y="8763"/>
                  <a:pt x="7788" y="8766"/>
                  <a:pt x="7813" y="8731"/>
                </a:cubicBezTo>
              </a:path>
              <a:path w="1712" h="919">
                <a:moveTo>
                  <a:pt x="8086" y="7938"/>
                </a:moveTo>
                <a:cubicBezTo>
                  <a:pt x="8162" y="7894"/>
                  <a:pt x="8145" y="7891"/>
                  <a:pt x="8210" y="7913"/>
                </a:cubicBezTo>
                <a:cubicBezTo>
                  <a:pt x="8248" y="7926"/>
                  <a:pt x="8273" y="7936"/>
                  <a:pt x="8260" y="7987"/>
                </a:cubicBezTo>
                <a:cubicBezTo>
                  <a:pt x="8238" y="8072"/>
                  <a:pt x="8216" y="8056"/>
                  <a:pt x="8161" y="8111"/>
                </a:cubicBezTo>
                <a:cubicBezTo>
                  <a:pt x="8153" y="8119"/>
                  <a:pt x="8144" y="8128"/>
                  <a:pt x="8136" y="8136"/>
                </a:cubicBezTo>
                <a:cubicBezTo>
                  <a:pt x="8145" y="8163"/>
                  <a:pt x="8170" y="8183"/>
                  <a:pt x="8210" y="8186"/>
                </a:cubicBezTo>
                <a:cubicBezTo>
                  <a:pt x="8273" y="8191"/>
                  <a:pt x="8283" y="8167"/>
                  <a:pt x="8334" y="8161"/>
                </a:cubicBezTo>
                <a:cubicBezTo>
                  <a:pt x="8359" y="8161"/>
                  <a:pt x="8367" y="8161"/>
                  <a:pt x="8384" y="8161"/>
                </a:cubicBezTo>
              </a:path>
              <a:path w="1712" h="919">
                <a:moveTo>
                  <a:pt x="8558" y="8558"/>
                </a:moveTo>
                <a:cubicBezTo>
                  <a:pt x="8624" y="8558"/>
                  <a:pt x="8690" y="8558"/>
                  <a:pt x="8756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21000" y="2813040"/>
            <a:ext cx="679680" cy="357120"/>
          </a:xfrm>
          <a:custGeom>
            <a:avLst/>
            <a:gdLst/>
            <a:ahLst/>
            <a:rect l="l" t="t" r="r" b="b"/>
            <a:pathLst>
              <a:path w="1886" h="994">
                <a:moveTo>
                  <a:pt x="9475" y="8310"/>
                </a:moveTo>
                <a:cubicBezTo>
                  <a:pt x="9466" y="8281"/>
                  <a:pt x="9442" y="8265"/>
                  <a:pt x="9401" y="8260"/>
                </a:cubicBezTo>
                <a:cubicBezTo>
                  <a:pt x="9389" y="8259"/>
                  <a:pt x="9315" y="8277"/>
                  <a:pt x="9302" y="8285"/>
                </a:cubicBezTo>
                <a:cubicBezTo>
                  <a:pt x="9272" y="8302"/>
                  <a:pt x="9255" y="8314"/>
                  <a:pt x="9227" y="8334"/>
                </a:cubicBezTo>
                <a:cubicBezTo>
                  <a:pt x="9241" y="8388"/>
                  <a:pt x="9268" y="8382"/>
                  <a:pt x="9302" y="8409"/>
                </a:cubicBezTo>
                <a:cubicBezTo>
                  <a:pt x="9363" y="8456"/>
                  <a:pt x="9421" y="8515"/>
                  <a:pt x="9475" y="8558"/>
                </a:cubicBezTo>
                <a:cubicBezTo>
                  <a:pt x="9504" y="8581"/>
                  <a:pt x="9574" y="8623"/>
                  <a:pt x="9550" y="8682"/>
                </a:cubicBezTo>
                <a:cubicBezTo>
                  <a:pt x="9535" y="8719"/>
                  <a:pt x="9491" y="8765"/>
                  <a:pt x="9451" y="8781"/>
                </a:cubicBezTo>
                <a:cubicBezTo>
                  <a:pt x="9394" y="8804"/>
                  <a:pt x="9320" y="8769"/>
                  <a:pt x="9277" y="8756"/>
                </a:cubicBezTo>
                <a:cubicBezTo>
                  <a:pt x="9240" y="8745"/>
                  <a:pt x="9267" y="8747"/>
                  <a:pt x="9277" y="8706"/>
                </a:cubicBezTo>
              </a:path>
              <a:path w="1886" h="994">
                <a:moveTo>
                  <a:pt x="9823" y="8384"/>
                </a:moveTo>
                <a:cubicBezTo>
                  <a:pt x="9823" y="8533"/>
                  <a:pt x="9823" y="8930"/>
                  <a:pt x="9823" y="8781"/>
                </a:cubicBezTo>
                <a:cubicBezTo>
                  <a:pt x="9823" y="8764"/>
                  <a:pt x="9823" y="8748"/>
                  <a:pt x="9823" y="8731"/>
                </a:cubicBezTo>
              </a:path>
              <a:path w="1886" h="994">
                <a:moveTo>
                  <a:pt x="9872" y="8086"/>
                </a:moveTo>
                <a:cubicBezTo>
                  <a:pt x="9880" y="8078"/>
                  <a:pt x="9889" y="8070"/>
                  <a:pt x="9897" y="8062"/>
                </a:cubicBezTo>
              </a:path>
              <a:path w="1886" h="994">
                <a:moveTo>
                  <a:pt x="10096" y="8533"/>
                </a:moveTo>
                <a:cubicBezTo>
                  <a:pt x="10096" y="8569"/>
                  <a:pt x="10065" y="8723"/>
                  <a:pt x="10071" y="8756"/>
                </a:cubicBezTo>
                <a:cubicBezTo>
                  <a:pt x="10079" y="8764"/>
                  <a:pt x="10088" y="8773"/>
                  <a:pt x="10096" y="8781"/>
                </a:cubicBezTo>
                <a:cubicBezTo>
                  <a:pt x="10096" y="8708"/>
                  <a:pt x="10109" y="8651"/>
                  <a:pt x="10120" y="8582"/>
                </a:cubicBezTo>
                <a:cubicBezTo>
                  <a:pt x="10131" y="8514"/>
                  <a:pt x="10126" y="8472"/>
                  <a:pt x="10170" y="8409"/>
                </a:cubicBezTo>
                <a:cubicBezTo>
                  <a:pt x="10212" y="8349"/>
                  <a:pt x="10237" y="8327"/>
                  <a:pt x="10294" y="8285"/>
                </a:cubicBezTo>
                <a:cubicBezTo>
                  <a:pt x="10316" y="8268"/>
                  <a:pt x="10360" y="8241"/>
                  <a:pt x="10393" y="8260"/>
                </a:cubicBezTo>
                <a:cubicBezTo>
                  <a:pt x="10448" y="8290"/>
                  <a:pt x="10465" y="8380"/>
                  <a:pt x="10468" y="8434"/>
                </a:cubicBezTo>
                <a:cubicBezTo>
                  <a:pt x="10473" y="8516"/>
                  <a:pt x="10468" y="8600"/>
                  <a:pt x="10468" y="8682"/>
                </a:cubicBezTo>
                <a:cubicBezTo>
                  <a:pt x="10468" y="8631"/>
                  <a:pt x="10485" y="8609"/>
                  <a:pt x="10492" y="8558"/>
                </a:cubicBezTo>
              </a:path>
              <a:path w="1886" h="994">
                <a:moveTo>
                  <a:pt x="10691" y="7863"/>
                </a:moveTo>
                <a:cubicBezTo>
                  <a:pt x="10780" y="7811"/>
                  <a:pt x="10748" y="7822"/>
                  <a:pt x="10840" y="7838"/>
                </a:cubicBezTo>
                <a:cubicBezTo>
                  <a:pt x="10914" y="7851"/>
                  <a:pt x="10932" y="7858"/>
                  <a:pt x="10939" y="7938"/>
                </a:cubicBezTo>
                <a:cubicBezTo>
                  <a:pt x="10941" y="7966"/>
                  <a:pt x="10910" y="8094"/>
                  <a:pt x="10889" y="8111"/>
                </a:cubicBezTo>
                <a:cubicBezTo>
                  <a:pt x="10858" y="8136"/>
                  <a:pt x="10821" y="8130"/>
                  <a:pt x="10815" y="8186"/>
                </a:cubicBezTo>
                <a:cubicBezTo>
                  <a:pt x="10812" y="8215"/>
                  <a:pt x="10859" y="8232"/>
                  <a:pt x="10889" y="8235"/>
                </a:cubicBezTo>
                <a:cubicBezTo>
                  <a:pt x="10934" y="8240"/>
                  <a:pt x="10959" y="8260"/>
                  <a:pt x="11013" y="8260"/>
                </a:cubicBezTo>
                <a:cubicBezTo>
                  <a:pt x="11054" y="8260"/>
                  <a:pt x="11129" y="8260"/>
                  <a:pt x="1108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32640" y="3500280"/>
            <a:ext cx="241200" cy="330480"/>
          </a:xfrm>
          <a:custGeom>
            <a:avLst/>
            <a:gdLst/>
            <a:ahLst/>
            <a:rect l="l" t="t" r="r" b="b"/>
            <a:pathLst>
              <a:path w="670" h="919">
                <a:moveTo>
                  <a:pt x="15925" y="9773"/>
                </a:moveTo>
                <a:cubicBezTo>
                  <a:pt x="15925" y="9833"/>
                  <a:pt x="15939" y="9873"/>
                  <a:pt x="15949" y="9922"/>
                </a:cubicBezTo>
                <a:cubicBezTo>
                  <a:pt x="15967" y="10008"/>
                  <a:pt x="15960" y="10111"/>
                  <a:pt x="15974" y="10195"/>
                </a:cubicBezTo>
                <a:cubicBezTo>
                  <a:pt x="15992" y="10302"/>
                  <a:pt x="15967" y="10425"/>
                  <a:pt x="15949" y="10517"/>
                </a:cubicBezTo>
                <a:cubicBezTo>
                  <a:pt x="15947" y="10526"/>
                  <a:pt x="15949" y="10683"/>
                  <a:pt x="15949" y="10616"/>
                </a:cubicBezTo>
                <a:cubicBezTo>
                  <a:pt x="15949" y="10608"/>
                  <a:pt x="15949" y="10600"/>
                  <a:pt x="15949" y="10592"/>
                </a:cubicBezTo>
              </a:path>
              <a:path w="670" h="919">
                <a:moveTo>
                  <a:pt x="16123" y="9947"/>
                </a:moveTo>
                <a:cubicBezTo>
                  <a:pt x="16165" y="9857"/>
                  <a:pt x="16157" y="9835"/>
                  <a:pt x="16222" y="9798"/>
                </a:cubicBezTo>
                <a:cubicBezTo>
                  <a:pt x="16268" y="9772"/>
                  <a:pt x="16333" y="9769"/>
                  <a:pt x="16371" y="9748"/>
                </a:cubicBezTo>
                <a:cubicBezTo>
                  <a:pt x="16413" y="9724"/>
                  <a:pt x="16426" y="9718"/>
                  <a:pt x="16470" y="9748"/>
                </a:cubicBezTo>
                <a:cubicBezTo>
                  <a:pt x="16496" y="9766"/>
                  <a:pt x="16541" y="9810"/>
                  <a:pt x="16520" y="9847"/>
                </a:cubicBezTo>
                <a:cubicBezTo>
                  <a:pt x="16496" y="9890"/>
                  <a:pt x="16493" y="9928"/>
                  <a:pt x="16470" y="9971"/>
                </a:cubicBezTo>
                <a:cubicBezTo>
                  <a:pt x="16438" y="10032"/>
                  <a:pt x="16431" y="10088"/>
                  <a:pt x="16396" y="10145"/>
                </a:cubicBezTo>
                <a:cubicBezTo>
                  <a:pt x="16363" y="10199"/>
                  <a:pt x="16345" y="10245"/>
                  <a:pt x="16321" y="10294"/>
                </a:cubicBezTo>
                <a:cubicBezTo>
                  <a:pt x="16299" y="10339"/>
                  <a:pt x="16253" y="10402"/>
                  <a:pt x="16222" y="10443"/>
                </a:cubicBezTo>
                <a:cubicBezTo>
                  <a:pt x="16210" y="10460"/>
                  <a:pt x="16182" y="10536"/>
                  <a:pt x="16173" y="10542"/>
                </a:cubicBezTo>
                <a:cubicBezTo>
                  <a:pt x="16138" y="10565"/>
                  <a:pt x="16173" y="10520"/>
                  <a:pt x="16197" y="10517"/>
                </a:cubicBezTo>
                <a:cubicBezTo>
                  <a:pt x="16238" y="10512"/>
                  <a:pt x="16251" y="10492"/>
                  <a:pt x="16297" y="10492"/>
                </a:cubicBezTo>
                <a:cubicBezTo>
                  <a:pt x="16404" y="10492"/>
                  <a:pt x="16548" y="10614"/>
                  <a:pt x="16594" y="10517"/>
                </a:cubicBezTo>
                <a:cubicBezTo>
                  <a:pt x="16594" y="10509"/>
                  <a:pt x="16594" y="10500"/>
                  <a:pt x="16594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51080" y="3517920"/>
            <a:ext cx="1749600" cy="741240"/>
          </a:xfrm>
          <a:custGeom>
            <a:avLst/>
            <a:gdLst/>
            <a:ahLst/>
            <a:rect l="l" t="t" r="r" b="b"/>
            <a:pathLst>
              <a:path w="4862" h="2060">
                <a:moveTo>
                  <a:pt x="6300" y="10542"/>
                </a:moveTo>
                <a:cubicBezTo>
                  <a:pt x="6308" y="10550"/>
                  <a:pt x="6317" y="10559"/>
                  <a:pt x="6325" y="10567"/>
                </a:cubicBezTo>
                <a:cubicBezTo>
                  <a:pt x="6363" y="10539"/>
                  <a:pt x="6376" y="10542"/>
                  <a:pt x="6424" y="10542"/>
                </a:cubicBezTo>
                <a:cubicBezTo>
                  <a:pt x="6465" y="10542"/>
                  <a:pt x="6507" y="10542"/>
                  <a:pt x="6548" y="10542"/>
                </a:cubicBezTo>
              </a:path>
              <a:path w="4862" h="2060">
                <a:moveTo>
                  <a:pt x="6251" y="10716"/>
                </a:moveTo>
                <a:cubicBezTo>
                  <a:pt x="6251" y="10724"/>
                  <a:pt x="6251" y="10732"/>
                  <a:pt x="6251" y="10740"/>
                </a:cubicBezTo>
                <a:cubicBezTo>
                  <a:pt x="6309" y="10740"/>
                  <a:pt x="6366" y="10740"/>
                  <a:pt x="6424" y="10740"/>
                </a:cubicBezTo>
                <a:cubicBezTo>
                  <a:pt x="6436" y="10707"/>
                  <a:pt x="6489" y="10716"/>
                  <a:pt x="6449" y="10716"/>
                </a:cubicBezTo>
              </a:path>
              <a:path w="4862" h="2060">
                <a:moveTo>
                  <a:pt x="7392" y="10120"/>
                </a:moveTo>
                <a:cubicBezTo>
                  <a:pt x="7461" y="10150"/>
                  <a:pt x="7513" y="10145"/>
                  <a:pt x="7590" y="10145"/>
                </a:cubicBezTo>
                <a:cubicBezTo>
                  <a:pt x="7622" y="10145"/>
                  <a:pt x="7635" y="10128"/>
                  <a:pt x="7665" y="10120"/>
                </a:cubicBezTo>
              </a:path>
              <a:path w="4862" h="2060">
                <a:moveTo>
                  <a:pt x="7317" y="10145"/>
                </a:moveTo>
                <a:cubicBezTo>
                  <a:pt x="7310" y="10196"/>
                  <a:pt x="7293" y="10218"/>
                  <a:pt x="7293" y="10269"/>
                </a:cubicBezTo>
                <a:cubicBezTo>
                  <a:pt x="7293" y="10323"/>
                  <a:pt x="7305" y="10344"/>
                  <a:pt x="7317" y="10368"/>
                </a:cubicBezTo>
                <a:cubicBezTo>
                  <a:pt x="7325" y="10385"/>
                  <a:pt x="7323" y="10382"/>
                  <a:pt x="7367" y="10344"/>
                </a:cubicBezTo>
                <a:cubicBezTo>
                  <a:pt x="7388" y="10326"/>
                  <a:pt x="7434" y="10301"/>
                  <a:pt x="7466" y="10319"/>
                </a:cubicBezTo>
                <a:cubicBezTo>
                  <a:pt x="7506" y="10341"/>
                  <a:pt x="7556" y="10387"/>
                  <a:pt x="7590" y="10418"/>
                </a:cubicBezTo>
                <a:cubicBezTo>
                  <a:pt x="7640" y="10463"/>
                  <a:pt x="7640" y="10505"/>
                  <a:pt x="7640" y="10567"/>
                </a:cubicBezTo>
                <a:cubicBezTo>
                  <a:pt x="7640" y="10658"/>
                  <a:pt x="7617" y="10637"/>
                  <a:pt x="7565" y="10666"/>
                </a:cubicBezTo>
                <a:cubicBezTo>
                  <a:pt x="7514" y="10694"/>
                  <a:pt x="7479" y="10691"/>
                  <a:pt x="7417" y="10691"/>
                </a:cubicBezTo>
                <a:cubicBezTo>
                  <a:pt x="7401" y="10691"/>
                  <a:pt x="7278" y="10691"/>
                  <a:pt x="7342" y="10691"/>
                </a:cubicBezTo>
              </a:path>
              <a:path w="4862" h="2060">
                <a:moveTo>
                  <a:pt x="7144" y="10815"/>
                </a:moveTo>
                <a:cubicBezTo>
                  <a:pt x="7255" y="10834"/>
                  <a:pt x="7357" y="10825"/>
                  <a:pt x="7466" y="10840"/>
                </a:cubicBezTo>
                <a:cubicBezTo>
                  <a:pt x="7570" y="10854"/>
                  <a:pt x="7660" y="10864"/>
                  <a:pt x="7764" y="10864"/>
                </a:cubicBezTo>
                <a:cubicBezTo>
                  <a:pt x="7775" y="10864"/>
                  <a:pt x="7880" y="10864"/>
                  <a:pt x="7813" y="10864"/>
                </a:cubicBezTo>
              </a:path>
              <a:path w="4862" h="2060">
                <a:moveTo>
                  <a:pt x="7342" y="11063"/>
                </a:moveTo>
                <a:cubicBezTo>
                  <a:pt x="7342" y="11260"/>
                  <a:pt x="7361" y="11471"/>
                  <a:pt x="7317" y="11658"/>
                </a:cubicBezTo>
                <a:cubicBezTo>
                  <a:pt x="7312" y="11681"/>
                  <a:pt x="7298" y="11779"/>
                  <a:pt x="7317" y="11733"/>
                </a:cubicBezTo>
                <a:cubicBezTo>
                  <a:pt x="7325" y="11716"/>
                  <a:pt x="7334" y="11700"/>
                  <a:pt x="7342" y="11683"/>
                </a:cubicBezTo>
              </a:path>
              <a:path w="4862" h="2060">
                <a:moveTo>
                  <a:pt x="7565" y="11261"/>
                </a:moveTo>
                <a:cubicBezTo>
                  <a:pt x="7620" y="11214"/>
                  <a:pt x="7642" y="11187"/>
                  <a:pt x="7714" y="11187"/>
                </a:cubicBezTo>
                <a:cubicBezTo>
                  <a:pt x="7749" y="11187"/>
                  <a:pt x="7819" y="11214"/>
                  <a:pt x="7813" y="11261"/>
                </a:cubicBezTo>
                <a:cubicBezTo>
                  <a:pt x="7808" y="11299"/>
                  <a:pt x="7774" y="11391"/>
                  <a:pt x="7739" y="11410"/>
                </a:cubicBezTo>
                <a:cubicBezTo>
                  <a:pt x="7711" y="11410"/>
                  <a:pt x="7700" y="11412"/>
                  <a:pt x="7689" y="11435"/>
                </a:cubicBezTo>
                <a:cubicBezTo>
                  <a:pt x="7740" y="11435"/>
                  <a:pt x="7775" y="11426"/>
                  <a:pt x="7813" y="11460"/>
                </a:cubicBezTo>
                <a:cubicBezTo>
                  <a:pt x="7863" y="11505"/>
                  <a:pt x="7863" y="11516"/>
                  <a:pt x="7863" y="11584"/>
                </a:cubicBezTo>
                <a:cubicBezTo>
                  <a:pt x="7863" y="11651"/>
                  <a:pt x="7858" y="11662"/>
                  <a:pt x="7813" y="11708"/>
                </a:cubicBezTo>
                <a:cubicBezTo>
                  <a:pt x="7790" y="11732"/>
                  <a:pt x="7701" y="11769"/>
                  <a:pt x="7665" y="11757"/>
                </a:cubicBezTo>
                <a:cubicBezTo>
                  <a:pt x="7633" y="11747"/>
                  <a:pt x="7566" y="11698"/>
                  <a:pt x="7541" y="11683"/>
                </a:cubicBezTo>
              </a:path>
              <a:path w="4862" h="2060">
                <a:moveTo>
                  <a:pt x="7020" y="10071"/>
                </a:moveTo>
                <a:cubicBezTo>
                  <a:pt x="6969" y="10173"/>
                  <a:pt x="6909" y="10277"/>
                  <a:pt x="6896" y="10393"/>
                </a:cubicBezTo>
                <a:cubicBezTo>
                  <a:pt x="6880" y="10533"/>
                  <a:pt x="6850" y="10673"/>
                  <a:pt x="6846" y="10815"/>
                </a:cubicBezTo>
                <a:cubicBezTo>
                  <a:pt x="6841" y="10994"/>
                  <a:pt x="6826" y="11187"/>
                  <a:pt x="6871" y="11361"/>
                </a:cubicBezTo>
                <a:cubicBezTo>
                  <a:pt x="6897" y="11461"/>
                  <a:pt x="6939" y="11598"/>
                  <a:pt x="6995" y="11683"/>
                </a:cubicBezTo>
                <a:cubicBezTo>
                  <a:pt x="7038" y="11749"/>
                  <a:pt x="7120" y="11824"/>
                  <a:pt x="7193" y="11832"/>
                </a:cubicBezTo>
                <a:cubicBezTo>
                  <a:pt x="7243" y="11832"/>
                  <a:pt x="7260" y="11832"/>
                  <a:pt x="7293" y="11832"/>
                </a:cubicBezTo>
              </a:path>
              <a:path w="4862" h="2060">
                <a:moveTo>
                  <a:pt x="8012" y="9971"/>
                </a:moveTo>
                <a:cubicBezTo>
                  <a:pt x="8065" y="10055"/>
                  <a:pt x="8097" y="10130"/>
                  <a:pt x="8136" y="10220"/>
                </a:cubicBezTo>
                <a:cubicBezTo>
                  <a:pt x="8191" y="10347"/>
                  <a:pt x="8243" y="10451"/>
                  <a:pt x="8260" y="10592"/>
                </a:cubicBezTo>
                <a:cubicBezTo>
                  <a:pt x="8279" y="10753"/>
                  <a:pt x="8302" y="10924"/>
                  <a:pt x="8285" y="11088"/>
                </a:cubicBezTo>
                <a:cubicBezTo>
                  <a:pt x="8273" y="11199"/>
                  <a:pt x="8245" y="11304"/>
                  <a:pt x="8210" y="11410"/>
                </a:cubicBezTo>
                <a:cubicBezTo>
                  <a:pt x="8182" y="11494"/>
                  <a:pt x="8128" y="11558"/>
                  <a:pt x="8086" y="11633"/>
                </a:cubicBezTo>
                <a:cubicBezTo>
                  <a:pt x="8052" y="11694"/>
                  <a:pt x="8039" y="11703"/>
                  <a:pt x="7987" y="11733"/>
                </a:cubicBezTo>
                <a:cubicBezTo>
                  <a:pt x="7993" y="11678"/>
                  <a:pt x="7991" y="11664"/>
                  <a:pt x="8012" y="11609"/>
                </a:cubicBezTo>
              </a:path>
              <a:path w="4862" h="2060">
                <a:moveTo>
                  <a:pt x="8434" y="9847"/>
                </a:moveTo>
                <a:cubicBezTo>
                  <a:pt x="8451" y="9832"/>
                  <a:pt x="8525" y="9758"/>
                  <a:pt x="8558" y="9773"/>
                </a:cubicBezTo>
                <a:cubicBezTo>
                  <a:pt x="8614" y="9798"/>
                  <a:pt x="8573" y="9888"/>
                  <a:pt x="8558" y="9922"/>
                </a:cubicBezTo>
                <a:cubicBezTo>
                  <a:pt x="8538" y="9968"/>
                  <a:pt x="8497" y="10004"/>
                  <a:pt x="8483" y="10046"/>
                </a:cubicBezTo>
                <a:cubicBezTo>
                  <a:pt x="8483" y="10074"/>
                  <a:pt x="8481" y="10085"/>
                  <a:pt x="8458" y="10096"/>
                </a:cubicBezTo>
                <a:cubicBezTo>
                  <a:pt x="8489" y="10106"/>
                  <a:pt x="8492" y="10136"/>
                  <a:pt x="8533" y="10145"/>
                </a:cubicBezTo>
                <a:cubicBezTo>
                  <a:pt x="8593" y="10158"/>
                  <a:pt x="8669" y="10145"/>
                  <a:pt x="8731" y="10145"/>
                </a:cubicBezTo>
              </a:path>
              <a:path w="4862" h="2060">
                <a:moveTo>
                  <a:pt x="8806" y="10716"/>
                </a:moveTo>
                <a:cubicBezTo>
                  <a:pt x="8938" y="10716"/>
                  <a:pt x="9071" y="10716"/>
                  <a:pt x="9203" y="10716"/>
                </a:cubicBezTo>
              </a:path>
              <a:path w="4862" h="2060">
                <a:moveTo>
                  <a:pt x="9798" y="9823"/>
                </a:moveTo>
                <a:cubicBezTo>
                  <a:pt x="9765" y="9880"/>
                  <a:pt x="9734" y="9931"/>
                  <a:pt x="9723" y="9996"/>
                </a:cubicBezTo>
                <a:cubicBezTo>
                  <a:pt x="9707" y="10090"/>
                  <a:pt x="9680" y="10177"/>
                  <a:pt x="9649" y="10269"/>
                </a:cubicBezTo>
                <a:cubicBezTo>
                  <a:pt x="9606" y="10397"/>
                  <a:pt x="9564" y="10513"/>
                  <a:pt x="9525" y="10641"/>
                </a:cubicBezTo>
                <a:cubicBezTo>
                  <a:pt x="9487" y="10767"/>
                  <a:pt x="9455" y="10881"/>
                  <a:pt x="9451" y="11013"/>
                </a:cubicBezTo>
                <a:cubicBezTo>
                  <a:pt x="9446" y="11165"/>
                  <a:pt x="9448" y="11313"/>
                  <a:pt x="9475" y="11460"/>
                </a:cubicBezTo>
                <a:cubicBezTo>
                  <a:pt x="9494" y="11561"/>
                  <a:pt x="9509" y="11672"/>
                  <a:pt x="9575" y="11757"/>
                </a:cubicBezTo>
                <a:cubicBezTo>
                  <a:pt x="9608" y="11800"/>
                  <a:pt x="9632" y="11840"/>
                  <a:pt x="9674" y="11807"/>
                </a:cubicBezTo>
                <a:cubicBezTo>
                  <a:pt x="9682" y="11799"/>
                  <a:pt x="9691" y="11790"/>
                  <a:pt x="9699" y="11782"/>
                </a:cubicBezTo>
              </a:path>
              <a:path w="4862" h="2060">
                <a:moveTo>
                  <a:pt x="10071" y="10170"/>
                </a:moveTo>
                <a:cubicBezTo>
                  <a:pt x="10071" y="10385"/>
                  <a:pt x="9946" y="10940"/>
                  <a:pt x="10071" y="10765"/>
                </a:cubicBezTo>
                <a:cubicBezTo>
                  <a:pt x="10079" y="10757"/>
                  <a:pt x="10088" y="10748"/>
                  <a:pt x="10096" y="10740"/>
                </a:cubicBezTo>
              </a:path>
              <a:path w="4862" h="2060">
                <a:moveTo>
                  <a:pt x="10294" y="10195"/>
                </a:moveTo>
                <a:cubicBezTo>
                  <a:pt x="10344" y="10166"/>
                  <a:pt x="10363" y="10145"/>
                  <a:pt x="10418" y="10145"/>
                </a:cubicBezTo>
                <a:cubicBezTo>
                  <a:pt x="10426" y="10145"/>
                  <a:pt x="10435" y="10145"/>
                  <a:pt x="10443" y="10145"/>
                </a:cubicBezTo>
                <a:cubicBezTo>
                  <a:pt x="10443" y="10194"/>
                  <a:pt x="10448" y="10224"/>
                  <a:pt x="10418" y="10269"/>
                </a:cubicBezTo>
                <a:cubicBezTo>
                  <a:pt x="10386" y="10316"/>
                  <a:pt x="10381" y="10366"/>
                  <a:pt x="10344" y="10418"/>
                </a:cubicBezTo>
                <a:cubicBezTo>
                  <a:pt x="10344" y="10418"/>
                  <a:pt x="10257" y="10538"/>
                  <a:pt x="10294" y="10567"/>
                </a:cubicBezTo>
                <a:cubicBezTo>
                  <a:pt x="10331" y="10596"/>
                  <a:pt x="10393" y="10592"/>
                  <a:pt x="10443" y="10592"/>
                </a:cubicBezTo>
                <a:cubicBezTo>
                  <a:pt x="10493" y="10592"/>
                  <a:pt x="10542" y="10592"/>
                  <a:pt x="10592" y="10592"/>
                </a:cubicBezTo>
              </a:path>
              <a:path w="4862" h="2060">
                <a:moveTo>
                  <a:pt x="10021" y="10815"/>
                </a:moveTo>
                <a:cubicBezTo>
                  <a:pt x="10142" y="10815"/>
                  <a:pt x="10251" y="10807"/>
                  <a:pt x="10368" y="10790"/>
                </a:cubicBezTo>
                <a:cubicBezTo>
                  <a:pt x="10440" y="10780"/>
                  <a:pt x="10518" y="10790"/>
                  <a:pt x="10592" y="10790"/>
                </a:cubicBezTo>
              </a:path>
              <a:path w="4862" h="2060">
                <a:moveTo>
                  <a:pt x="10195" y="11038"/>
                </a:moveTo>
                <a:cubicBezTo>
                  <a:pt x="10195" y="11145"/>
                  <a:pt x="10195" y="11545"/>
                  <a:pt x="10195" y="11485"/>
                </a:cubicBezTo>
              </a:path>
              <a:path w="4862" h="2060">
                <a:moveTo>
                  <a:pt x="10517" y="10988"/>
                </a:moveTo>
                <a:cubicBezTo>
                  <a:pt x="10574" y="10971"/>
                  <a:pt x="10632" y="10934"/>
                  <a:pt x="10641" y="11013"/>
                </a:cubicBezTo>
                <a:cubicBezTo>
                  <a:pt x="10647" y="11066"/>
                  <a:pt x="10626" y="11099"/>
                  <a:pt x="10592" y="11137"/>
                </a:cubicBezTo>
                <a:cubicBezTo>
                  <a:pt x="10561" y="11172"/>
                  <a:pt x="10525" y="11204"/>
                  <a:pt x="10492" y="11237"/>
                </a:cubicBezTo>
                <a:cubicBezTo>
                  <a:pt x="10541" y="11237"/>
                  <a:pt x="10552" y="11248"/>
                  <a:pt x="10592" y="11261"/>
                </a:cubicBezTo>
                <a:cubicBezTo>
                  <a:pt x="10655" y="11282"/>
                  <a:pt x="10628" y="11305"/>
                  <a:pt x="10666" y="11361"/>
                </a:cubicBezTo>
                <a:cubicBezTo>
                  <a:pt x="10702" y="11414"/>
                  <a:pt x="10707" y="11478"/>
                  <a:pt x="10666" y="11534"/>
                </a:cubicBezTo>
                <a:cubicBezTo>
                  <a:pt x="10637" y="11574"/>
                  <a:pt x="10588" y="11618"/>
                  <a:pt x="10542" y="11633"/>
                </a:cubicBezTo>
                <a:cubicBezTo>
                  <a:pt x="10497" y="11648"/>
                  <a:pt x="10476" y="11620"/>
                  <a:pt x="10443" y="11609"/>
                </a:cubicBezTo>
                <a:cubicBezTo>
                  <a:pt x="10394" y="11593"/>
                  <a:pt x="10393" y="11587"/>
                  <a:pt x="10393" y="11534"/>
                </a:cubicBezTo>
                <a:cubicBezTo>
                  <a:pt x="10393" y="11518"/>
                  <a:pt x="10393" y="11501"/>
                  <a:pt x="10393" y="11485"/>
                </a:cubicBezTo>
              </a:path>
              <a:path w="4862" h="2060">
                <a:moveTo>
                  <a:pt x="10740" y="9773"/>
                </a:moveTo>
                <a:cubicBezTo>
                  <a:pt x="10823" y="9856"/>
                  <a:pt x="10897" y="9935"/>
                  <a:pt x="10939" y="10046"/>
                </a:cubicBezTo>
                <a:cubicBezTo>
                  <a:pt x="10998" y="10203"/>
                  <a:pt x="11050" y="10348"/>
                  <a:pt x="11088" y="10517"/>
                </a:cubicBezTo>
                <a:cubicBezTo>
                  <a:pt x="11120" y="10658"/>
                  <a:pt x="11112" y="10796"/>
                  <a:pt x="11112" y="10939"/>
                </a:cubicBezTo>
                <a:cubicBezTo>
                  <a:pt x="11112" y="11114"/>
                  <a:pt x="11089" y="11240"/>
                  <a:pt x="11038" y="11410"/>
                </a:cubicBezTo>
                <a:cubicBezTo>
                  <a:pt x="11008" y="11510"/>
                  <a:pt x="10946" y="11596"/>
                  <a:pt x="10889" y="11683"/>
                </a:cubicBezTo>
                <a:cubicBezTo>
                  <a:pt x="10866" y="11718"/>
                  <a:pt x="10832" y="11787"/>
                  <a:pt x="10790" y="11807"/>
                </a:cubicBezTo>
                <a:cubicBezTo>
                  <a:pt x="10735" y="11833"/>
                  <a:pt x="10746" y="11788"/>
                  <a:pt x="10740" y="11757"/>
                </a:cubicBezTo>
                <a:cubicBezTo>
                  <a:pt x="10740" y="11749"/>
                  <a:pt x="10740" y="11741"/>
                  <a:pt x="10740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200" y="4116240"/>
            <a:ext cx="1401840" cy="1938600"/>
          </a:xfrm>
          <a:custGeom>
            <a:avLst/>
            <a:gdLst/>
            <a:ahLst/>
            <a:rect l="l" t="t" r="r" b="b"/>
            <a:pathLst>
              <a:path w="3895" h="5384">
                <a:moveTo>
                  <a:pt x="2555" y="11435"/>
                </a:moveTo>
                <a:cubicBezTo>
                  <a:pt x="2555" y="11603"/>
                  <a:pt x="2534" y="11765"/>
                  <a:pt x="2530" y="11931"/>
                </a:cubicBezTo>
                <a:cubicBezTo>
                  <a:pt x="2526" y="12115"/>
                  <a:pt x="2509" y="12294"/>
                  <a:pt x="2505" y="12477"/>
                </a:cubicBezTo>
                <a:cubicBezTo>
                  <a:pt x="2499" y="12792"/>
                  <a:pt x="2494" y="13106"/>
                  <a:pt x="2480" y="13419"/>
                </a:cubicBezTo>
                <a:cubicBezTo>
                  <a:pt x="2469" y="13675"/>
                  <a:pt x="2466" y="13933"/>
                  <a:pt x="2456" y="14188"/>
                </a:cubicBezTo>
                <a:cubicBezTo>
                  <a:pt x="2445" y="14461"/>
                  <a:pt x="2435" y="14734"/>
                  <a:pt x="2431" y="15007"/>
                </a:cubicBezTo>
                <a:cubicBezTo>
                  <a:pt x="2427" y="15280"/>
                  <a:pt x="2413" y="15554"/>
                  <a:pt x="2381" y="15825"/>
                </a:cubicBezTo>
                <a:cubicBezTo>
                  <a:pt x="2350" y="16088"/>
                  <a:pt x="2329" y="16356"/>
                  <a:pt x="2307" y="16619"/>
                </a:cubicBezTo>
                <a:cubicBezTo>
                  <a:pt x="2300" y="16697"/>
                  <a:pt x="2297" y="16863"/>
                  <a:pt x="2332" y="16793"/>
                </a:cubicBezTo>
                <a:cubicBezTo>
                  <a:pt x="2332" y="16768"/>
                  <a:pt x="2332" y="16743"/>
                  <a:pt x="2332" y="16718"/>
                </a:cubicBezTo>
              </a:path>
              <a:path w="3895" h="5384">
                <a:moveTo>
                  <a:pt x="670" y="14064"/>
                </a:moveTo>
                <a:cubicBezTo>
                  <a:pt x="713" y="14052"/>
                  <a:pt x="681" y="14036"/>
                  <a:pt x="769" y="14039"/>
                </a:cubicBezTo>
                <a:cubicBezTo>
                  <a:pt x="880" y="14043"/>
                  <a:pt x="983" y="14055"/>
                  <a:pt x="1091" y="14064"/>
                </a:cubicBezTo>
                <a:cubicBezTo>
                  <a:pt x="1246" y="14077"/>
                  <a:pt x="1408" y="14079"/>
                  <a:pt x="1563" y="14089"/>
                </a:cubicBezTo>
                <a:cubicBezTo>
                  <a:pt x="1760" y="14101"/>
                  <a:pt x="1961" y="14111"/>
                  <a:pt x="2158" y="14114"/>
                </a:cubicBezTo>
                <a:cubicBezTo>
                  <a:pt x="2389" y="14118"/>
                  <a:pt x="2622" y="14128"/>
                  <a:pt x="2853" y="14139"/>
                </a:cubicBezTo>
                <a:cubicBezTo>
                  <a:pt x="3143" y="14153"/>
                  <a:pt x="3431" y="14183"/>
                  <a:pt x="3721" y="14188"/>
                </a:cubicBezTo>
                <a:cubicBezTo>
                  <a:pt x="3793" y="14189"/>
                  <a:pt x="4564" y="14217"/>
                  <a:pt x="4564" y="14163"/>
                </a:cubicBezTo>
                <a:cubicBezTo>
                  <a:pt x="4539" y="14114"/>
                  <a:pt x="4530" y="14097"/>
                  <a:pt x="4514" y="14064"/>
                </a:cubicBezTo>
              </a:path>
              <a:path w="3895" h="5384">
                <a:moveTo>
                  <a:pt x="3398" y="13320"/>
                </a:moveTo>
                <a:cubicBezTo>
                  <a:pt x="3371" y="13387"/>
                  <a:pt x="3348" y="13440"/>
                  <a:pt x="3299" y="13494"/>
                </a:cubicBezTo>
                <a:cubicBezTo>
                  <a:pt x="3285" y="13510"/>
                  <a:pt x="3288" y="13526"/>
                  <a:pt x="3274" y="13543"/>
                </a:cubicBezTo>
                <a:cubicBezTo>
                  <a:pt x="3279" y="13496"/>
                  <a:pt x="3292" y="13463"/>
                  <a:pt x="3299" y="13419"/>
                </a:cubicBezTo>
                <a:cubicBezTo>
                  <a:pt x="3318" y="13304"/>
                  <a:pt x="3360" y="13188"/>
                  <a:pt x="3373" y="13072"/>
                </a:cubicBezTo>
                <a:cubicBezTo>
                  <a:pt x="3384" y="12966"/>
                  <a:pt x="3413" y="12877"/>
                  <a:pt x="3448" y="12774"/>
                </a:cubicBezTo>
                <a:cubicBezTo>
                  <a:pt x="3478" y="12686"/>
                  <a:pt x="3531" y="12612"/>
                  <a:pt x="3572" y="12526"/>
                </a:cubicBezTo>
                <a:cubicBezTo>
                  <a:pt x="3591" y="12487"/>
                  <a:pt x="3601" y="12433"/>
                  <a:pt x="3621" y="12402"/>
                </a:cubicBezTo>
                <a:cubicBezTo>
                  <a:pt x="3646" y="12402"/>
                  <a:pt x="3654" y="12402"/>
                  <a:pt x="3646" y="12378"/>
                </a:cubicBezTo>
                <a:cubicBezTo>
                  <a:pt x="3685" y="12441"/>
                  <a:pt x="3674" y="12480"/>
                  <a:pt x="3696" y="12551"/>
                </a:cubicBezTo>
                <a:cubicBezTo>
                  <a:pt x="3724" y="12644"/>
                  <a:pt x="3743" y="12731"/>
                  <a:pt x="3770" y="12824"/>
                </a:cubicBezTo>
                <a:cubicBezTo>
                  <a:pt x="3803" y="12937"/>
                  <a:pt x="3827" y="13062"/>
                  <a:pt x="3870" y="13171"/>
                </a:cubicBezTo>
                <a:cubicBezTo>
                  <a:pt x="3913" y="13279"/>
                  <a:pt x="3959" y="13375"/>
                  <a:pt x="4018" y="13469"/>
                </a:cubicBezTo>
                <a:cubicBezTo>
                  <a:pt x="4056" y="13530"/>
                  <a:pt x="4084" y="13602"/>
                  <a:pt x="4093" y="13667"/>
                </a:cubicBezTo>
              </a:path>
              <a:path w="3895" h="5384">
                <a:moveTo>
                  <a:pt x="3423" y="13072"/>
                </a:moveTo>
                <a:cubicBezTo>
                  <a:pt x="3438" y="13013"/>
                  <a:pt x="3485" y="13008"/>
                  <a:pt x="3547" y="13022"/>
                </a:cubicBezTo>
                <a:cubicBezTo>
                  <a:pt x="3638" y="13042"/>
                  <a:pt x="3732" y="13038"/>
                  <a:pt x="3820" y="13072"/>
                </a:cubicBezTo>
                <a:cubicBezTo>
                  <a:pt x="3837" y="13080"/>
                  <a:pt x="3853" y="13089"/>
                  <a:pt x="3870" y="13097"/>
                </a:cubicBezTo>
              </a:path>
              <a:path w="3895" h="5384">
                <a:moveTo>
                  <a:pt x="1563" y="12129"/>
                </a:moveTo>
                <a:cubicBezTo>
                  <a:pt x="1482" y="12129"/>
                  <a:pt x="1413" y="12121"/>
                  <a:pt x="1339" y="12154"/>
                </a:cubicBezTo>
                <a:cubicBezTo>
                  <a:pt x="1272" y="12184"/>
                  <a:pt x="1205" y="12185"/>
                  <a:pt x="1141" y="12229"/>
                </a:cubicBezTo>
                <a:cubicBezTo>
                  <a:pt x="1087" y="12266"/>
                  <a:pt x="1078" y="12296"/>
                  <a:pt x="1116" y="12353"/>
                </a:cubicBezTo>
                <a:cubicBezTo>
                  <a:pt x="1162" y="12422"/>
                  <a:pt x="1223" y="12475"/>
                  <a:pt x="1290" y="12526"/>
                </a:cubicBezTo>
                <a:cubicBezTo>
                  <a:pt x="1394" y="12604"/>
                  <a:pt x="1526" y="12705"/>
                  <a:pt x="1588" y="12824"/>
                </a:cubicBezTo>
                <a:cubicBezTo>
                  <a:pt x="1613" y="12873"/>
                  <a:pt x="1580" y="12968"/>
                  <a:pt x="1538" y="12998"/>
                </a:cubicBezTo>
                <a:cubicBezTo>
                  <a:pt x="1469" y="13046"/>
                  <a:pt x="1424" y="13047"/>
                  <a:pt x="1339" y="13047"/>
                </a:cubicBezTo>
                <a:cubicBezTo>
                  <a:pt x="1273" y="13047"/>
                  <a:pt x="1207" y="13047"/>
                  <a:pt x="1141" y="13047"/>
                </a:cubicBezTo>
              </a:path>
              <a:path w="3895" h="5384">
                <a:moveTo>
                  <a:pt x="1339" y="14833"/>
                </a:moveTo>
                <a:cubicBezTo>
                  <a:pt x="1372" y="14956"/>
                  <a:pt x="1389" y="15052"/>
                  <a:pt x="1389" y="15180"/>
                </a:cubicBezTo>
                <a:cubicBezTo>
                  <a:pt x="1389" y="15311"/>
                  <a:pt x="1381" y="15427"/>
                  <a:pt x="1364" y="15553"/>
                </a:cubicBezTo>
                <a:cubicBezTo>
                  <a:pt x="1355" y="15618"/>
                  <a:pt x="1344" y="15666"/>
                  <a:pt x="1339" y="15726"/>
                </a:cubicBezTo>
                <a:cubicBezTo>
                  <a:pt x="1339" y="15751"/>
                  <a:pt x="1339" y="15759"/>
                  <a:pt x="1315" y="15751"/>
                </a:cubicBezTo>
              </a:path>
              <a:path w="3895" h="5384">
                <a:moveTo>
                  <a:pt x="1091" y="14784"/>
                </a:moveTo>
                <a:cubicBezTo>
                  <a:pt x="1240" y="14762"/>
                  <a:pt x="1300" y="14765"/>
                  <a:pt x="1439" y="14784"/>
                </a:cubicBezTo>
                <a:cubicBezTo>
                  <a:pt x="1535" y="14797"/>
                  <a:pt x="1610" y="14803"/>
                  <a:pt x="1712" y="14808"/>
                </a:cubicBezTo>
              </a:path>
              <a:path w="3895" h="5384">
                <a:moveTo>
                  <a:pt x="3646" y="15329"/>
                </a:moveTo>
                <a:cubicBezTo>
                  <a:pt x="3724" y="15349"/>
                  <a:pt x="3773" y="15373"/>
                  <a:pt x="3721" y="15329"/>
                </a:cubicBezTo>
                <a:cubicBezTo>
                  <a:pt x="3693" y="15315"/>
                  <a:pt x="3634" y="15283"/>
                  <a:pt x="3572" y="15280"/>
                </a:cubicBezTo>
                <a:cubicBezTo>
                  <a:pt x="3470" y="15275"/>
                  <a:pt x="3366" y="15344"/>
                  <a:pt x="3274" y="15379"/>
                </a:cubicBezTo>
                <a:cubicBezTo>
                  <a:pt x="3198" y="15408"/>
                  <a:pt x="3107" y="15472"/>
                  <a:pt x="3076" y="15553"/>
                </a:cubicBezTo>
                <a:cubicBezTo>
                  <a:pt x="3044" y="15635"/>
                  <a:pt x="3049" y="15721"/>
                  <a:pt x="3076" y="15801"/>
                </a:cubicBezTo>
                <a:cubicBezTo>
                  <a:pt x="3111" y="15904"/>
                  <a:pt x="3208" y="15990"/>
                  <a:pt x="3299" y="16049"/>
                </a:cubicBezTo>
                <a:cubicBezTo>
                  <a:pt x="3395" y="16112"/>
                  <a:pt x="3531" y="16177"/>
                  <a:pt x="3646" y="16197"/>
                </a:cubicBezTo>
                <a:cubicBezTo>
                  <a:pt x="3706" y="16208"/>
                  <a:pt x="3757" y="16219"/>
                  <a:pt x="3820" y="16222"/>
                </a:cubicBezTo>
                <a:cubicBezTo>
                  <a:pt x="3870" y="16224"/>
                  <a:pt x="3880" y="16221"/>
                  <a:pt x="3919" y="16197"/>
                </a:cubicBezTo>
                <a:cubicBezTo>
                  <a:pt x="3895" y="16187"/>
                  <a:pt x="3869" y="16183"/>
                  <a:pt x="3845" y="161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13000" y="4483080"/>
            <a:ext cx="2527200" cy="830160"/>
          </a:xfrm>
          <a:custGeom>
            <a:avLst/>
            <a:gdLst/>
            <a:ahLst/>
            <a:rect l="l" t="t" r="r" b="b"/>
            <a:pathLst>
              <a:path w="7021" h="2308">
                <a:moveTo>
                  <a:pt x="6424" y="12849"/>
                </a:moveTo>
                <a:cubicBezTo>
                  <a:pt x="6485" y="12849"/>
                  <a:pt x="6510" y="12861"/>
                  <a:pt x="6573" y="12874"/>
                </a:cubicBezTo>
                <a:cubicBezTo>
                  <a:pt x="6611" y="12882"/>
                  <a:pt x="6658" y="12874"/>
                  <a:pt x="6697" y="12874"/>
                </a:cubicBezTo>
              </a:path>
              <a:path w="7021" h="2308">
                <a:moveTo>
                  <a:pt x="6449" y="13047"/>
                </a:moveTo>
                <a:cubicBezTo>
                  <a:pt x="6512" y="13064"/>
                  <a:pt x="6593" y="13086"/>
                  <a:pt x="6648" y="13097"/>
                </a:cubicBezTo>
                <a:cubicBezTo>
                  <a:pt x="6689" y="13097"/>
                  <a:pt x="6697" y="13097"/>
                  <a:pt x="6722" y="13097"/>
                </a:cubicBezTo>
              </a:path>
              <a:path w="7021" h="2308">
                <a:moveTo>
                  <a:pt x="7243" y="12576"/>
                </a:moveTo>
                <a:cubicBezTo>
                  <a:pt x="7250" y="12597"/>
                  <a:pt x="7268" y="12644"/>
                  <a:pt x="7268" y="12601"/>
                </a:cubicBezTo>
                <a:cubicBezTo>
                  <a:pt x="7268" y="12567"/>
                  <a:pt x="7295" y="12527"/>
                  <a:pt x="7317" y="12502"/>
                </a:cubicBezTo>
                <a:cubicBezTo>
                  <a:pt x="7331" y="12486"/>
                  <a:pt x="7395" y="12442"/>
                  <a:pt x="7417" y="12452"/>
                </a:cubicBezTo>
                <a:cubicBezTo>
                  <a:pt x="7455" y="12469"/>
                  <a:pt x="7471" y="12490"/>
                  <a:pt x="7491" y="12526"/>
                </a:cubicBezTo>
                <a:cubicBezTo>
                  <a:pt x="7521" y="12578"/>
                  <a:pt x="7538" y="12641"/>
                  <a:pt x="7541" y="12700"/>
                </a:cubicBezTo>
                <a:cubicBezTo>
                  <a:pt x="7545" y="12774"/>
                  <a:pt x="7539" y="12855"/>
                  <a:pt x="7516" y="12923"/>
                </a:cubicBezTo>
                <a:cubicBezTo>
                  <a:pt x="7493" y="12991"/>
                  <a:pt x="7467" y="13047"/>
                  <a:pt x="7417" y="13097"/>
                </a:cubicBezTo>
                <a:cubicBezTo>
                  <a:pt x="7404" y="13110"/>
                  <a:pt x="7344" y="13179"/>
                  <a:pt x="7317" y="13146"/>
                </a:cubicBezTo>
                <a:cubicBezTo>
                  <a:pt x="7299" y="13124"/>
                  <a:pt x="7293" y="13080"/>
                  <a:pt x="7293" y="13047"/>
                </a:cubicBezTo>
                <a:cubicBezTo>
                  <a:pt x="7293" y="12998"/>
                  <a:pt x="7304" y="12988"/>
                  <a:pt x="7317" y="12948"/>
                </a:cubicBezTo>
                <a:cubicBezTo>
                  <a:pt x="7329" y="12910"/>
                  <a:pt x="7347" y="12923"/>
                  <a:pt x="7392" y="12923"/>
                </a:cubicBezTo>
                <a:cubicBezTo>
                  <a:pt x="7444" y="12923"/>
                  <a:pt x="7437" y="12966"/>
                  <a:pt x="7466" y="12998"/>
                </a:cubicBezTo>
                <a:cubicBezTo>
                  <a:pt x="7494" y="13029"/>
                  <a:pt x="7495" y="13066"/>
                  <a:pt x="7516" y="13097"/>
                </a:cubicBezTo>
                <a:cubicBezTo>
                  <a:pt x="7548" y="13145"/>
                  <a:pt x="7552" y="13140"/>
                  <a:pt x="7590" y="13122"/>
                </a:cubicBezTo>
              </a:path>
              <a:path w="7021" h="2308">
                <a:moveTo>
                  <a:pt x="7789" y="12526"/>
                </a:moveTo>
                <a:cubicBezTo>
                  <a:pt x="7886" y="12526"/>
                  <a:pt x="7949" y="12523"/>
                  <a:pt x="8037" y="12502"/>
                </a:cubicBezTo>
                <a:cubicBezTo>
                  <a:pt x="8082" y="12491"/>
                  <a:pt x="8070" y="12508"/>
                  <a:pt x="8111" y="12477"/>
                </a:cubicBezTo>
              </a:path>
              <a:path w="7021" h="2308">
                <a:moveTo>
                  <a:pt x="7813" y="12477"/>
                </a:moveTo>
                <a:cubicBezTo>
                  <a:pt x="7793" y="12527"/>
                  <a:pt x="7785" y="12608"/>
                  <a:pt x="7764" y="12650"/>
                </a:cubicBezTo>
                <a:cubicBezTo>
                  <a:pt x="7756" y="12658"/>
                  <a:pt x="7747" y="12667"/>
                  <a:pt x="7739" y="12675"/>
                </a:cubicBezTo>
                <a:cubicBezTo>
                  <a:pt x="7764" y="12708"/>
                  <a:pt x="7754" y="12746"/>
                  <a:pt x="7789" y="12750"/>
                </a:cubicBezTo>
                <a:cubicBezTo>
                  <a:pt x="7849" y="12758"/>
                  <a:pt x="7883" y="12739"/>
                  <a:pt x="7938" y="12725"/>
                </a:cubicBezTo>
                <a:cubicBezTo>
                  <a:pt x="7987" y="12712"/>
                  <a:pt x="8018" y="12739"/>
                  <a:pt x="8062" y="12750"/>
                </a:cubicBezTo>
                <a:cubicBezTo>
                  <a:pt x="8094" y="12758"/>
                  <a:pt x="8145" y="12788"/>
                  <a:pt x="8161" y="12824"/>
                </a:cubicBezTo>
                <a:cubicBezTo>
                  <a:pt x="8182" y="12871"/>
                  <a:pt x="8186" y="12920"/>
                  <a:pt x="8186" y="12973"/>
                </a:cubicBezTo>
                <a:cubicBezTo>
                  <a:pt x="8186" y="13024"/>
                  <a:pt x="8168" y="13061"/>
                  <a:pt x="8136" y="13097"/>
                </a:cubicBezTo>
                <a:cubicBezTo>
                  <a:pt x="8106" y="13131"/>
                  <a:pt x="8032" y="13116"/>
                  <a:pt x="8012" y="13146"/>
                </a:cubicBezTo>
                <a:cubicBezTo>
                  <a:pt x="7991" y="13177"/>
                  <a:pt x="7989" y="13171"/>
                  <a:pt x="7938" y="13171"/>
                </a:cubicBezTo>
                <a:cubicBezTo>
                  <a:pt x="7921" y="13171"/>
                  <a:pt x="7905" y="13171"/>
                  <a:pt x="7888" y="13171"/>
                </a:cubicBezTo>
              </a:path>
              <a:path w="7021" h="2308">
                <a:moveTo>
                  <a:pt x="7317" y="13271"/>
                </a:moveTo>
                <a:cubicBezTo>
                  <a:pt x="7407" y="13290"/>
                  <a:pt x="7501" y="13307"/>
                  <a:pt x="7590" y="13320"/>
                </a:cubicBezTo>
                <a:cubicBezTo>
                  <a:pt x="7795" y="13349"/>
                  <a:pt x="8027" y="13320"/>
                  <a:pt x="8235" y="13320"/>
                </a:cubicBezTo>
              </a:path>
              <a:path w="7021" h="2308">
                <a:moveTo>
                  <a:pt x="7491" y="13568"/>
                </a:moveTo>
                <a:cubicBezTo>
                  <a:pt x="7498" y="13621"/>
                  <a:pt x="7533" y="13686"/>
                  <a:pt x="7516" y="13742"/>
                </a:cubicBezTo>
                <a:cubicBezTo>
                  <a:pt x="7495" y="13813"/>
                  <a:pt x="7491" y="13863"/>
                  <a:pt x="7491" y="13940"/>
                </a:cubicBezTo>
                <a:cubicBezTo>
                  <a:pt x="7491" y="13986"/>
                  <a:pt x="7483" y="14096"/>
                  <a:pt x="7466" y="14139"/>
                </a:cubicBezTo>
                <a:cubicBezTo>
                  <a:pt x="7445" y="14192"/>
                  <a:pt x="7441" y="14224"/>
                  <a:pt x="7441" y="14288"/>
                </a:cubicBezTo>
                <a:cubicBezTo>
                  <a:pt x="7441" y="14296"/>
                  <a:pt x="7441" y="14304"/>
                  <a:pt x="7441" y="14312"/>
                </a:cubicBezTo>
              </a:path>
              <a:path w="7021" h="2308">
                <a:moveTo>
                  <a:pt x="7838" y="13667"/>
                </a:moveTo>
                <a:cubicBezTo>
                  <a:pt x="7838" y="13750"/>
                  <a:pt x="7827" y="13822"/>
                  <a:pt x="7813" y="13891"/>
                </a:cubicBezTo>
                <a:cubicBezTo>
                  <a:pt x="7796" y="13977"/>
                  <a:pt x="7823" y="14068"/>
                  <a:pt x="7838" y="14139"/>
                </a:cubicBezTo>
                <a:cubicBezTo>
                  <a:pt x="7857" y="14226"/>
                  <a:pt x="7874" y="14238"/>
                  <a:pt x="7962" y="14238"/>
                </a:cubicBezTo>
                <a:cubicBezTo>
                  <a:pt x="8003" y="14238"/>
                  <a:pt x="8028" y="14228"/>
                  <a:pt x="8062" y="14213"/>
                </a:cubicBezTo>
                <a:cubicBezTo>
                  <a:pt x="8113" y="14191"/>
                  <a:pt x="8130" y="14140"/>
                  <a:pt x="8136" y="14089"/>
                </a:cubicBezTo>
                <a:cubicBezTo>
                  <a:pt x="8140" y="14057"/>
                  <a:pt x="8146" y="14007"/>
                  <a:pt x="8111" y="13990"/>
                </a:cubicBezTo>
                <a:cubicBezTo>
                  <a:pt x="8084" y="13977"/>
                  <a:pt x="8041" y="14008"/>
                  <a:pt x="8037" y="14015"/>
                </a:cubicBezTo>
                <a:cubicBezTo>
                  <a:pt x="8019" y="14050"/>
                  <a:pt x="7998" y="14103"/>
                  <a:pt x="7987" y="14139"/>
                </a:cubicBezTo>
                <a:cubicBezTo>
                  <a:pt x="7969" y="14198"/>
                  <a:pt x="7995" y="14210"/>
                  <a:pt x="8037" y="14238"/>
                </a:cubicBezTo>
              </a:path>
              <a:path w="7021" h="2308">
                <a:moveTo>
                  <a:pt x="8558" y="13692"/>
                </a:moveTo>
                <a:cubicBezTo>
                  <a:pt x="8550" y="13637"/>
                  <a:pt x="8520" y="13561"/>
                  <a:pt x="8434" y="13593"/>
                </a:cubicBezTo>
                <a:cubicBezTo>
                  <a:pt x="8386" y="13611"/>
                  <a:pt x="8369" y="13652"/>
                  <a:pt x="8334" y="13692"/>
                </a:cubicBezTo>
                <a:cubicBezTo>
                  <a:pt x="8290" y="13742"/>
                  <a:pt x="8318" y="13743"/>
                  <a:pt x="8334" y="13791"/>
                </a:cubicBezTo>
                <a:cubicBezTo>
                  <a:pt x="8347" y="13831"/>
                  <a:pt x="8361" y="13861"/>
                  <a:pt x="8409" y="13866"/>
                </a:cubicBezTo>
                <a:cubicBezTo>
                  <a:pt x="8475" y="13873"/>
                  <a:pt x="8445" y="13887"/>
                  <a:pt x="8508" y="13866"/>
                </a:cubicBezTo>
                <a:cubicBezTo>
                  <a:pt x="8553" y="13851"/>
                  <a:pt x="8562" y="13843"/>
                  <a:pt x="8582" y="13816"/>
                </a:cubicBezTo>
                <a:cubicBezTo>
                  <a:pt x="8609" y="13780"/>
                  <a:pt x="8599" y="13778"/>
                  <a:pt x="8632" y="13767"/>
                </a:cubicBezTo>
                <a:cubicBezTo>
                  <a:pt x="8632" y="13830"/>
                  <a:pt x="8617" y="13858"/>
                  <a:pt x="8607" y="13915"/>
                </a:cubicBezTo>
                <a:cubicBezTo>
                  <a:pt x="8591" y="14002"/>
                  <a:pt x="8607" y="14363"/>
                  <a:pt x="8607" y="14288"/>
                </a:cubicBezTo>
              </a:path>
              <a:path w="7021" h="2308">
                <a:moveTo>
                  <a:pt x="8880" y="13370"/>
                </a:moveTo>
                <a:cubicBezTo>
                  <a:pt x="8973" y="13354"/>
                  <a:pt x="9063" y="13327"/>
                  <a:pt x="9153" y="13320"/>
                </a:cubicBezTo>
                <a:cubicBezTo>
                  <a:pt x="9189" y="13317"/>
                  <a:pt x="9219" y="13290"/>
                  <a:pt x="9252" y="13271"/>
                </a:cubicBezTo>
              </a:path>
              <a:path w="7021" h="2308">
                <a:moveTo>
                  <a:pt x="9798" y="12576"/>
                </a:moveTo>
                <a:cubicBezTo>
                  <a:pt x="9836" y="12589"/>
                  <a:pt x="9823" y="12605"/>
                  <a:pt x="9823" y="12650"/>
                </a:cubicBezTo>
                <a:cubicBezTo>
                  <a:pt x="9823" y="12857"/>
                  <a:pt x="9823" y="13064"/>
                  <a:pt x="9823" y="13271"/>
                </a:cubicBezTo>
              </a:path>
              <a:path w="7021" h="2308">
                <a:moveTo>
                  <a:pt x="9996" y="12725"/>
                </a:moveTo>
                <a:cubicBezTo>
                  <a:pt x="10014" y="12786"/>
                  <a:pt x="10005" y="12796"/>
                  <a:pt x="9971" y="12849"/>
                </a:cubicBezTo>
                <a:cubicBezTo>
                  <a:pt x="9963" y="12857"/>
                  <a:pt x="9955" y="12866"/>
                  <a:pt x="9947" y="12874"/>
                </a:cubicBezTo>
                <a:cubicBezTo>
                  <a:pt x="9978" y="12915"/>
                  <a:pt x="9982" y="12922"/>
                  <a:pt x="10021" y="12948"/>
                </a:cubicBezTo>
                <a:cubicBezTo>
                  <a:pt x="10065" y="12977"/>
                  <a:pt x="10087" y="12973"/>
                  <a:pt x="10145" y="12973"/>
                </a:cubicBezTo>
              </a:path>
              <a:path w="7021" h="2308">
                <a:moveTo>
                  <a:pt x="10220" y="12551"/>
                </a:moveTo>
                <a:cubicBezTo>
                  <a:pt x="10220" y="12608"/>
                  <a:pt x="10204" y="12647"/>
                  <a:pt x="10195" y="12700"/>
                </a:cubicBezTo>
                <a:cubicBezTo>
                  <a:pt x="10172" y="12840"/>
                  <a:pt x="10195" y="13022"/>
                  <a:pt x="10220" y="13146"/>
                </a:cubicBezTo>
                <a:cubicBezTo>
                  <a:pt x="10230" y="13198"/>
                  <a:pt x="10198" y="13230"/>
                  <a:pt x="10244" y="13246"/>
                </a:cubicBezTo>
              </a:path>
              <a:path w="7021" h="2308">
                <a:moveTo>
                  <a:pt x="10393" y="12675"/>
                </a:moveTo>
                <a:cubicBezTo>
                  <a:pt x="10383" y="12714"/>
                  <a:pt x="10368" y="12730"/>
                  <a:pt x="10368" y="12774"/>
                </a:cubicBezTo>
                <a:cubicBezTo>
                  <a:pt x="10368" y="12831"/>
                  <a:pt x="10355" y="12881"/>
                  <a:pt x="10393" y="12923"/>
                </a:cubicBezTo>
                <a:cubicBezTo>
                  <a:pt x="10419" y="12952"/>
                  <a:pt x="10459" y="12987"/>
                  <a:pt x="10492" y="12998"/>
                </a:cubicBezTo>
                <a:cubicBezTo>
                  <a:pt x="10534" y="12998"/>
                  <a:pt x="10559" y="12998"/>
                  <a:pt x="10592" y="12998"/>
                </a:cubicBezTo>
              </a:path>
              <a:path w="7021" h="2308">
                <a:moveTo>
                  <a:pt x="10641" y="12626"/>
                </a:moveTo>
                <a:cubicBezTo>
                  <a:pt x="10657" y="12688"/>
                  <a:pt x="10666" y="12694"/>
                  <a:pt x="10666" y="12774"/>
                </a:cubicBezTo>
                <a:cubicBezTo>
                  <a:pt x="10666" y="12859"/>
                  <a:pt x="10641" y="12934"/>
                  <a:pt x="10641" y="13022"/>
                </a:cubicBezTo>
                <a:cubicBezTo>
                  <a:pt x="10641" y="13102"/>
                  <a:pt x="10660" y="13168"/>
                  <a:pt x="10666" y="13246"/>
                </a:cubicBezTo>
                <a:cubicBezTo>
                  <a:pt x="10669" y="13282"/>
                  <a:pt x="10684" y="13310"/>
                  <a:pt x="10691" y="13345"/>
                </a:cubicBezTo>
              </a:path>
              <a:path w="7021" h="2308">
                <a:moveTo>
                  <a:pt x="9847" y="13395"/>
                </a:moveTo>
                <a:cubicBezTo>
                  <a:pt x="9976" y="13395"/>
                  <a:pt x="10095" y="13406"/>
                  <a:pt x="10220" y="13419"/>
                </a:cubicBezTo>
                <a:cubicBezTo>
                  <a:pt x="10326" y="13430"/>
                  <a:pt x="10436" y="13440"/>
                  <a:pt x="10542" y="13444"/>
                </a:cubicBezTo>
                <a:cubicBezTo>
                  <a:pt x="10636" y="13447"/>
                  <a:pt x="10717" y="13469"/>
                  <a:pt x="10815" y="13469"/>
                </a:cubicBezTo>
                <a:cubicBezTo>
                  <a:pt x="10840" y="13469"/>
                  <a:pt x="10848" y="13469"/>
                  <a:pt x="10840" y="13444"/>
                </a:cubicBezTo>
              </a:path>
              <a:path w="7021" h="2308">
                <a:moveTo>
                  <a:pt x="9947" y="13717"/>
                </a:moveTo>
                <a:cubicBezTo>
                  <a:pt x="9947" y="13809"/>
                  <a:pt x="9953" y="13868"/>
                  <a:pt x="9947" y="13940"/>
                </a:cubicBezTo>
                <a:cubicBezTo>
                  <a:pt x="9940" y="14024"/>
                  <a:pt x="9955" y="14090"/>
                  <a:pt x="9947" y="14163"/>
                </a:cubicBezTo>
                <a:cubicBezTo>
                  <a:pt x="9940" y="14224"/>
                  <a:pt x="9971" y="14274"/>
                  <a:pt x="9971" y="14337"/>
                </a:cubicBezTo>
                <a:cubicBezTo>
                  <a:pt x="9971" y="14362"/>
                  <a:pt x="9971" y="14387"/>
                  <a:pt x="9971" y="14412"/>
                </a:cubicBezTo>
              </a:path>
              <a:path w="7021" h="2308">
                <a:moveTo>
                  <a:pt x="10220" y="13767"/>
                </a:moveTo>
                <a:cubicBezTo>
                  <a:pt x="10220" y="13826"/>
                  <a:pt x="10211" y="13860"/>
                  <a:pt x="10195" y="13915"/>
                </a:cubicBezTo>
                <a:cubicBezTo>
                  <a:pt x="10168" y="14010"/>
                  <a:pt x="10170" y="14090"/>
                  <a:pt x="10170" y="14188"/>
                </a:cubicBezTo>
                <a:cubicBezTo>
                  <a:pt x="10170" y="14248"/>
                  <a:pt x="10191" y="14303"/>
                  <a:pt x="10244" y="14337"/>
                </a:cubicBezTo>
                <a:cubicBezTo>
                  <a:pt x="10301" y="14374"/>
                  <a:pt x="10353" y="14397"/>
                  <a:pt x="10418" y="14412"/>
                </a:cubicBezTo>
                <a:cubicBezTo>
                  <a:pt x="10483" y="14427"/>
                  <a:pt x="10496" y="14369"/>
                  <a:pt x="10517" y="14337"/>
                </a:cubicBezTo>
                <a:cubicBezTo>
                  <a:pt x="10548" y="14291"/>
                  <a:pt x="10567" y="14297"/>
                  <a:pt x="10567" y="14238"/>
                </a:cubicBezTo>
                <a:cubicBezTo>
                  <a:pt x="10567" y="14212"/>
                  <a:pt x="10560" y="14151"/>
                  <a:pt x="10542" y="14139"/>
                </a:cubicBezTo>
                <a:cubicBezTo>
                  <a:pt x="10504" y="14114"/>
                  <a:pt x="10464" y="14167"/>
                  <a:pt x="10443" y="14188"/>
                </a:cubicBezTo>
                <a:cubicBezTo>
                  <a:pt x="10422" y="14209"/>
                  <a:pt x="10380" y="14280"/>
                  <a:pt x="10393" y="14312"/>
                </a:cubicBezTo>
                <a:cubicBezTo>
                  <a:pt x="10406" y="14344"/>
                  <a:pt x="10441" y="14355"/>
                  <a:pt x="10468" y="14362"/>
                </a:cubicBezTo>
              </a:path>
              <a:path w="7021" h="2308">
                <a:moveTo>
                  <a:pt x="10840" y="13742"/>
                </a:moveTo>
                <a:cubicBezTo>
                  <a:pt x="10790" y="13742"/>
                  <a:pt x="10758" y="13759"/>
                  <a:pt x="10716" y="13791"/>
                </a:cubicBezTo>
                <a:cubicBezTo>
                  <a:pt x="10670" y="13825"/>
                  <a:pt x="10645" y="13911"/>
                  <a:pt x="10666" y="13965"/>
                </a:cubicBezTo>
                <a:cubicBezTo>
                  <a:pt x="10679" y="13998"/>
                  <a:pt x="10734" y="14036"/>
                  <a:pt x="10765" y="14039"/>
                </a:cubicBezTo>
                <a:cubicBezTo>
                  <a:pt x="10808" y="14044"/>
                  <a:pt x="10833" y="14043"/>
                  <a:pt x="10864" y="14015"/>
                </a:cubicBezTo>
                <a:cubicBezTo>
                  <a:pt x="10905" y="13979"/>
                  <a:pt x="10914" y="13942"/>
                  <a:pt x="10914" y="13891"/>
                </a:cubicBezTo>
                <a:cubicBezTo>
                  <a:pt x="10914" y="13823"/>
                  <a:pt x="10916" y="13930"/>
                  <a:pt x="10914" y="13940"/>
                </a:cubicBezTo>
                <a:cubicBezTo>
                  <a:pt x="10893" y="14037"/>
                  <a:pt x="10889" y="14114"/>
                  <a:pt x="10889" y="14213"/>
                </a:cubicBezTo>
                <a:cubicBezTo>
                  <a:pt x="10889" y="14290"/>
                  <a:pt x="10914" y="14357"/>
                  <a:pt x="10914" y="14436"/>
                </a:cubicBezTo>
                <a:cubicBezTo>
                  <a:pt x="10914" y="14462"/>
                  <a:pt x="10932" y="14552"/>
                  <a:pt x="10964" y="14536"/>
                </a:cubicBezTo>
                <a:cubicBezTo>
                  <a:pt x="10972" y="14528"/>
                  <a:pt x="10980" y="14519"/>
                  <a:pt x="10988" y="14511"/>
                </a:cubicBezTo>
              </a:path>
              <a:path w="7021" h="2308">
                <a:moveTo>
                  <a:pt x="11286" y="13419"/>
                </a:moveTo>
                <a:cubicBezTo>
                  <a:pt x="11345" y="13404"/>
                  <a:pt x="11407" y="13376"/>
                  <a:pt x="11460" y="13370"/>
                </a:cubicBezTo>
                <a:cubicBezTo>
                  <a:pt x="11485" y="13370"/>
                  <a:pt x="11493" y="13370"/>
                  <a:pt x="11509" y="13370"/>
                </a:cubicBezTo>
              </a:path>
              <a:path w="7021" h="2308">
                <a:moveTo>
                  <a:pt x="11385" y="13543"/>
                </a:moveTo>
                <a:cubicBezTo>
                  <a:pt x="11461" y="13564"/>
                  <a:pt x="11532" y="13587"/>
                  <a:pt x="11609" y="13593"/>
                </a:cubicBezTo>
                <a:cubicBezTo>
                  <a:pt x="11617" y="13593"/>
                  <a:pt x="11625" y="13593"/>
                  <a:pt x="11633" y="13593"/>
                </a:cubicBezTo>
              </a:path>
              <a:path w="7021" h="2308">
                <a:moveTo>
                  <a:pt x="11807" y="12874"/>
                </a:moveTo>
                <a:cubicBezTo>
                  <a:pt x="11877" y="12874"/>
                  <a:pt x="11936" y="12895"/>
                  <a:pt x="12005" y="12898"/>
                </a:cubicBezTo>
                <a:cubicBezTo>
                  <a:pt x="12030" y="12898"/>
                  <a:pt x="12055" y="12898"/>
                  <a:pt x="12080" y="12898"/>
                </a:cubicBezTo>
              </a:path>
              <a:path w="7021" h="2308">
                <a:moveTo>
                  <a:pt x="12378" y="12700"/>
                </a:moveTo>
                <a:cubicBezTo>
                  <a:pt x="12378" y="12767"/>
                  <a:pt x="12357" y="13470"/>
                  <a:pt x="12402" y="13469"/>
                </a:cubicBezTo>
                <a:cubicBezTo>
                  <a:pt x="12402" y="13461"/>
                  <a:pt x="12402" y="13452"/>
                  <a:pt x="12402" y="13444"/>
                </a:cubicBezTo>
              </a:path>
              <a:path w="7021" h="2308">
                <a:moveTo>
                  <a:pt x="12700" y="12700"/>
                </a:moveTo>
                <a:cubicBezTo>
                  <a:pt x="12722" y="12781"/>
                  <a:pt x="12725" y="12840"/>
                  <a:pt x="12725" y="12923"/>
                </a:cubicBezTo>
                <a:cubicBezTo>
                  <a:pt x="12725" y="13053"/>
                  <a:pt x="12730" y="13173"/>
                  <a:pt x="12750" y="13295"/>
                </a:cubicBezTo>
                <a:cubicBezTo>
                  <a:pt x="12756" y="13332"/>
                  <a:pt x="12740" y="13421"/>
                  <a:pt x="12774" y="13444"/>
                </a:cubicBezTo>
                <a:cubicBezTo>
                  <a:pt x="12799" y="13444"/>
                  <a:pt x="12807" y="13444"/>
                  <a:pt x="12799" y="13419"/>
                </a:cubicBezTo>
              </a:path>
              <a:path w="7021" h="2308">
                <a:moveTo>
                  <a:pt x="13171" y="12626"/>
                </a:moveTo>
                <a:cubicBezTo>
                  <a:pt x="13118" y="12656"/>
                  <a:pt x="13073" y="12694"/>
                  <a:pt x="13022" y="12725"/>
                </a:cubicBezTo>
                <a:cubicBezTo>
                  <a:pt x="12963" y="12761"/>
                  <a:pt x="12953" y="12821"/>
                  <a:pt x="12948" y="12898"/>
                </a:cubicBezTo>
                <a:cubicBezTo>
                  <a:pt x="12946" y="12932"/>
                  <a:pt x="12963" y="13005"/>
                  <a:pt x="12998" y="13022"/>
                </a:cubicBezTo>
                <a:cubicBezTo>
                  <a:pt x="13053" y="13050"/>
                  <a:pt x="13046" y="13039"/>
                  <a:pt x="13097" y="13022"/>
                </a:cubicBezTo>
                <a:cubicBezTo>
                  <a:pt x="13148" y="13005"/>
                  <a:pt x="13145" y="12987"/>
                  <a:pt x="13171" y="12948"/>
                </a:cubicBezTo>
                <a:cubicBezTo>
                  <a:pt x="13195" y="12913"/>
                  <a:pt x="13216" y="12866"/>
                  <a:pt x="13221" y="12824"/>
                </a:cubicBezTo>
                <a:cubicBezTo>
                  <a:pt x="13225" y="12792"/>
                  <a:pt x="13221" y="12757"/>
                  <a:pt x="13221" y="12725"/>
                </a:cubicBezTo>
                <a:cubicBezTo>
                  <a:pt x="13209" y="12748"/>
                  <a:pt x="13167" y="12865"/>
                  <a:pt x="13171" y="12898"/>
                </a:cubicBezTo>
                <a:cubicBezTo>
                  <a:pt x="13177" y="12948"/>
                  <a:pt x="13182" y="13047"/>
                  <a:pt x="13196" y="13097"/>
                </a:cubicBezTo>
                <a:cubicBezTo>
                  <a:pt x="13214" y="13159"/>
                  <a:pt x="13219" y="13242"/>
                  <a:pt x="13246" y="13295"/>
                </a:cubicBezTo>
                <a:cubicBezTo>
                  <a:pt x="13265" y="13334"/>
                  <a:pt x="13290" y="13375"/>
                  <a:pt x="13295" y="13419"/>
                </a:cubicBezTo>
                <a:cubicBezTo>
                  <a:pt x="13300" y="13462"/>
                  <a:pt x="13281" y="13456"/>
                  <a:pt x="13320" y="13469"/>
                </a:cubicBezTo>
              </a:path>
              <a:path w="7021" h="2308">
                <a:moveTo>
                  <a:pt x="12179" y="13643"/>
                </a:moveTo>
                <a:cubicBezTo>
                  <a:pt x="12270" y="13615"/>
                  <a:pt x="12310" y="13593"/>
                  <a:pt x="12402" y="13593"/>
                </a:cubicBezTo>
                <a:cubicBezTo>
                  <a:pt x="12503" y="13593"/>
                  <a:pt x="12602" y="13599"/>
                  <a:pt x="12700" y="13618"/>
                </a:cubicBezTo>
                <a:cubicBezTo>
                  <a:pt x="12818" y="13640"/>
                  <a:pt x="12927" y="13663"/>
                  <a:pt x="13047" y="13667"/>
                </a:cubicBezTo>
                <a:cubicBezTo>
                  <a:pt x="13079" y="13668"/>
                  <a:pt x="13376" y="13688"/>
                  <a:pt x="13370" y="13643"/>
                </a:cubicBezTo>
                <a:cubicBezTo>
                  <a:pt x="13362" y="13635"/>
                  <a:pt x="13353" y="13626"/>
                  <a:pt x="13345" y="13618"/>
                </a:cubicBezTo>
              </a:path>
              <a:path w="7021" h="2308">
                <a:moveTo>
                  <a:pt x="12303" y="13915"/>
                </a:moveTo>
                <a:cubicBezTo>
                  <a:pt x="12313" y="13975"/>
                  <a:pt x="12328" y="13969"/>
                  <a:pt x="12328" y="14039"/>
                </a:cubicBezTo>
                <a:cubicBezTo>
                  <a:pt x="12328" y="14118"/>
                  <a:pt x="12303" y="14198"/>
                  <a:pt x="12303" y="14288"/>
                </a:cubicBezTo>
                <a:cubicBezTo>
                  <a:pt x="12303" y="14357"/>
                  <a:pt x="12278" y="14413"/>
                  <a:pt x="12278" y="14486"/>
                </a:cubicBezTo>
                <a:cubicBezTo>
                  <a:pt x="12278" y="14494"/>
                  <a:pt x="12266" y="14647"/>
                  <a:pt x="12303" y="14635"/>
                </a:cubicBezTo>
                <a:cubicBezTo>
                  <a:pt x="12303" y="14627"/>
                  <a:pt x="12303" y="14618"/>
                  <a:pt x="12303" y="14610"/>
                </a:cubicBezTo>
              </a:path>
              <a:path w="7021" h="2308">
                <a:moveTo>
                  <a:pt x="12700" y="14039"/>
                </a:moveTo>
                <a:cubicBezTo>
                  <a:pt x="12700" y="14090"/>
                  <a:pt x="12699" y="14098"/>
                  <a:pt x="12675" y="14139"/>
                </a:cubicBezTo>
                <a:cubicBezTo>
                  <a:pt x="12648" y="14186"/>
                  <a:pt x="12613" y="14283"/>
                  <a:pt x="12601" y="14337"/>
                </a:cubicBezTo>
                <a:cubicBezTo>
                  <a:pt x="12589" y="14392"/>
                  <a:pt x="12615" y="14471"/>
                  <a:pt x="12650" y="14511"/>
                </a:cubicBezTo>
                <a:cubicBezTo>
                  <a:pt x="12689" y="14556"/>
                  <a:pt x="12744" y="14582"/>
                  <a:pt x="12799" y="14585"/>
                </a:cubicBezTo>
                <a:cubicBezTo>
                  <a:pt x="12884" y="14590"/>
                  <a:pt x="12859" y="14564"/>
                  <a:pt x="12923" y="14536"/>
                </a:cubicBezTo>
                <a:cubicBezTo>
                  <a:pt x="12981" y="14511"/>
                  <a:pt x="12973" y="14506"/>
                  <a:pt x="12973" y="14436"/>
                </a:cubicBezTo>
                <a:cubicBezTo>
                  <a:pt x="12973" y="14383"/>
                  <a:pt x="12961" y="14400"/>
                  <a:pt x="12948" y="14362"/>
                </a:cubicBezTo>
                <a:cubicBezTo>
                  <a:pt x="12894" y="14416"/>
                  <a:pt x="12855" y="14437"/>
                  <a:pt x="12849" y="14511"/>
                </a:cubicBezTo>
                <a:cubicBezTo>
                  <a:pt x="12846" y="14552"/>
                  <a:pt x="12834" y="14610"/>
                  <a:pt x="12874" y="14635"/>
                </a:cubicBezTo>
                <a:cubicBezTo>
                  <a:pt x="12882" y="14635"/>
                  <a:pt x="12890" y="14635"/>
                  <a:pt x="12898" y="14635"/>
                </a:cubicBezTo>
              </a:path>
              <a:path w="7021" h="2308">
                <a:moveTo>
                  <a:pt x="13295" y="13990"/>
                </a:moveTo>
                <a:cubicBezTo>
                  <a:pt x="13215" y="13959"/>
                  <a:pt x="13162" y="13961"/>
                  <a:pt x="13097" y="14039"/>
                </a:cubicBezTo>
                <a:cubicBezTo>
                  <a:pt x="13080" y="14059"/>
                  <a:pt x="13058" y="14131"/>
                  <a:pt x="13072" y="14163"/>
                </a:cubicBezTo>
                <a:cubicBezTo>
                  <a:pt x="13088" y="14202"/>
                  <a:pt x="13141" y="14225"/>
                  <a:pt x="13171" y="14238"/>
                </a:cubicBezTo>
                <a:cubicBezTo>
                  <a:pt x="13226" y="14262"/>
                  <a:pt x="13247" y="14270"/>
                  <a:pt x="13295" y="14238"/>
                </a:cubicBezTo>
                <a:cubicBezTo>
                  <a:pt x="13324" y="14218"/>
                  <a:pt x="13360" y="14168"/>
                  <a:pt x="13370" y="14139"/>
                </a:cubicBezTo>
                <a:cubicBezTo>
                  <a:pt x="13373" y="14130"/>
                  <a:pt x="13370" y="14020"/>
                  <a:pt x="13370" y="14089"/>
                </a:cubicBezTo>
                <a:cubicBezTo>
                  <a:pt x="13370" y="14159"/>
                  <a:pt x="13345" y="14215"/>
                  <a:pt x="13345" y="14288"/>
                </a:cubicBezTo>
                <a:cubicBezTo>
                  <a:pt x="13345" y="14379"/>
                  <a:pt x="13350" y="14451"/>
                  <a:pt x="13370" y="14536"/>
                </a:cubicBezTo>
                <a:cubicBezTo>
                  <a:pt x="13382" y="14587"/>
                  <a:pt x="13406" y="14640"/>
                  <a:pt x="13419" y="14684"/>
                </a:cubicBezTo>
                <a:cubicBezTo>
                  <a:pt x="13432" y="14728"/>
                  <a:pt x="13413" y="14718"/>
                  <a:pt x="13444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1347840"/>
            <a:ext cx="812880" cy="268200"/>
          </a:xfrm>
          <a:custGeom>
            <a:avLst/>
            <a:gdLst/>
            <a:ahLst/>
            <a:rect l="l" t="t" r="r" b="b"/>
            <a:pathLst>
              <a:path w="2258" h="745">
                <a:moveTo>
                  <a:pt x="19248" y="3969"/>
                </a:moveTo>
                <a:cubicBezTo>
                  <a:pt x="19248" y="3944"/>
                  <a:pt x="19248" y="3936"/>
                  <a:pt x="19248" y="3919"/>
                </a:cubicBezTo>
                <a:cubicBezTo>
                  <a:pt x="19198" y="3919"/>
                  <a:pt x="19190" y="3930"/>
                  <a:pt x="19149" y="3944"/>
                </a:cubicBezTo>
                <a:cubicBezTo>
                  <a:pt x="19123" y="3953"/>
                  <a:pt x="19039" y="3991"/>
                  <a:pt x="19025" y="4018"/>
                </a:cubicBezTo>
                <a:cubicBezTo>
                  <a:pt x="19018" y="4033"/>
                  <a:pt x="19025" y="4076"/>
                  <a:pt x="19025" y="4093"/>
                </a:cubicBezTo>
                <a:cubicBezTo>
                  <a:pt x="19079" y="4093"/>
                  <a:pt x="19108" y="4105"/>
                  <a:pt x="19149" y="4142"/>
                </a:cubicBezTo>
                <a:cubicBezTo>
                  <a:pt x="19194" y="4182"/>
                  <a:pt x="19249" y="4210"/>
                  <a:pt x="19273" y="4266"/>
                </a:cubicBezTo>
                <a:cubicBezTo>
                  <a:pt x="19291" y="4310"/>
                  <a:pt x="19276" y="4383"/>
                  <a:pt x="19248" y="4415"/>
                </a:cubicBezTo>
                <a:cubicBezTo>
                  <a:pt x="19215" y="4453"/>
                  <a:pt x="19167" y="4481"/>
                  <a:pt x="19124" y="4490"/>
                </a:cubicBezTo>
                <a:cubicBezTo>
                  <a:pt x="19066" y="4502"/>
                  <a:pt x="18968" y="4503"/>
                  <a:pt x="18926" y="4465"/>
                </a:cubicBezTo>
                <a:cubicBezTo>
                  <a:pt x="18903" y="4442"/>
                  <a:pt x="18895" y="4438"/>
                  <a:pt x="18901" y="4415"/>
                </a:cubicBezTo>
              </a:path>
              <a:path w="2258" h="745">
                <a:moveTo>
                  <a:pt x="19496" y="4068"/>
                </a:moveTo>
                <a:cubicBezTo>
                  <a:pt x="19503" y="4154"/>
                  <a:pt x="19521" y="4229"/>
                  <a:pt x="19521" y="4316"/>
                </a:cubicBezTo>
                <a:cubicBezTo>
                  <a:pt x="19521" y="4350"/>
                  <a:pt x="19541" y="4487"/>
                  <a:pt x="19521" y="4440"/>
                </a:cubicBezTo>
                <a:cubicBezTo>
                  <a:pt x="19513" y="4423"/>
                  <a:pt x="19504" y="4407"/>
                  <a:pt x="19496" y="4390"/>
                </a:cubicBezTo>
              </a:path>
              <a:path w="2258" h="745">
                <a:moveTo>
                  <a:pt x="19546" y="3845"/>
                </a:moveTo>
                <a:cubicBezTo>
                  <a:pt x="19581" y="3819"/>
                  <a:pt x="19577" y="3820"/>
                  <a:pt x="19621" y="3820"/>
                </a:cubicBezTo>
              </a:path>
              <a:path w="2258" h="745">
                <a:moveTo>
                  <a:pt x="19769" y="4242"/>
                </a:moveTo>
                <a:cubicBezTo>
                  <a:pt x="19769" y="4352"/>
                  <a:pt x="19795" y="4374"/>
                  <a:pt x="19745" y="4415"/>
                </a:cubicBezTo>
                <a:cubicBezTo>
                  <a:pt x="19745" y="4456"/>
                  <a:pt x="19745" y="4382"/>
                  <a:pt x="19745" y="4341"/>
                </a:cubicBezTo>
                <a:cubicBezTo>
                  <a:pt x="19745" y="4274"/>
                  <a:pt x="19758" y="4222"/>
                  <a:pt x="19769" y="4167"/>
                </a:cubicBezTo>
                <a:cubicBezTo>
                  <a:pt x="19784" y="4092"/>
                  <a:pt x="19770" y="4029"/>
                  <a:pt x="19844" y="3969"/>
                </a:cubicBezTo>
                <a:cubicBezTo>
                  <a:pt x="19895" y="3928"/>
                  <a:pt x="19953" y="3892"/>
                  <a:pt x="20017" y="3944"/>
                </a:cubicBezTo>
                <a:cubicBezTo>
                  <a:pt x="20050" y="3971"/>
                  <a:pt x="20065" y="4099"/>
                  <a:pt x="20067" y="4142"/>
                </a:cubicBezTo>
                <a:cubicBezTo>
                  <a:pt x="20069" y="4184"/>
                  <a:pt x="20067" y="4401"/>
                  <a:pt x="20067" y="4366"/>
                </a:cubicBezTo>
              </a:path>
              <a:path w="2258" h="745">
                <a:moveTo>
                  <a:pt x="20439" y="3746"/>
                </a:moveTo>
                <a:cubicBezTo>
                  <a:pt x="20439" y="3827"/>
                  <a:pt x="20417" y="3890"/>
                  <a:pt x="20414" y="3969"/>
                </a:cubicBezTo>
                <a:cubicBezTo>
                  <a:pt x="20410" y="4055"/>
                  <a:pt x="20389" y="4130"/>
                  <a:pt x="20389" y="4217"/>
                </a:cubicBezTo>
                <a:cubicBezTo>
                  <a:pt x="20389" y="4266"/>
                  <a:pt x="20384" y="4317"/>
                  <a:pt x="20439" y="4341"/>
                </a:cubicBezTo>
                <a:cubicBezTo>
                  <a:pt x="20475" y="4357"/>
                  <a:pt x="20548" y="4297"/>
                  <a:pt x="20563" y="4266"/>
                </a:cubicBezTo>
                <a:cubicBezTo>
                  <a:pt x="20610" y="4169"/>
                  <a:pt x="20657" y="4074"/>
                  <a:pt x="20662" y="3969"/>
                </a:cubicBezTo>
                <a:cubicBezTo>
                  <a:pt x="20665" y="3900"/>
                  <a:pt x="20654" y="3852"/>
                  <a:pt x="20638" y="3795"/>
                </a:cubicBezTo>
                <a:cubicBezTo>
                  <a:pt x="20621" y="3735"/>
                  <a:pt x="20601" y="3746"/>
                  <a:pt x="20538" y="3746"/>
                </a:cubicBezTo>
                <a:cubicBezTo>
                  <a:pt x="20530" y="3746"/>
                  <a:pt x="20521" y="3746"/>
                  <a:pt x="20513" y="3746"/>
                </a:cubicBezTo>
              </a:path>
              <a:path w="2258" h="745">
                <a:moveTo>
                  <a:pt x="20216" y="4068"/>
                </a:moveTo>
                <a:cubicBezTo>
                  <a:pt x="20283" y="4068"/>
                  <a:pt x="20327" y="4054"/>
                  <a:pt x="20389" y="4043"/>
                </a:cubicBezTo>
                <a:cubicBezTo>
                  <a:pt x="20454" y="4031"/>
                  <a:pt x="20524" y="4023"/>
                  <a:pt x="20588" y="4018"/>
                </a:cubicBezTo>
                <a:cubicBezTo>
                  <a:pt x="20596" y="4018"/>
                  <a:pt x="20605" y="4018"/>
                  <a:pt x="20613" y="4018"/>
                </a:cubicBezTo>
              </a:path>
              <a:path w="2258" h="745">
                <a:moveTo>
                  <a:pt x="20910" y="3944"/>
                </a:moveTo>
                <a:cubicBezTo>
                  <a:pt x="20993" y="3944"/>
                  <a:pt x="21075" y="3944"/>
                  <a:pt x="21158" y="3944"/>
                </a:cubicBezTo>
              </a:path>
              <a:path w="2258" h="745">
                <a:moveTo>
                  <a:pt x="20886" y="4167"/>
                </a:moveTo>
                <a:cubicBezTo>
                  <a:pt x="20942" y="4210"/>
                  <a:pt x="20954" y="4178"/>
                  <a:pt x="21010" y="4167"/>
                </a:cubicBezTo>
                <a:cubicBezTo>
                  <a:pt x="21042" y="4160"/>
                  <a:pt x="21101" y="4167"/>
                  <a:pt x="21134" y="41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83280" y="2044800"/>
            <a:ext cx="581040" cy="214200"/>
          </a:xfrm>
          <a:custGeom>
            <a:avLst/>
            <a:gdLst/>
            <a:ahLst/>
            <a:rect l="l" t="t" r="r" b="b"/>
            <a:pathLst>
              <a:path w="1614" h="597">
                <a:moveTo>
                  <a:pt x="19645" y="5804"/>
                </a:moveTo>
                <a:cubicBezTo>
                  <a:pt x="19665" y="5845"/>
                  <a:pt x="19674" y="5872"/>
                  <a:pt x="19670" y="5829"/>
                </a:cubicBezTo>
                <a:cubicBezTo>
                  <a:pt x="19664" y="5804"/>
                  <a:pt x="19649" y="5744"/>
                  <a:pt x="19621" y="5730"/>
                </a:cubicBezTo>
                <a:cubicBezTo>
                  <a:pt x="19598" y="5719"/>
                  <a:pt x="19572" y="5711"/>
                  <a:pt x="19546" y="5705"/>
                </a:cubicBezTo>
                <a:cubicBezTo>
                  <a:pt x="19474" y="5792"/>
                  <a:pt x="19461" y="5850"/>
                  <a:pt x="19422" y="5953"/>
                </a:cubicBezTo>
                <a:cubicBezTo>
                  <a:pt x="19396" y="6023"/>
                  <a:pt x="19397" y="6076"/>
                  <a:pt x="19397" y="6152"/>
                </a:cubicBezTo>
                <a:cubicBezTo>
                  <a:pt x="19397" y="6193"/>
                  <a:pt x="19431" y="6237"/>
                  <a:pt x="19447" y="6251"/>
                </a:cubicBezTo>
                <a:cubicBezTo>
                  <a:pt x="19499" y="6296"/>
                  <a:pt x="19496" y="6268"/>
                  <a:pt x="19546" y="6251"/>
                </a:cubicBezTo>
                <a:cubicBezTo>
                  <a:pt x="19554" y="6251"/>
                  <a:pt x="19563" y="6251"/>
                  <a:pt x="19571" y="6251"/>
                </a:cubicBezTo>
              </a:path>
              <a:path w="1614" h="597">
                <a:moveTo>
                  <a:pt x="19769" y="5904"/>
                </a:moveTo>
                <a:cubicBezTo>
                  <a:pt x="19769" y="5977"/>
                  <a:pt x="19749" y="6032"/>
                  <a:pt x="19745" y="6102"/>
                </a:cubicBezTo>
                <a:cubicBezTo>
                  <a:pt x="19742" y="6154"/>
                  <a:pt x="19743" y="6212"/>
                  <a:pt x="19769" y="6251"/>
                </a:cubicBezTo>
                <a:cubicBezTo>
                  <a:pt x="19784" y="6274"/>
                  <a:pt x="19841" y="6292"/>
                  <a:pt x="19869" y="6276"/>
                </a:cubicBezTo>
                <a:cubicBezTo>
                  <a:pt x="19908" y="6254"/>
                  <a:pt x="19967" y="6216"/>
                  <a:pt x="19993" y="6176"/>
                </a:cubicBezTo>
                <a:cubicBezTo>
                  <a:pt x="20024" y="6127"/>
                  <a:pt x="20053" y="6010"/>
                  <a:pt x="20042" y="5953"/>
                </a:cubicBezTo>
                <a:cubicBezTo>
                  <a:pt x="20035" y="5918"/>
                  <a:pt x="20005" y="5846"/>
                  <a:pt x="19968" y="5829"/>
                </a:cubicBezTo>
                <a:cubicBezTo>
                  <a:pt x="19935" y="5814"/>
                  <a:pt x="19910" y="5804"/>
                  <a:pt x="19869" y="5804"/>
                </a:cubicBezTo>
                <a:cubicBezTo>
                  <a:pt x="19826" y="5804"/>
                  <a:pt x="19798" y="5849"/>
                  <a:pt x="19769" y="5879"/>
                </a:cubicBezTo>
                <a:cubicBezTo>
                  <a:pt x="19732" y="5917"/>
                  <a:pt x="19742" y="5915"/>
                  <a:pt x="19769" y="5953"/>
                </a:cubicBezTo>
              </a:path>
              <a:path w="1614" h="597">
                <a:moveTo>
                  <a:pt x="20340" y="5730"/>
                </a:moveTo>
                <a:cubicBezTo>
                  <a:pt x="20295" y="5739"/>
                  <a:pt x="20250" y="5749"/>
                  <a:pt x="20216" y="5779"/>
                </a:cubicBezTo>
                <a:cubicBezTo>
                  <a:pt x="20192" y="5800"/>
                  <a:pt x="20141" y="5809"/>
                  <a:pt x="20166" y="5854"/>
                </a:cubicBezTo>
                <a:cubicBezTo>
                  <a:pt x="20193" y="5903"/>
                  <a:pt x="20258" y="5916"/>
                  <a:pt x="20290" y="5953"/>
                </a:cubicBezTo>
                <a:cubicBezTo>
                  <a:pt x="20319" y="5987"/>
                  <a:pt x="20376" y="6056"/>
                  <a:pt x="20365" y="6102"/>
                </a:cubicBezTo>
                <a:cubicBezTo>
                  <a:pt x="20353" y="6154"/>
                  <a:pt x="20284" y="6187"/>
                  <a:pt x="20241" y="6201"/>
                </a:cubicBezTo>
                <a:cubicBezTo>
                  <a:pt x="20204" y="6214"/>
                  <a:pt x="20144" y="6172"/>
                  <a:pt x="20117" y="6152"/>
                </a:cubicBezTo>
              </a:path>
              <a:path w="1614" h="597">
                <a:moveTo>
                  <a:pt x="20762" y="5779"/>
                </a:moveTo>
                <a:cubicBezTo>
                  <a:pt x="20721" y="5867"/>
                  <a:pt x="20667" y="5955"/>
                  <a:pt x="20662" y="6052"/>
                </a:cubicBezTo>
                <a:cubicBezTo>
                  <a:pt x="20659" y="6112"/>
                  <a:pt x="20643" y="6196"/>
                  <a:pt x="20712" y="6226"/>
                </a:cubicBezTo>
                <a:cubicBezTo>
                  <a:pt x="20754" y="6245"/>
                  <a:pt x="20805" y="6217"/>
                  <a:pt x="20836" y="6201"/>
                </a:cubicBezTo>
                <a:cubicBezTo>
                  <a:pt x="20893" y="6171"/>
                  <a:pt x="20969" y="6121"/>
                  <a:pt x="20985" y="6052"/>
                </a:cubicBezTo>
                <a:cubicBezTo>
                  <a:pt x="21001" y="5983"/>
                  <a:pt x="20989" y="5884"/>
                  <a:pt x="20960" y="5829"/>
                </a:cubicBezTo>
                <a:cubicBezTo>
                  <a:pt x="20922" y="5759"/>
                  <a:pt x="20897" y="5751"/>
                  <a:pt x="20836" y="5705"/>
                </a:cubicBezTo>
                <a:cubicBezTo>
                  <a:pt x="20798" y="5676"/>
                  <a:pt x="20785" y="5680"/>
                  <a:pt x="20737" y="5680"/>
                </a:cubicBezTo>
                <a:cubicBezTo>
                  <a:pt x="20683" y="5680"/>
                  <a:pt x="20700" y="5692"/>
                  <a:pt x="20662" y="5705"/>
                </a:cubicBezTo>
              </a:path>
              <a:path w="1614" h="597">
                <a:moveTo>
                  <a:pt x="20513" y="6003"/>
                </a:moveTo>
                <a:cubicBezTo>
                  <a:pt x="20572" y="6003"/>
                  <a:pt x="20634" y="5996"/>
                  <a:pt x="20687" y="5978"/>
                </a:cubicBezTo>
                <a:cubicBezTo>
                  <a:pt x="20753" y="5956"/>
                  <a:pt x="20788" y="5953"/>
                  <a:pt x="20861" y="5953"/>
                </a:cubicBezTo>
                <a:cubicBezTo>
                  <a:pt x="20916" y="5953"/>
                  <a:pt x="20945" y="5963"/>
                  <a:pt x="20985" y="5928"/>
                </a:cubicBezTo>
                <a:cubicBezTo>
                  <a:pt x="20993" y="5920"/>
                  <a:pt x="21002" y="5912"/>
                  <a:pt x="21010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7880" y="2081160"/>
            <a:ext cx="115920" cy="81000"/>
          </a:xfrm>
          <a:custGeom>
            <a:avLst/>
            <a:gdLst/>
            <a:ahLst/>
            <a:rect l="l" t="t" r="r" b="b"/>
            <a:pathLst>
              <a:path w="323" h="225">
                <a:moveTo>
                  <a:pt x="21456" y="5804"/>
                </a:moveTo>
                <a:cubicBezTo>
                  <a:pt x="21549" y="5798"/>
                  <a:pt x="21579" y="5779"/>
                  <a:pt x="21654" y="5779"/>
                </a:cubicBezTo>
                <a:cubicBezTo>
                  <a:pt x="21671" y="5779"/>
                  <a:pt x="21687" y="5779"/>
                  <a:pt x="21704" y="5779"/>
                </a:cubicBezTo>
              </a:path>
              <a:path w="323" h="225">
                <a:moveTo>
                  <a:pt x="21382" y="5978"/>
                </a:moveTo>
                <a:cubicBezTo>
                  <a:pt x="21439" y="6000"/>
                  <a:pt x="21516" y="6021"/>
                  <a:pt x="21580" y="6003"/>
                </a:cubicBezTo>
                <a:cubicBezTo>
                  <a:pt x="21597" y="5995"/>
                  <a:pt x="21613" y="5986"/>
                  <a:pt x="21630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91240" y="2562120"/>
            <a:ext cx="831960" cy="287280"/>
          </a:xfrm>
          <a:custGeom>
            <a:avLst/>
            <a:gdLst/>
            <a:ahLst/>
            <a:rect l="l" t="t" r="r" b="b"/>
            <a:pathLst>
              <a:path w="2308" h="795">
                <a:moveTo>
                  <a:pt x="21059" y="7119"/>
                </a:moveTo>
                <a:cubicBezTo>
                  <a:pt x="21088" y="7225"/>
                  <a:pt x="21063" y="7262"/>
                  <a:pt x="21059" y="7367"/>
                </a:cubicBezTo>
                <a:cubicBezTo>
                  <a:pt x="21057" y="7408"/>
                  <a:pt x="21061" y="7921"/>
                  <a:pt x="21084" y="7913"/>
                </a:cubicBezTo>
                <a:cubicBezTo>
                  <a:pt x="21084" y="7905"/>
                  <a:pt x="21084" y="7896"/>
                  <a:pt x="21084" y="7888"/>
                </a:cubicBezTo>
              </a:path>
              <a:path w="2308" h="795">
                <a:moveTo>
                  <a:pt x="20811" y="7590"/>
                </a:moveTo>
                <a:cubicBezTo>
                  <a:pt x="20823" y="7572"/>
                  <a:pt x="20893" y="7548"/>
                  <a:pt x="20935" y="7541"/>
                </a:cubicBezTo>
                <a:cubicBezTo>
                  <a:pt x="21010" y="7528"/>
                  <a:pt x="21061" y="7543"/>
                  <a:pt x="21134" y="7516"/>
                </a:cubicBezTo>
              </a:path>
              <a:path w="2308" h="795">
                <a:moveTo>
                  <a:pt x="21406" y="7441"/>
                </a:moveTo>
                <a:cubicBezTo>
                  <a:pt x="21468" y="7381"/>
                  <a:pt x="21372" y="7522"/>
                  <a:pt x="21357" y="7541"/>
                </a:cubicBezTo>
                <a:cubicBezTo>
                  <a:pt x="21312" y="7599"/>
                  <a:pt x="21250" y="7662"/>
                  <a:pt x="21233" y="7739"/>
                </a:cubicBezTo>
                <a:cubicBezTo>
                  <a:pt x="21226" y="7771"/>
                  <a:pt x="21229" y="7875"/>
                  <a:pt x="21282" y="7863"/>
                </a:cubicBezTo>
                <a:cubicBezTo>
                  <a:pt x="21304" y="7858"/>
                  <a:pt x="21371" y="7814"/>
                  <a:pt x="21382" y="7789"/>
                </a:cubicBezTo>
                <a:cubicBezTo>
                  <a:pt x="21400" y="7749"/>
                  <a:pt x="21406" y="7715"/>
                  <a:pt x="21406" y="7665"/>
                </a:cubicBezTo>
                <a:cubicBezTo>
                  <a:pt x="21406" y="7589"/>
                  <a:pt x="21406" y="7634"/>
                  <a:pt x="21406" y="7689"/>
                </a:cubicBezTo>
                <a:cubicBezTo>
                  <a:pt x="21406" y="7726"/>
                  <a:pt x="21449" y="7790"/>
                  <a:pt x="21481" y="7813"/>
                </a:cubicBezTo>
                <a:cubicBezTo>
                  <a:pt x="21543" y="7858"/>
                  <a:pt x="21550" y="7827"/>
                  <a:pt x="21605" y="7813"/>
                </a:cubicBezTo>
              </a:path>
              <a:path w="2308" h="795">
                <a:moveTo>
                  <a:pt x="21654" y="7541"/>
                </a:moveTo>
                <a:cubicBezTo>
                  <a:pt x="21673" y="7621"/>
                  <a:pt x="21679" y="7661"/>
                  <a:pt x="21679" y="7739"/>
                </a:cubicBezTo>
                <a:cubicBezTo>
                  <a:pt x="21679" y="7767"/>
                  <a:pt x="21681" y="7778"/>
                  <a:pt x="21704" y="7789"/>
                </a:cubicBezTo>
                <a:cubicBezTo>
                  <a:pt x="21704" y="7736"/>
                  <a:pt x="21724" y="7719"/>
                  <a:pt x="21729" y="7665"/>
                </a:cubicBezTo>
                <a:cubicBezTo>
                  <a:pt x="21733" y="7616"/>
                  <a:pt x="21750" y="7553"/>
                  <a:pt x="21779" y="7516"/>
                </a:cubicBezTo>
                <a:cubicBezTo>
                  <a:pt x="21813" y="7473"/>
                  <a:pt x="21816" y="7423"/>
                  <a:pt x="21878" y="7466"/>
                </a:cubicBezTo>
                <a:cubicBezTo>
                  <a:pt x="21917" y="7493"/>
                  <a:pt x="21967" y="7594"/>
                  <a:pt x="21977" y="7640"/>
                </a:cubicBezTo>
                <a:cubicBezTo>
                  <a:pt x="21984" y="7669"/>
                  <a:pt x="21966" y="7789"/>
                  <a:pt x="22027" y="7789"/>
                </a:cubicBezTo>
                <a:cubicBezTo>
                  <a:pt x="22035" y="7781"/>
                  <a:pt x="22043" y="7772"/>
                  <a:pt x="22051" y="7764"/>
                </a:cubicBezTo>
              </a:path>
              <a:path w="2308" h="795">
                <a:moveTo>
                  <a:pt x="22349" y="7193"/>
                </a:moveTo>
                <a:cubicBezTo>
                  <a:pt x="22307" y="7301"/>
                  <a:pt x="22246" y="7425"/>
                  <a:pt x="22225" y="7541"/>
                </a:cubicBezTo>
                <a:cubicBezTo>
                  <a:pt x="22215" y="7598"/>
                  <a:pt x="22216" y="7672"/>
                  <a:pt x="22250" y="7714"/>
                </a:cubicBezTo>
                <a:cubicBezTo>
                  <a:pt x="22276" y="7746"/>
                  <a:pt x="22330" y="7780"/>
                  <a:pt x="22374" y="7764"/>
                </a:cubicBezTo>
                <a:cubicBezTo>
                  <a:pt x="22448" y="7737"/>
                  <a:pt x="22465" y="7681"/>
                  <a:pt x="22498" y="7615"/>
                </a:cubicBezTo>
                <a:cubicBezTo>
                  <a:pt x="22528" y="7555"/>
                  <a:pt x="22541" y="7459"/>
                  <a:pt x="22523" y="7392"/>
                </a:cubicBezTo>
                <a:cubicBezTo>
                  <a:pt x="22503" y="7316"/>
                  <a:pt x="22444" y="7226"/>
                  <a:pt x="22374" y="7193"/>
                </a:cubicBezTo>
                <a:cubicBezTo>
                  <a:pt x="22325" y="7170"/>
                  <a:pt x="22241" y="7200"/>
                  <a:pt x="22225" y="7218"/>
                </a:cubicBezTo>
                <a:cubicBezTo>
                  <a:pt x="22217" y="7226"/>
                  <a:pt x="22208" y="7235"/>
                  <a:pt x="22200" y="7243"/>
                </a:cubicBezTo>
              </a:path>
              <a:path w="2308" h="795">
                <a:moveTo>
                  <a:pt x="22101" y="7466"/>
                </a:moveTo>
                <a:cubicBezTo>
                  <a:pt x="22216" y="7466"/>
                  <a:pt x="22313" y="7456"/>
                  <a:pt x="22423" y="7441"/>
                </a:cubicBezTo>
                <a:cubicBezTo>
                  <a:pt x="22440" y="7441"/>
                  <a:pt x="22456" y="7441"/>
                  <a:pt x="22473" y="7441"/>
                </a:cubicBezTo>
              </a:path>
              <a:path w="2308" h="795">
                <a:moveTo>
                  <a:pt x="22820" y="7417"/>
                </a:moveTo>
                <a:cubicBezTo>
                  <a:pt x="22900" y="7431"/>
                  <a:pt x="22945" y="7441"/>
                  <a:pt x="23019" y="7441"/>
                </a:cubicBezTo>
              </a:path>
              <a:path w="2308" h="795">
                <a:moveTo>
                  <a:pt x="22796" y="7615"/>
                </a:moveTo>
                <a:cubicBezTo>
                  <a:pt x="22905" y="7641"/>
                  <a:pt x="23006" y="7665"/>
                  <a:pt x="23118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9880" y="2938320"/>
            <a:ext cx="241200" cy="26856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21134" y="8161"/>
                </a:moveTo>
                <a:cubicBezTo>
                  <a:pt x="21176" y="8219"/>
                  <a:pt x="21145" y="8205"/>
                  <a:pt x="21134" y="8260"/>
                </a:cubicBezTo>
                <a:cubicBezTo>
                  <a:pt x="21116" y="8346"/>
                  <a:pt x="21123" y="8449"/>
                  <a:pt x="21109" y="8533"/>
                </a:cubicBezTo>
                <a:cubicBezTo>
                  <a:pt x="21100" y="8584"/>
                  <a:pt x="21092" y="8640"/>
                  <a:pt x="21084" y="8682"/>
                </a:cubicBezTo>
                <a:cubicBezTo>
                  <a:pt x="21082" y="8694"/>
                  <a:pt x="21083" y="8863"/>
                  <a:pt x="21109" y="8830"/>
                </a:cubicBezTo>
                <a:cubicBezTo>
                  <a:pt x="21109" y="8806"/>
                  <a:pt x="21109" y="8797"/>
                  <a:pt x="21109" y="8781"/>
                </a:cubicBezTo>
              </a:path>
              <a:path w="671" h="745">
                <a:moveTo>
                  <a:pt x="21307" y="8285"/>
                </a:moveTo>
                <a:cubicBezTo>
                  <a:pt x="21346" y="8263"/>
                  <a:pt x="21393" y="8223"/>
                  <a:pt x="21431" y="8210"/>
                </a:cubicBezTo>
                <a:cubicBezTo>
                  <a:pt x="21487" y="8191"/>
                  <a:pt x="21538" y="8222"/>
                  <a:pt x="21580" y="8235"/>
                </a:cubicBezTo>
                <a:cubicBezTo>
                  <a:pt x="21599" y="8241"/>
                  <a:pt x="21641" y="8274"/>
                  <a:pt x="21630" y="8310"/>
                </a:cubicBezTo>
                <a:cubicBezTo>
                  <a:pt x="21626" y="8324"/>
                  <a:pt x="21588" y="8428"/>
                  <a:pt x="21580" y="8434"/>
                </a:cubicBezTo>
                <a:cubicBezTo>
                  <a:pt x="21559" y="8448"/>
                  <a:pt x="21518" y="8500"/>
                  <a:pt x="21506" y="8508"/>
                </a:cubicBezTo>
                <a:cubicBezTo>
                  <a:pt x="21475" y="8529"/>
                  <a:pt x="21468" y="8512"/>
                  <a:pt x="21456" y="8558"/>
                </a:cubicBezTo>
                <a:cubicBezTo>
                  <a:pt x="21502" y="8558"/>
                  <a:pt x="21514" y="8538"/>
                  <a:pt x="21555" y="8533"/>
                </a:cubicBezTo>
                <a:cubicBezTo>
                  <a:pt x="21590" y="8529"/>
                  <a:pt x="21629" y="8542"/>
                  <a:pt x="21654" y="8558"/>
                </a:cubicBezTo>
                <a:cubicBezTo>
                  <a:pt x="21700" y="8588"/>
                  <a:pt x="21733" y="8594"/>
                  <a:pt x="21754" y="8657"/>
                </a:cubicBezTo>
                <a:cubicBezTo>
                  <a:pt x="21777" y="8725"/>
                  <a:pt x="21748" y="8763"/>
                  <a:pt x="21704" y="8806"/>
                </a:cubicBezTo>
                <a:cubicBezTo>
                  <a:pt x="21671" y="8839"/>
                  <a:pt x="21637" y="8859"/>
                  <a:pt x="21605" y="8880"/>
                </a:cubicBezTo>
                <a:cubicBezTo>
                  <a:pt x="21561" y="8910"/>
                  <a:pt x="21539" y="8905"/>
                  <a:pt x="21481" y="8905"/>
                </a:cubicBezTo>
                <a:cubicBezTo>
                  <a:pt x="21455" y="8905"/>
                  <a:pt x="21407" y="8879"/>
                  <a:pt x="21406" y="8880"/>
                </a:cubicBezTo>
                <a:cubicBezTo>
                  <a:pt x="21406" y="8888"/>
                  <a:pt x="21406" y="8897"/>
                  <a:pt x="21406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70920" y="4776840"/>
            <a:ext cx="33984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23143" y="13345"/>
                </a:moveTo>
                <a:cubicBezTo>
                  <a:pt x="23098" y="13379"/>
                  <a:pt x="23104" y="13378"/>
                  <a:pt x="23068" y="13419"/>
                </a:cubicBezTo>
                <a:cubicBezTo>
                  <a:pt x="23023" y="13470"/>
                  <a:pt x="23011" y="13538"/>
                  <a:pt x="22969" y="13593"/>
                </a:cubicBezTo>
                <a:cubicBezTo>
                  <a:pt x="22941" y="13630"/>
                  <a:pt x="22923" y="13692"/>
                  <a:pt x="22920" y="13742"/>
                </a:cubicBezTo>
                <a:cubicBezTo>
                  <a:pt x="22915" y="13825"/>
                  <a:pt x="22930" y="13830"/>
                  <a:pt x="22969" y="13891"/>
                </a:cubicBezTo>
                <a:cubicBezTo>
                  <a:pt x="23015" y="13961"/>
                  <a:pt x="23026" y="13954"/>
                  <a:pt x="23093" y="13990"/>
                </a:cubicBezTo>
                <a:cubicBezTo>
                  <a:pt x="23157" y="14024"/>
                  <a:pt x="23186" y="14014"/>
                  <a:pt x="23242" y="13990"/>
                </a:cubicBezTo>
                <a:cubicBezTo>
                  <a:pt x="23313" y="13959"/>
                  <a:pt x="23323" y="13923"/>
                  <a:pt x="23366" y="13866"/>
                </a:cubicBezTo>
                <a:cubicBezTo>
                  <a:pt x="23400" y="13821"/>
                  <a:pt x="23414" y="13751"/>
                  <a:pt x="23416" y="13692"/>
                </a:cubicBezTo>
                <a:cubicBezTo>
                  <a:pt x="23419" y="13617"/>
                  <a:pt x="23407" y="13510"/>
                  <a:pt x="23366" y="13444"/>
                </a:cubicBezTo>
                <a:cubicBezTo>
                  <a:pt x="23341" y="13403"/>
                  <a:pt x="23299" y="13356"/>
                  <a:pt x="23267" y="13320"/>
                </a:cubicBezTo>
                <a:cubicBezTo>
                  <a:pt x="23244" y="13294"/>
                  <a:pt x="23201" y="13275"/>
                  <a:pt x="23168" y="13271"/>
                </a:cubicBezTo>
                <a:cubicBezTo>
                  <a:pt x="23129" y="13267"/>
                  <a:pt x="23101" y="13297"/>
                  <a:pt x="23093" y="13320"/>
                </a:cubicBezTo>
              </a:path>
              <a:path w="944" h="745">
                <a:moveTo>
                  <a:pt x="22696" y="13618"/>
                </a:moveTo>
                <a:cubicBezTo>
                  <a:pt x="22732" y="13640"/>
                  <a:pt x="22799" y="13659"/>
                  <a:pt x="22845" y="13667"/>
                </a:cubicBezTo>
                <a:cubicBezTo>
                  <a:pt x="22923" y="13680"/>
                  <a:pt x="22994" y="13729"/>
                  <a:pt x="23068" y="13742"/>
                </a:cubicBezTo>
                <a:cubicBezTo>
                  <a:pt x="23151" y="13756"/>
                  <a:pt x="23232" y="13779"/>
                  <a:pt x="23316" y="13791"/>
                </a:cubicBezTo>
                <a:cubicBezTo>
                  <a:pt x="23373" y="13799"/>
                  <a:pt x="23436" y="13812"/>
                  <a:pt x="23490" y="13816"/>
                </a:cubicBezTo>
                <a:cubicBezTo>
                  <a:pt x="23510" y="13817"/>
                  <a:pt x="23673" y="13816"/>
                  <a:pt x="23614" y="13816"/>
                </a:cubicBezTo>
                <a:cubicBezTo>
                  <a:pt x="23606" y="13816"/>
                  <a:pt x="23597" y="13816"/>
                  <a:pt x="23589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50080" y="1231920"/>
            <a:ext cx="304920" cy="598320"/>
          </a:xfrm>
          <a:custGeom>
            <a:avLst/>
            <a:gdLst/>
            <a:ahLst/>
            <a:rect l="l" t="t" r="r" b="b"/>
            <a:pathLst>
              <a:path w="845" h="1663">
                <a:moveTo>
                  <a:pt x="21828" y="3497"/>
                </a:moveTo>
                <a:cubicBezTo>
                  <a:pt x="21845" y="3621"/>
                  <a:pt x="21820" y="3676"/>
                  <a:pt x="21803" y="3795"/>
                </a:cubicBezTo>
                <a:cubicBezTo>
                  <a:pt x="21792" y="3872"/>
                  <a:pt x="21769" y="3940"/>
                  <a:pt x="21754" y="4018"/>
                </a:cubicBezTo>
                <a:cubicBezTo>
                  <a:pt x="21752" y="4029"/>
                  <a:pt x="21754" y="4136"/>
                  <a:pt x="21754" y="4068"/>
                </a:cubicBezTo>
                <a:cubicBezTo>
                  <a:pt x="21754" y="4060"/>
                  <a:pt x="21754" y="4051"/>
                  <a:pt x="21754" y="4043"/>
                </a:cubicBezTo>
              </a:path>
              <a:path w="845" h="1663">
                <a:moveTo>
                  <a:pt x="22076" y="3497"/>
                </a:moveTo>
                <a:cubicBezTo>
                  <a:pt x="22114" y="3460"/>
                  <a:pt x="22123" y="3448"/>
                  <a:pt x="22175" y="3448"/>
                </a:cubicBezTo>
                <a:cubicBezTo>
                  <a:pt x="22228" y="3448"/>
                  <a:pt x="22221" y="3442"/>
                  <a:pt x="22275" y="3448"/>
                </a:cubicBezTo>
                <a:cubicBezTo>
                  <a:pt x="22304" y="3451"/>
                  <a:pt x="22320" y="3487"/>
                  <a:pt x="22324" y="3522"/>
                </a:cubicBezTo>
                <a:cubicBezTo>
                  <a:pt x="22329" y="3565"/>
                  <a:pt x="22209" y="3734"/>
                  <a:pt x="22200" y="3746"/>
                </a:cubicBezTo>
                <a:cubicBezTo>
                  <a:pt x="22152" y="3811"/>
                  <a:pt x="22072" y="3862"/>
                  <a:pt x="22027" y="3919"/>
                </a:cubicBezTo>
                <a:cubicBezTo>
                  <a:pt x="22005" y="3946"/>
                  <a:pt x="21962" y="4012"/>
                  <a:pt x="21952" y="4043"/>
                </a:cubicBezTo>
                <a:cubicBezTo>
                  <a:pt x="21952" y="4051"/>
                  <a:pt x="21952" y="4060"/>
                  <a:pt x="21952" y="4068"/>
                </a:cubicBezTo>
                <a:cubicBezTo>
                  <a:pt x="22027" y="4068"/>
                  <a:pt x="22081" y="4061"/>
                  <a:pt x="22151" y="4043"/>
                </a:cubicBezTo>
                <a:cubicBezTo>
                  <a:pt x="22215" y="4027"/>
                  <a:pt x="22307" y="4043"/>
                  <a:pt x="22374" y="4043"/>
                </a:cubicBezTo>
              </a:path>
              <a:path w="845" h="1663">
                <a:moveTo>
                  <a:pt x="21530" y="4291"/>
                </a:moveTo>
                <a:cubicBezTo>
                  <a:pt x="21629" y="4291"/>
                  <a:pt x="21711" y="4281"/>
                  <a:pt x="21803" y="4266"/>
                </a:cubicBezTo>
                <a:cubicBezTo>
                  <a:pt x="21904" y="4249"/>
                  <a:pt x="22023" y="4266"/>
                  <a:pt x="22126" y="4266"/>
                </a:cubicBezTo>
              </a:path>
              <a:path w="845" h="1663">
                <a:moveTo>
                  <a:pt x="21754" y="4539"/>
                </a:moveTo>
                <a:cubicBezTo>
                  <a:pt x="21754" y="4647"/>
                  <a:pt x="21763" y="4692"/>
                  <a:pt x="21779" y="4787"/>
                </a:cubicBezTo>
                <a:cubicBezTo>
                  <a:pt x="21792" y="4865"/>
                  <a:pt x="21779" y="4956"/>
                  <a:pt x="21779" y="5035"/>
                </a:cubicBezTo>
              </a:path>
              <a:path w="845" h="1663">
                <a:moveTo>
                  <a:pt x="21952" y="4638"/>
                </a:moveTo>
                <a:cubicBezTo>
                  <a:pt x="22028" y="4540"/>
                  <a:pt x="22017" y="4514"/>
                  <a:pt x="22126" y="4514"/>
                </a:cubicBezTo>
                <a:cubicBezTo>
                  <a:pt x="22221" y="4514"/>
                  <a:pt x="22234" y="4545"/>
                  <a:pt x="22200" y="4638"/>
                </a:cubicBezTo>
                <a:cubicBezTo>
                  <a:pt x="22179" y="4695"/>
                  <a:pt x="22168" y="4720"/>
                  <a:pt x="22126" y="4762"/>
                </a:cubicBezTo>
                <a:cubicBezTo>
                  <a:pt x="22093" y="4794"/>
                  <a:pt x="22061" y="4807"/>
                  <a:pt x="22051" y="4837"/>
                </a:cubicBezTo>
                <a:cubicBezTo>
                  <a:pt x="22075" y="4829"/>
                  <a:pt x="22098" y="4828"/>
                  <a:pt x="22126" y="4812"/>
                </a:cubicBezTo>
                <a:cubicBezTo>
                  <a:pt x="22176" y="4784"/>
                  <a:pt x="22190" y="4772"/>
                  <a:pt x="22250" y="4812"/>
                </a:cubicBezTo>
                <a:cubicBezTo>
                  <a:pt x="22303" y="4847"/>
                  <a:pt x="22299" y="4878"/>
                  <a:pt x="22299" y="4936"/>
                </a:cubicBezTo>
                <a:cubicBezTo>
                  <a:pt x="22299" y="4989"/>
                  <a:pt x="22288" y="4997"/>
                  <a:pt x="22250" y="5035"/>
                </a:cubicBezTo>
                <a:cubicBezTo>
                  <a:pt x="22211" y="5074"/>
                  <a:pt x="22179" y="5085"/>
                  <a:pt x="22126" y="5085"/>
                </a:cubicBezTo>
                <a:cubicBezTo>
                  <a:pt x="22085" y="5085"/>
                  <a:pt x="22043" y="5085"/>
                  <a:pt x="22002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26280" y="1911240"/>
            <a:ext cx="268560" cy="500040"/>
          </a:xfrm>
          <a:custGeom>
            <a:avLst/>
            <a:gdLst/>
            <a:ahLst/>
            <a:rect l="l" t="t" r="r" b="b"/>
            <a:pathLst>
              <a:path w="745" h="1390">
                <a:moveTo>
                  <a:pt x="22920" y="5333"/>
                </a:moveTo>
                <a:cubicBezTo>
                  <a:pt x="23006" y="5333"/>
                  <a:pt x="23071" y="5332"/>
                  <a:pt x="23143" y="5308"/>
                </a:cubicBezTo>
                <a:cubicBezTo>
                  <a:pt x="23168" y="5308"/>
                  <a:pt x="23176" y="5308"/>
                  <a:pt x="23192" y="5308"/>
                </a:cubicBezTo>
              </a:path>
              <a:path w="745" h="1390">
                <a:moveTo>
                  <a:pt x="22845" y="5333"/>
                </a:moveTo>
                <a:cubicBezTo>
                  <a:pt x="22812" y="5410"/>
                  <a:pt x="22772" y="5492"/>
                  <a:pt x="22796" y="5581"/>
                </a:cubicBezTo>
                <a:cubicBezTo>
                  <a:pt x="22804" y="5610"/>
                  <a:pt x="22833" y="5674"/>
                  <a:pt x="22845" y="5680"/>
                </a:cubicBezTo>
                <a:cubicBezTo>
                  <a:pt x="22880" y="5698"/>
                  <a:pt x="22913" y="5641"/>
                  <a:pt x="22920" y="5631"/>
                </a:cubicBezTo>
                <a:cubicBezTo>
                  <a:pt x="22939" y="5605"/>
                  <a:pt x="22974" y="5584"/>
                  <a:pt x="22994" y="5581"/>
                </a:cubicBezTo>
                <a:cubicBezTo>
                  <a:pt x="23048" y="5574"/>
                  <a:pt x="23084" y="5622"/>
                  <a:pt x="23118" y="5655"/>
                </a:cubicBezTo>
                <a:cubicBezTo>
                  <a:pt x="23155" y="5691"/>
                  <a:pt x="23143" y="5731"/>
                  <a:pt x="23143" y="5779"/>
                </a:cubicBezTo>
                <a:cubicBezTo>
                  <a:pt x="23143" y="5834"/>
                  <a:pt x="23099" y="5833"/>
                  <a:pt x="23068" y="5854"/>
                </a:cubicBezTo>
                <a:cubicBezTo>
                  <a:pt x="23029" y="5881"/>
                  <a:pt x="23019" y="5879"/>
                  <a:pt x="22969" y="5879"/>
                </a:cubicBezTo>
                <a:cubicBezTo>
                  <a:pt x="22944" y="5879"/>
                  <a:pt x="22920" y="5879"/>
                  <a:pt x="22895" y="5879"/>
                </a:cubicBezTo>
              </a:path>
              <a:path w="745" h="1390">
                <a:moveTo>
                  <a:pt x="22572" y="5978"/>
                </a:moveTo>
                <a:cubicBezTo>
                  <a:pt x="22649" y="5968"/>
                  <a:pt x="22714" y="5953"/>
                  <a:pt x="22796" y="5953"/>
                </a:cubicBezTo>
                <a:cubicBezTo>
                  <a:pt x="22881" y="5953"/>
                  <a:pt x="22956" y="5928"/>
                  <a:pt x="23044" y="5928"/>
                </a:cubicBezTo>
                <a:cubicBezTo>
                  <a:pt x="23102" y="5928"/>
                  <a:pt x="23159" y="5928"/>
                  <a:pt x="23217" y="5928"/>
                </a:cubicBezTo>
              </a:path>
              <a:path w="745" h="1390">
                <a:moveTo>
                  <a:pt x="22746" y="6226"/>
                </a:moveTo>
                <a:cubicBezTo>
                  <a:pt x="22742" y="6279"/>
                  <a:pt x="22703" y="6395"/>
                  <a:pt x="22721" y="6449"/>
                </a:cubicBezTo>
                <a:cubicBezTo>
                  <a:pt x="22729" y="6473"/>
                  <a:pt x="22746" y="6605"/>
                  <a:pt x="22746" y="6548"/>
                </a:cubicBezTo>
              </a:path>
              <a:path w="745" h="1390">
                <a:moveTo>
                  <a:pt x="23044" y="6152"/>
                </a:moveTo>
                <a:cubicBezTo>
                  <a:pt x="23100" y="6139"/>
                  <a:pt x="23186" y="6090"/>
                  <a:pt x="23192" y="6176"/>
                </a:cubicBezTo>
                <a:cubicBezTo>
                  <a:pt x="23197" y="6243"/>
                  <a:pt x="23161" y="6278"/>
                  <a:pt x="23118" y="6325"/>
                </a:cubicBezTo>
                <a:cubicBezTo>
                  <a:pt x="23084" y="6362"/>
                  <a:pt x="23106" y="6362"/>
                  <a:pt x="23068" y="6375"/>
                </a:cubicBezTo>
                <a:cubicBezTo>
                  <a:pt x="23130" y="6375"/>
                  <a:pt x="23159" y="6385"/>
                  <a:pt x="23217" y="6400"/>
                </a:cubicBezTo>
                <a:cubicBezTo>
                  <a:pt x="23274" y="6414"/>
                  <a:pt x="23308" y="6460"/>
                  <a:pt x="23316" y="6524"/>
                </a:cubicBezTo>
                <a:cubicBezTo>
                  <a:pt x="23321" y="6568"/>
                  <a:pt x="23288" y="6617"/>
                  <a:pt x="23267" y="6648"/>
                </a:cubicBezTo>
                <a:cubicBezTo>
                  <a:pt x="23250" y="6673"/>
                  <a:pt x="23169" y="6694"/>
                  <a:pt x="23143" y="6697"/>
                </a:cubicBezTo>
                <a:cubicBezTo>
                  <a:pt x="23107" y="6701"/>
                  <a:pt x="23087" y="6672"/>
                  <a:pt x="23044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45680" y="2581200"/>
            <a:ext cx="268200" cy="581040"/>
          </a:xfrm>
          <a:custGeom>
            <a:avLst/>
            <a:gdLst/>
            <a:ahLst/>
            <a:rect l="l" t="t" r="r" b="b"/>
            <a:pathLst>
              <a:path w="745" h="1613">
                <a:moveTo>
                  <a:pt x="23763" y="7169"/>
                </a:moveTo>
                <a:cubicBezTo>
                  <a:pt x="23763" y="7359"/>
                  <a:pt x="23783" y="7559"/>
                  <a:pt x="23738" y="7739"/>
                </a:cubicBezTo>
                <a:cubicBezTo>
                  <a:pt x="23732" y="7765"/>
                  <a:pt x="23738" y="7814"/>
                  <a:pt x="23738" y="7838"/>
                </a:cubicBezTo>
              </a:path>
              <a:path w="745" h="1613">
                <a:moveTo>
                  <a:pt x="24036" y="7268"/>
                </a:moveTo>
                <a:cubicBezTo>
                  <a:pt x="24137" y="7212"/>
                  <a:pt x="24124" y="7214"/>
                  <a:pt x="24209" y="7243"/>
                </a:cubicBezTo>
                <a:cubicBezTo>
                  <a:pt x="24271" y="7264"/>
                  <a:pt x="24280" y="7298"/>
                  <a:pt x="24284" y="7367"/>
                </a:cubicBezTo>
                <a:cubicBezTo>
                  <a:pt x="24288" y="7434"/>
                  <a:pt x="24254" y="7493"/>
                  <a:pt x="24209" y="7541"/>
                </a:cubicBezTo>
                <a:cubicBezTo>
                  <a:pt x="24153" y="7601"/>
                  <a:pt x="24125" y="7641"/>
                  <a:pt x="24061" y="7689"/>
                </a:cubicBezTo>
                <a:cubicBezTo>
                  <a:pt x="24047" y="7700"/>
                  <a:pt x="24013" y="7771"/>
                  <a:pt x="24036" y="7789"/>
                </a:cubicBezTo>
                <a:cubicBezTo>
                  <a:pt x="24060" y="7808"/>
                  <a:pt x="24125" y="7823"/>
                  <a:pt x="24160" y="7813"/>
                </a:cubicBezTo>
                <a:cubicBezTo>
                  <a:pt x="24231" y="7793"/>
                  <a:pt x="24282" y="7789"/>
                  <a:pt x="24358" y="7789"/>
                </a:cubicBezTo>
                <a:cubicBezTo>
                  <a:pt x="24414" y="7789"/>
                  <a:pt x="24428" y="7772"/>
                  <a:pt x="24482" y="7764"/>
                </a:cubicBezTo>
              </a:path>
              <a:path w="745" h="1613">
                <a:moveTo>
                  <a:pt x="23862" y="8037"/>
                </a:moveTo>
                <a:cubicBezTo>
                  <a:pt x="23986" y="8032"/>
                  <a:pt x="24136" y="8038"/>
                  <a:pt x="24259" y="8012"/>
                </a:cubicBezTo>
                <a:cubicBezTo>
                  <a:pt x="24311" y="8001"/>
                  <a:pt x="24370" y="7974"/>
                  <a:pt x="24383" y="7938"/>
                </a:cubicBezTo>
              </a:path>
              <a:path w="745" h="1613">
                <a:moveTo>
                  <a:pt x="23986" y="8186"/>
                </a:moveTo>
                <a:cubicBezTo>
                  <a:pt x="24065" y="8179"/>
                  <a:pt x="24118" y="8156"/>
                  <a:pt x="24185" y="8136"/>
                </a:cubicBezTo>
                <a:cubicBezTo>
                  <a:pt x="24220" y="8125"/>
                  <a:pt x="24209" y="8127"/>
                  <a:pt x="24209" y="8086"/>
                </a:cubicBezTo>
              </a:path>
              <a:path w="745" h="1613">
                <a:moveTo>
                  <a:pt x="23961" y="8235"/>
                </a:moveTo>
                <a:cubicBezTo>
                  <a:pt x="23889" y="8324"/>
                  <a:pt x="23887" y="8311"/>
                  <a:pt x="23887" y="8409"/>
                </a:cubicBezTo>
                <a:cubicBezTo>
                  <a:pt x="23887" y="8417"/>
                  <a:pt x="23887" y="8426"/>
                  <a:pt x="23887" y="8434"/>
                </a:cubicBezTo>
                <a:cubicBezTo>
                  <a:pt x="23938" y="8434"/>
                  <a:pt x="23945" y="8423"/>
                  <a:pt x="23986" y="8409"/>
                </a:cubicBezTo>
                <a:cubicBezTo>
                  <a:pt x="24023" y="8397"/>
                  <a:pt x="24042" y="8384"/>
                  <a:pt x="24085" y="8384"/>
                </a:cubicBezTo>
                <a:cubicBezTo>
                  <a:pt x="24139" y="8384"/>
                  <a:pt x="24178" y="8410"/>
                  <a:pt x="24209" y="8458"/>
                </a:cubicBezTo>
                <a:cubicBezTo>
                  <a:pt x="24232" y="8493"/>
                  <a:pt x="24256" y="8592"/>
                  <a:pt x="24234" y="8632"/>
                </a:cubicBezTo>
                <a:cubicBezTo>
                  <a:pt x="24206" y="8683"/>
                  <a:pt x="24134" y="8730"/>
                  <a:pt x="24085" y="8756"/>
                </a:cubicBezTo>
                <a:cubicBezTo>
                  <a:pt x="24053" y="8773"/>
                  <a:pt x="24000" y="8795"/>
                  <a:pt x="23961" y="8781"/>
                </a:cubicBezTo>
                <a:cubicBezTo>
                  <a:pt x="23916" y="8765"/>
                  <a:pt x="23881" y="8750"/>
                  <a:pt x="23837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35080" y="1482840"/>
            <a:ext cx="573120" cy="536400"/>
          </a:xfrm>
          <a:custGeom>
            <a:avLst/>
            <a:gdLst/>
            <a:ahLst/>
            <a:rect l="l" t="t" r="r" b="b"/>
            <a:pathLst>
              <a:path w="1589" h="1489">
                <a:moveTo>
                  <a:pt x="5730" y="4911"/>
                </a:moveTo>
                <a:cubicBezTo>
                  <a:pt x="5912" y="4911"/>
                  <a:pt x="6376" y="5014"/>
                  <a:pt x="6226" y="4911"/>
                </a:cubicBezTo>
                <a:cubicBezTo>
                  <a:pt x="6218" y="4903"/>
                  <a:pt x="6209" y="4895"/>
                  <a:pt x="6201" y="4887"/>
                </a:cubicBezTo>
              </a:path>
              <a:path w="1589" h="1489">
                <a:moveTo>
                  <a:pt x="5655" y="5209"/>
                </a:moveTo>
                <a:cubicBezTo>
                  <a:pt x="5821" y="5209"/>
                  <a:pt x="5986" y="5209"/>
                  <a:pt x="6152" y="5209"/>
                </a:cubicBezTo>
              </a:path>
              <a:path w="1589" h="1489">
                <a:moveTo>
                  <a:pt x="6722" y="4118"/>
                </a:moveTo>
                <a:cubicBezTo>
                  <a:pt x="6722" y="4146"/>
                  <a:pt x="6749" y="4230"/>
                  <a:pt x="6747" y="4242"/>
                </a:cubicBezTo>
                <a:cubicBezTo>
                  <a:pt x="6738" y="4293"/>
                  <a:pt x="6722" y="4350"/>
                  <a:pt x="6722" y="4415"/>
                </a:cubicBezTo>
                <a:cubicBezTo>
                  <a:pt x="6722" y="4472"/>
                  <a:pt x="6697" y="4525"/>
                  <a:pt x="6697" y="4589"/>
                </a:cubicBezTo>
                <a:cubicBezTo>
                  <a:pt x="6697" y="4599"/>
                  <a:pt x="6697" y="4754"/>
                  <a:pt x="6697" y="4688"/>
                </a:cubicBezTo>
                <a:cubicBezTo>
                  <a:pt x="6697" y="4680"/>
                  <a:pt x="6697" y="4671"/>
                  <a:pt x="6697" y="4663"/>
                </a:cubicBezTo>
              </a:path>
              <a:path w="1589" h="1489">
                <a:moveTo>
                  <a:pt x="6896" y="4217"/>
                </a:moveTo>
                <a:cubicBezTo>
                  <a:pt x="6954" y="4178"/>
                  <a:pt x="6948" y="4193"/>
                  <a:pt x="6995" y="4167"/>
                </a:cubicBezTo>
                <a:cubicBezTo>
                  <a:pt x="7036" y="4144"/>
                  <a:pt x="7043" y="4142"/>
                  <a:pt x="7094" y="4142"/>
                </a:cubicBezTo>
                <a:cubicBezTo>
                  <a:pt x="7120" y="4142"/>
                  <a:pt x="7142" y="4167"/>
                  <a:pt x="7144" y="4192"/>
                </a:cubicBezTo>
                <a:cubicBezTo>
                  <a:pt x="7151" y="4279"/>
                  <a:pt x="7073" y="4400"/>
                  <a:pt x="7020" y="4465"/>
                </a:cubicBezTo>
                <a:cubicBezTo>
                  <a:pt x="6984" y="4510"/>
                  <a:pt x="6948" y="4548"/>
                  <a:pt x="6921" y="4589"/>
                </a:cubicBezTo>
                <a:cubicBezTo>
                  <a:pt x="6890" y="4636"/>
                  <a:pt x="6886" y="4594"/>
                  <a:pt x="6871" y="4638"/>
                </a:cubicBezTo>
                <a:cubicBezTo>
                  <a:pt x="7003" y="4638"/>
                  <a:pt x="7350" y="4691"/>
                  <a:pt x="7243" y="4614"/>
                </a:cubicBezTo>
                <a:cubicBezTo>
                  <a:pt x="7235" y="4614"/>
                  <a:pt x="7226" y="4614"/>
                  <a:pt x="7218" y="4614"/>
                </a:cubicBezTo>
              </a:path>
              <a:path w="1589" h="1489">
                <a:moveTo>
                  <a:pt x="6524" y="4911"/>
                </a:moveTo>
                <a:cubicBezTo>
                  <a:pt x="6573" y="4911"/>
                  <a:pt x="6602" y="4892"/>
                  <a:pt x="6648" y="4887"/>
                </a:cubicBezTo>
                <a:cubicBezTo>
                  <a:pt x="6756" y="4875"/>
                  <a:pt x="6874" y="4879"/>
                  <a:pt x="6970" y="4862"/>
                </a:cubicBezTo>
                <a:cubicBezTo>
                  <a:pt x="7025" y="4852"/>
                  <a:pt x="7241" y="4862"/>
                  <a:pt x="7218" y="4862"/>
                </a:cubicBezTo>
                <a:cubicBezTo>
                  <a:pt x="7210" y="4862"/>
                  <a:pt x="7201" y="4862"/>
                  <a:pt x="7193" y="4862"/>
                </a:cubicBezTo>
              </a:path>
              <a:path w="1589" h="1489">
                <a:moveTo>
                  <a:pt x="6648" y="5135"/>
                </a:moveTo>
                <a:cubicBezTo>
                  <a:pt x="6648" y="5193"/>
                  <a:pt x="6627" y="5229"/>
                  <a:pt x="6623" y="5283"/>
                </a:cubicBezTo>
                <a:cubicBezTo>
                  <a:pt x="6617" y="5368"/>
                  <a:pt x="6623" y="5434"/>
                  <a:pt x="6598" y="5507"/>
                </a:cubicBezTo>
                <a:cubicBezTo>
                  <a:pt x="6592" y="5526"/>
                  <a:pt x="6598" y="5561"/>
                  <a:pt x="6598" y="5581"/>
                </a:cubicBezTo>
                <a:cubicBezTo>
                  <a:pt x="6598" y="5556"/>
                  <a:pt x="6598" y="5548"/>
                  <a:pt x="6598" y="5531"/>
                </a:cubicBezTo>
              </a:path>
              <a:path w="1589" h="1489">
                <a:moveTo>
                  <a:pt x="6796" y="5209"/>
                </a:moveTo>
                <a:cubicBezTo>
                  <a:pt x="6821" y="5175"/>
                  <a:pt x="6828" y="5149"/>
                  <a:pt x="6871" y="5135"/>
                </a:cubicBezTo>
                <a:cubicBezTo>
                  <a:pt x="6908" y="5123"/>
                  <a:pt x="6927" y="5110"/>
                  <a:pt x="6970" y="5110"/>
                </a:cubicBezTo>
                <a:cubicBezTo>
                  <a:pt x="7005" y="5110"/>
                  <a:pt x="7042" y="5132"/>
                  <a:pt x="7045" y="5159"/>
                </a:cubicBezTo>
                <a:cubicBezTo>
                  <a:pt x="7050" y="5200"/>
                  <a:pt x="6997" y="5233"/>
                  <a:pt x="6970" y="5259"/>
                </a:cubicBezTo>
                <a:cubicBezTo>
                  <a:pt x="6959" y="5269"/>
                  <a:pt x="6917" y="5343"/>
                  <a:pt x="6896" y="5333"/>
                </a:cubicBezTo>
                <a:cubicBezTo>
                  <a:pt x="6896" y="5325"/>
                  <a:pt x="6896" y="5316"/>
                  <a:pt x="6896" y="5308"/>
                </a:cubicBezTo>
                <a:cubicBezTo>
                  <a:pt x="6942" y="5308"/>
                  <a:pt x="7016" y="5291"/>
                  <a:pt x="7045" y="5333"/>
                </a:cubicBezTo>
                <a:cubicBezTo>
                  <a:pt x="7060" y="5355"/>
                  <a:pt x="7104" y="5458"/>
                  <a:pt x="7094" y="5482"/>
                </a:cubicBezTo>
                <a:cubicBezTo>
                  <a:pt x="7075" y="5528"/>
                  <a:pt x="7038" y="5553"/>
                  <a:pt x="7020" y="5581"/>
                </a:cubicBezTo>
                <a:cubicBezTo>
                  <a:pt x="6999" y="5613"/>
                  <a:pt x="6996" y="5606"/>
                  <a:pt x="6945" y="5606"/>
                </a:cubicBezTo>
                <a:cubicBezTo>
                  <a:pt x="6900" y="5606"/>
                  <a:pt x="6886" y="5585"/>
                  <a:pt x="6846" y="5581"/>
                </a:cubicBezTo>
                <a:cubicBezTo>
                  <a:pt x="6818" y="5581"/>
                  <a:pt x="6807" y="5579"/>
                  <a:pt x="6796" y="55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66120" y="6107040"/>
            <a:ext cx="79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23540" y="16966"/>
                </a:moveTo>
                <a:cubicBezTo>
                  <a:pt x="23532" y="16966"/>
                  <a:pt x="23523" y="16966"/>
                  <a:pt x="23515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2240" y="3446640"/>
            <a:ext cx="125640" cy="16164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1286" y="9599"/>
                </a:moveTo>
                <a:cubicBezTo>
                  <a:pt x="11326" y="9589"/>
                  <a:pt x="11362" y="9560"/>
                  <a:pt x="11410" y="9575"/>
                </a:cubicBezTo>
                <a:cubicBezTo>
                  <a:pt x="11420" y="9578"/>
                  <a:pt x="11532" y="9619"/>
                  <a:pt x="11534" y="9624"/>
                </a:cubicBezTo>
                <a:cubicBezTo>
                  <a:pt x="11555" y="9683"/>
                  <a:pt x="11486" y="9756"/>
                  <a:pt x="11460" y="9798"/>
                </a:cubicBezTo>
                <a:cubicBezTo>
                  <a:pt x="11436" y="9836"/>
                  <a:pt x="11378" y="9883"/>
                  <a:pt x="11361" y="9922"/>
                </a:cubicBezTo>
                <a:cubicBezTo>
                  <a:pt x="11353" y="9941"/>
                  <a:pt x="11328" y="9974"/>
                  <a:pt x="11361" y="9996"/>
                </a:cubicBezTo>
                <a:cubicBezTo>
                  <a:pt x="11408" y="10028"/>
                  <a:pt x="11548" y="10000"/>
                  <a:pt x="11609" y="10021"/>
                </a:cubicBezTo>
                <a:cubicBezTo>
                  <a:pt x="11650" y="10035"/>
                  <a:pt x="11633" y="10004"/>
                  <a:pt x="11609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Find the exact value of Sin 2u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Cos u = -</a:t>
            </a:r>
            <a:r>
              <a:rPr b="0" lang="en-US" sz="4000" spc="-1" strike="noStrike" baseline="30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for </a:t>
            </a:r>
            <a:r>
              <a:rPr b="0" lang="en-US" sz="4000" spc="-1" strike="noStrike" baseline="30000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&lt;u&lt;</a:t>
            </a:r>
            <a:r>
              <a:rPr b="0" lang="en-US" sz="4000" spc="-1" strike="noStrike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40760" y="1562040"/>
            <a:ext cx="393480" cy="268200"/>
          </a:xfrm>
          <a:custGeom>
            <a:avLst/>
            <a:gdLst/>
            <a:ahLst/>
            <a:rect l="l" t="t" r="r" b="b"/>
            <a:pathLst>
              <a:path w="1093" h="745">
                <a:moveTo>
                  <a:pt x="20389" y="4415"/>
                </a:moveTo>
                <a:cubicBezTo>
                  <a:pt x="20442" y="4363"/>
                  <a:pt x="20463" y="4366"/>
                  <a:pt x="20538" y="4366"/>
                </a:cubicBezTo>
                <a:cubicBezTo>
                  <a:pt x="20621" y="4366"/>
                  <a:pt x="20703" y="4366"/>
                  <a:pt x="20786" y="4366"/>
                </a:cubicBezTo>
              </a:path>
              <a:path w="1093" h="745">
                <a:moveTo>
                  <a:pt x="20563" y="4490"/>
                </a:moveTo>
                <a:cubicBezTo>
                  <a:pt x="20563" y="4514"/>
                  <a:pt x="20581" y="4689"/>
                  <a:pt x="20538" y="4688"/>
                </a:cubicBezTo>
                <a:cubicBezTo>
                  <a:pt x="20513" y="4688"/>
                  <a:pt x="20521" y="4662"/>
                  <a:pt x="20513" y="4638"/>
                </a:cubicBezTo>
              </a:path>
              <a:path w="1093" h="745">
                <a:moveTo>
                  <a:pt x="20563" y="4465"/>
                </a:moveTo>
                <a:cubicBezTo>
                  <a:pt x="20578" y="4537"/>
                  <a:pt x="20571" y="4633"/>
                  <a:pt x="20613" y="4688"/>
                </a:cubicBezTo>
              </a:path>
              <a:path w="1093" h="745">
                <a:moveTo>
                  <a:pt x="20960" y="4341"/>
                </a:moveTo>
                <a:cubicBezTo>
                  <a:pt x="20926" y="4456"/>
                  <a:pt x="20861" y="4596"/>
                  <a:pt x="20836" y="4713"/>
                </a:cubicBezTo>
                <a:cubicBezTo>
                  <a:pt x="20822" y="4778"/>
                  <a:pt x="20829" y="4945"/>
                  <a:pt x="20836" y="4936"/>
                </a:cubicBezTo>
                <a:cubicBezTo>
                  <a:pt x="20844" y="4928"/>
                  <a:pt x="20853" y="4919"/>
                  <a:pt x="20861" y="4911"/>
                </a:cubicBezTo>
              </a:path>
              <a:path w="1093" h="745">
                <a:moveTo>
                  <a:pt x="21010" y="4688"/>
                </a:moveTo>
                <a:cubicBezTo>
                  <a:pt x="21054" y="4688"/>
                  <a:pt x="21175" y="4677"/>
                  <a:pt x="21208" y="4713"/>
                </a:cubicBezTo>
                <a:cubicBezTo>
                  <a:pt x="21249" y="4757"/>
                  <a:pt x="21287" y="4834"/>
                  <a:pt x="21233" y="4887"/>
                </a:cubicBezTo>
                <a:cubicBezTo>
                  <a:pt x="21198" y="4922"/>
                  <a:pt x="21132" y="4959"/>
                  <a:pt x="21109" y="5011"/>
                </a:cubicBezTo>
                <a:cubicBezTo>
                  <a:pt x="21109" y="5019"/>
                  <a:pt x="21109" y="5027"/>
                  <a:pt x="21109" y="5035"/>
                </a:cubicBezTo>
                <a:cubicBezTo>
                  <a:pt x="21154" y="5069"/>
                  <a:pt x="21198" y="5082"/>
                  <a:pt x="21258" y="5085"/>
                </a:cubicBezTo>
                <a:cubicBezTo>
                  <a:pt x="21366" y="5090"/>
                  <a:pt x="21377" y="5080"/>
                  <a:pt x="21481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59720" y="241920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8777" y="6772"/>
                </a:moveTo>
                <a:cubicBezTo>
                  <a:pt x="18841" y="6772"/>
                  <a:pt x="18876" y="6758"/>
                  <a:pt x="18926" y="6747"/>
                </a:cubicBezTo>
                <a:cubicBezTo>
                  <a:pt x="18988" y="6734"/>
                  <a:pt x="19044" y="6739"/>
                  <a:pt x="19100" y="6722"/>
                </a:cubicBezTo>
                <a:cubicBezTo>
                  <a:pt x="19127" y="6714"/>
                  <a:pt x="19171" y="6722"/>
                  <a:pt x="19199" y="6722"/>
                </a:cubicBezTo>
                <a:cubicBezTo>
                  <a:pt x="19170" y="6760"/>
                  <a:pt x="19174" y="6773"/>
                  <a:pt x="19174" y="6821"/>
                </a:cubicBezTo>
                <a:cubicBezTo>
                  <a:pt x="19174" y="6911"/>
                  <a:pt x="19163" y="6985"/>
                  <a:pt x="19149" y="7069"/>
                </a:cubicBezTo>
                <a:cubicBezTo>
                  <a:pt x="19127" y="7202"/>
                  <a:pt x="19149" y="7356"/>
                  <a:pt x="19149" y="74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8160" y="2000160"/>
            <a:ext cx="465120" cy="527040"/>
          </a:xfrm>
          <a:custGeom>
            <a:avLst/>
            <a:gdLst/>
            <a:ahLst/>
            <a:rect l="l" t="t" r="r" b="b"/>
            <a:pathLst>
              <a:path w="1291" h="1465">
                <a:moveTo>
                  <a:pt x="15776" y="5978"/>
                </a:moveTo>
                <a:cubicBezTo>
                  <a:pt x="15776" y="5926"/>
                  <a:pt x="15762" y="5925"/>
                  <a:pt x="15751" y="5904"/>
                </a:cubicBezTo>
                <a:cubicBezTo>
                  <a:pt x="15729" y="5860"/>
                  <a:pt x="15734" y="5854"/>
                  <a:pt x="15677" y="5854"/>
                </a:cubicBezTo>
                <a:cubicBezTo>
                  <a:pt x="15624" y="5854"/>
                  <a:pt x="15597" y="5855"/>
                  <a:pt x="15553" y="5879"/>
                </a:cubicBezTo>
                <a:cubicBezTo>
                  <a:pt x="15496" y="5910"/>
                  <a:pt x="15455" y="5945"/>
                  <a:pt x="15404" y="5978"/>
                </a:cubicBezTo>
                <a:cubicBezTo>
                  <a:pt x="15356" y="6009"/>
                  <a:pt x="15335" y="6044"/>
                  <a:pt x="15329" y="6102"/>
                </a:cubicBezTo>
                <a:cubicBezTo>
                  <a:pt x="15325" y="6137"/>
                  <a:pt x="15338" y="6177"/>
                  <a:pt x="15354" y="6201"/>
                </a:cubicBezTo>
                <a:cubicBezTo>
                  <a:pt x="15376" y="6234"/>
                  <a:pt x="15511" y="6267"/>
                  <a:pt x="15553" y="6276"/>
                </a:cubicBezTo>
                <a:cubicBezTo>
                  <a:pt x="15627" y="6292"/>
                  <a:pt x="15681" y="6315"/>
                  <a:pt x="15751" y="6350"/>
                </a:cubicBezTo>
                <a:cubicBezTo>
                  <a:pt x="15816" y="6383"/>
                  <a:pt x="15853" y="6427"/>
                  <a:pt x="15875" y="6499"/>
                </a:cubicBezTo>
                <a:cubicBezTo>
                  <a:pt x="15893" y="6558"/>
                  <a:pt x="15862" y="6585"/>
                  <a:pt x="15825" y="6623"/>
                </a:cubicBezTo>
                <a:cubicBezTo>
                  <a:pt x="15773" y="6676"/>
                  <a:pt x="15752" y="6672"/>
                  <a:pt x="15677" y="6672"/>
                </a:cubicBezTo>
                <a:cubicBezTo>
                  <a:pt x="15563" y="6672"/>
                  <a:pt x="15461" y="6672"/>
                  <a:pt x="15354" y="6648"/>
                </a:cubicBezTo>
                <a:cubicBezTo>
                  <a:pt x="15309" y="6638"/>
                  <a:pt x="15251" y="6648"/>
                  <a:pt x="15205" y="6648"/>
                </a:cubicBezTo>
                <a:cubicBezTo>
                  <a:pt x="15205" y="6604"/>
                  <a:pt x="15214" y="6563"/>
                  <a:pt x="15230" y="6524"/>
                </a:cubicBezTo>
                <a:cubicBezTo>
                  <a:pt x="15256" y="6459"/>
                  <a:pt x="15255" y="6422"/>
                  <a:pt x="15255" y="6350"/>
                </a:cubicBezTo>
                <a:cubicBezTo>
                  <a:pt x="15255" y="6298"/>
                  <a:pt x="15254" y="6280"/>
                  <a:pt x="15230" y="6251"/>
                </a:cubicBezTo>
              </a:path>
              <a:path w="1291" h="1465">
                <a:moveTo>
                  <a:pt x="14883" y="5829"/>
                </a:moveTo>
                <a:cubicBezTo>
                  <a:pt x="14857" y="5899"/>
                  <a:pt x="14858" y="5937"/>
                  <a:pt x="14858" y="6028"/>
                </a:cubicBezTo>
                <a:cubicBezTo>
                  <a:pt x="14858" y="6185"/>
                  <a:pt x="14862" y="6344"/>
                  <a:pt x="14883" y="6499"/>
                </a:cubicBezTo>
                <a:cubicBezTo>
                  <a:pt x="14900" y="6627"/>
                  <a:pt x="14951" y="6743"/>
                  <a:pt x="14957" y="6871"/>
                </a:cubicBezTo>
                <a:cubicBezTo>
                  <a:pt x="14959" y="6912"/>
                  <a:pt x="14957" y="6954"/>
                  <a:pt x="14957" y="6995"/>
                </a:cubicBezTo>
                <a:cubicBezTo>
                  <a:pt x="14957" y="6923"/>
                  <a:pt x="14969" y="6917"/>
                  <a:pt x="14957" y="6846"/>
                </a:cubicBezTo>
                <a:cubicBezTo>
                  <a:pt x="14934" y="6706"/>
                  <a:pt x="14912" y="6568"/>
                  <a:pt x="14908" y="6424"/>
                </a:cubicBezTo>
                <a:cubicBezTo>
                  <a:pt x="14904" y="6287"/>
                  <a:pt x="14918" y="6160"/>
                  <a:pt x="14932" y="6028"/>
                </a:cubicBezTo>
                <a:cubicBezTo>
                  <a:pt x="14940" y="5955"/>
                  <a:pt x="14923" y="5866"/>
                  <a:pt x="14957" y="5804"/>
                </a:cubicBezTo>
                <a:cubicBezTo>
                  <a:pt x="14977" y="5768"/>
                  <a:pt x="15043" y="5716"/>
                  <a:pt x="15081" y="5705"/>
                </a:cubicBezTo>
                <a:cubicBezTo>
                  <a:pt x="15196" y="5673"/>
                  <a:pt x="15332" y="5641"/>
                  <a:pt x="15453" y="5631"/>
                </a:cubicBezTo>
                <a:cubicBezTo>
                  <a:pt x="15583" y="5620"/>
                  <a:pt x="15723" y="5608"/>
                  <a:pt x="15850" y="5581"/>
                </a:cubicBezTo>
                <a:cubicBezTo>
                  <a:pt x="15912" y="5568"/>
                  <a:pt x="15941" y="5562"/>
                  <a:pt x="15999" y="5556"/>
                </a:cubicBezTo>
                <a:cubicBezTo>
                  <a:pt x="16011" y="5589"/>
                  <a:pt x="16012" y="5620"/>
                  <a:pt x="16024" y="5655"/>
                </a:cubicBezTo>
                <a:cubicBezTo>
                  <a:pt x="16056" y="5751"/>
                  <a:pt x="16062" y="5875"/>
                  <a:pt x="16073" y="5978"/>
                </a:cubicBezTo>
                <a:cubicBezTo>
                  <a:pt x="16085" y="6086"/>
                  <a:pt x="16111" y="6193"/>
                  <a:pt x="16123" y="6300"/>
                </a:cubicBezTo>
                <a:cubicBezTo>
                  <a:pt x="16130" y="6369"/>
                  <a:pt x="16154" y="6515"/>
                  <a:pt x="16148" y="6573"/>
                </a:cubicBezTo>
                <a:cubicBezTo>
                  <a:pt x="16142" y="6631"/>
                  <a:pt x="16123" y="6682"/>
                  <a:pt x="16123" y="6747"/>
                </a:cubicBezTo>
                <a:cubicBezTo>
                  <a:pt x="16123" y="6799"/>
                  <a:pt x="16127" y="6798"/>
                  <a:pt x="16098" y="6821"/>
                </a:cubicBezTo>
                <a:cubicBezTo>
                  <a:pt x="16050" y="6859"/>
                  <a:pt x="15990" y="6868"/>
                  <a:pt x="15925" y="6871"/>
                </a:cubicBezTo>
                <a:cubicBezTo>
                  <a:pt x="15765" y="6878"/>
                  <a:pt x="15609" y="6878"/>
                  <a:pt x="15453" y="6896"/>
                </a:cubicBezTo>
                <a:cubicBezTo>
                  <a:pt x="15340" y="6909"/>
                  <a:pt x="15046" y="6846"/>
                  <a:pt x="14982" y="6921"/>
                </a:cubicBezTo>
                <a:cubicBezTo>
                  <a:pt x="14982" y="6949"/>
                  <a:pt x="14979" y="6959"/>
                  <a:pt x="14957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46800" y="3483000"/>
            <a:ext cx="12528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15131" y="9798"/>
                </a:moveTo>
                <a:cubicBezTo>
                  <a:pt x="15131" y="9790"/>
                  <a:pt x="15131" y="9781"/>
                  <a:pt x="15131" y="9773"/>
                </a:cubicBezTo>
                <a:cubicBezTo>
                  <a:pt x="15188" y="9773"/>
                  <a:pt x="15252" y="9766"/>
                  <a:pt x="15304" y="9748"/>
                </a:cubicBezTo>
                <a:cubicBezTo>
                  <a:pt x="15342" y="9735"/>
                  <a:pt x="15422" y="9718"/>
                  <a:pt x="15453" y="9699"/>
                </a:cubicBezTo>
                <a:cubicBezTo>
                  <a:pt x="15461" y="9691"/>
                  <a:pt x="15470" y="9682"/>
                  <a:pt x="15478" y="9674"/>
                </a:cubicBezTo>
              </a:path>
              <a:path w="348" h="472">
                <a:moveTo>
                  <a:pt x="15156" y="9897"/>
                </a:moveTo>
                <a:cubicBezTo>
                  <a:pt x="15168" y="9983"/>
                  <a:pt x="15282" y="10185"/>
                  <a:pt x="15205" y="10145"/>
                </a:cubicBezTo>
                <a:cubicBezTo>
                  <a:pt x="15197" y="10137"/>
                  <a:pt x="15188" y="10128"/>
                  <a:pt x="15180" y="10120"/>
                </a:cubicBezTo>
              </a:path>
              <a:path w="348" h="472">
                <a:moveTo>
                  <a:pt x="15205" y="9699"/>
                </a:moveTo>
                <a:cubicBezTo>
                  <a:pt x="15264" y="9824"/>
                  <a:pt x="15264" y="9919"/>
                  <a:pt x="15304" y="10046"/>
                </a:cubicBezTo>
                <a:cubicBezTo>
                  <a:pt x="15328" y="10094"/>
                  <a:pt x="15336" y="10108"/>
                  <a:pt x="15329" y="101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26080" y="2724120"/>
            <a:ext cx="465120" cy="32076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15652" y="7838"/>
                </a:moveTo>
                <a:cubicBezTo>
                  <a:pt x="15665" y="7798"/>
                  <a:pt x="15691" y="7813"/>
                  <a:pt x="15726" y="7789"/>
                </a:cubicBezTo>
                <a:cubicBezTo>
                  <a:pt x="15764" y="7764"/>
                  <a:pt x="15798" y="7729"/>
                  <a:pt x="15850" y="7739"/>
                </a:cubicBezTo>
                <a:cubicBezTo>
                  <a:pt x="15899" y="7748"/>
                  <a:pt x="15968" y="7783"/>
                  <a:pt x="15949" y="7838"/>
                </a:cubicBezTo>
                <a:cubicBezTo>
                  <a:pt x="15935" y="7878"/>
                  <a:pt x="15930" y="7928"/>
                  <a:pt x="15900" y="7962"/>
                </a:cubicBezTo>
                <a:cubicBezTo>
                  <a:pt x="15873" y="7992"/>
                  <a:pt x="15815" y="8007"/>
                  <a:pt x="15801" y="8037"/>
                </a:cubicBezTo>
                <a:cubicBezTo>
                  <a:pt x="15784" y="8073"/>
                  <a:pt x="15725" y="8076"/>
                  <a:pt x="15776" y="8062"/>
                </a:cubicBezTo>
                <a:cubicBezTo>
                  <a:pt x="15810" y="8053"/>
                  <a:pt x="15843" y="8041"/>
                  <a:pt x="15875" y="8037"/>
                </a:cubicBezTo>
                <a:cubicBezTo>
                  <a:pt x="15937" y="8030"/>
                  <a:pt x="15955" y="8068"/>
                  <a:pt x="15999" y="8111"/>
                </a:cubicBezTo>
                <a:cubicBezTo>
                  <a:pt x="16014" y="8126"/>
                  <a:pt x="16052" y="8217"/>
                  <a:pt x="16049" y="8235"/>
                </a:cubicBezTo>
                <a:cubicBezTo>
                  <a:pt x="16045" y="8256"/>
                  <a:pt x="16018" y="8347"/>
                  <a:pt x="15999" y="8359"/>
                </a:cubicBezTo>
                <a:cubicBezTo>
                  <a:pt x="15960" y="8383"/>
                  <a:pt x="15925" y="8405"/>
                  <a:pt x="15875" y="8409"/>
                </a:cubicBezTo>
                <a:cubicBezTo>
                  <a:pt x="15799" y="8415"/>
                  <a:pt x="15739" y="8405"/>
                  <a:pt x="15677" y="8384"/>
                </a:cubicBezTo>
                <a:cubicBezTo>
                  <a:pt x="15628" y="8368"/>
                  <a:pt x="15627" y="8399"/>
                  <a:pt x="15627" y="8334"/>
                </a:cubicBezTo>
              </a:path>
              <a:path w="1291" h="894">
                <a:moveTo>
                  <a:pt x="16123" y="7962"/>
                </a:moveTo>
                <a:cubicBezTo>
                  <a:pt x="16147" y="8051"/>
                  <a:pt x="16148" y="8117"/>
                  <a:pt x="16148" y="8210"/>
                </a:cubicBezTo>
                <a:cubicBezTo>
                  <a:pt x="16148" y="8269"/>
                  <a:pt x="16138" y="8289"/>
                  <a:pt x="16123" y="8334"/>
                </a:cubicBezTo>
                <a:cubicBezTo>
                  <a:pt x="16108" y="8377"/>
                  <a:pt x="16123" y="8398"/>
                  <a:pt x="16123" y="8334"/>
                </a:cubicBezTo>
                <a:cubicBezTo>
                  <a:pt x="16123" y="8275"/>
                  <a:pt x="16140" y="8241"/>
                  <a:pt x="16148" y="8186"/>
                </a:cubicBezTo>
                <a:cubicBezTo>
                  <a:pt x="16162" y="8094"/>
                  <a:pt x="16141" y="7998"/>
                  <a:pt x="16123" y="7913"/>
                </a:cubicBezTo>
                <a:cubicBezTo>
                  <a:pt x="16111" y="7859"/>
                  <a:pt x="16134" y="7830"/>
                  <a:pt x="16148" y="7789"/>
                </a:cubicBezTo>
                <a:cubicBezTo>
                  <a:pt x="16157" y="7762"/>
                  <a:pt x="16151" y="7707"/>
                  <a:pt x="16173" y="7689"/>
                </a:cubicBezTo>
                <a:cubicBezTo>
                  <a:pt x="16181" y="7682"/>
                  <a:pt x="16260" y="7643"/>
                  <a:pt x="16272" y="7640"/>
                </a:cubicBezTo>
                <a:cubicBezTo>
                  <a:pt x="16320" y="7629"/>
                  <a:pt x="16373" y="7631"/>
                  <a:pt x="16421" y="7615"/>
                </a:cubicBezTo>
                <a:cubicBezTo>
                  <a:pt x="16485" y="7594"/>
                  <a:pt x="16525" y="7590"/>
                  <a:pt x="16594" y="7590"/>
                </a:cubicBezTo>
                <a:cubicBezTo>
                  <a:pt x="16655" y="7590"/>
                  <a:pt x="16705" y="7569"/>
                  <a:pt x="16768" y="7565"/>
                </a:cubicBezTo>
                <a:cubicBezTo>
                  <a:pt x="16825" y="7561"/>
                  <a:pt x="16847" y="7575"/>
                  <a:pt x="16892" y="7590"/>
                </a:cubicBezTo>
                <a:cubicBezTo>
                  <a:pt x="16900" y="7590"/>
                  <a:pt x="16909" y="7590"/>
                  <a:pt x="16917" y="7590"/>
                </a:cubicBezTo>
              </a:path>
              <a:path w="1291" h="894">
                <a:moveTo>
                  <a:pt x="16396" y="7838"/>
                </a:moveTo>
                <a:cubicBezTo>
                  <a:pt x="16480" y="7874"/>
                  <a:pt x="16448" y="7846"/>
                  <a:pt x="16520" y="7838"/>
                </a:cubicBezTo>
                <a:cubicBezTo>
                  <a:pt x="16569" y="7833"/>
                  <a:pt x="16602" y="7818"/>
                  <a:pt x="16644" y="7813"/>
                </a:cubicBezTo>
                <a:cubicBezTo>
                  <a:pt x="16652" y="7813"/>
                  <a:pt x="16661" y="7813"/>
                  <a:pt x="16669" y="7813"/>
                </a:cubicBezTo>
              </a:path>
              <a:path w="1291" h="894">
                <a:moveTo>
                  <a:pt x="16371" y="7863"/>
                </a:moveTo>
                <a:cubicBezTo>
                  <a:pt x="16371" y="7947"/>
                  <a:pt x="16374" y="8014"/>
                  <a:pt x="16396" y="8086"/>
                </a:cubicBezTo>
                <a:cubicBezTo>
                  <a:pt x="16396" y="8111"/>
                  <a:pt x="16396" y="8119"/>
                  <a:pt x="16396" y="8136"/>
                </a:cubicBezTo>
                <a:cubicBezTo>
                  <a:pt x="16405" y="8133"/>
                  <a:pt x="16464" y="8095"/>
                  <a:pt x="16470" y="8086"/>
                </a:cubicBezTo>
                <a:cubicBezTo>
                  <a:pt x="16486" y="8062"/>
                  <a:pt x="16501" y="8042"/>
                  <a:pt x="16545" y="8037"/>
                </a:cubicBezTo>
                <a:cubicBezTo>
                  <a:pt x="16587" y="8032"/>
                  <a:pt x="16596" y="8046"/>
                  <a:pt x="16619" y="8062"/>
                </a:cubicBezTo>
                <a:cubicBezTo>
                  <a:pt x="16664" y="8095"/>
                  <a:pt x="16648" y="8144"/>
                  <a:pt x="16669" y="8186"/>
                </a:cubicBezTo>
                <a:cubicBezTo>
                  <a:pt x="16690" y="8228"/>
                  <a:pt x="16694" y="8234"/>
                  <a:pt x="16694" y="8285"/>
                </a:cubicBezTo>
                <a:cubicBezTo>
                  <a:pt x="16694" y="8354"/>
                  <a:pt x="16692" y="8361"/>
                  <a:pt x="16644" y="8409"/>
                </a:cubicBezTo>
                <a:cubicBezTo>
                  <a:pt x="16618" y="8435"/>
                  <a:pt x="16554" y="8454"/>
                  <a:pt x="16520" y="8458"/>
                </a:cubicBezTo>
                <a:cubicBezTo>
                  <a:pt x="16507" y="8459"/>
                  <a:pt x="16434" y="8441"/>
                  <a:pt x="16421" y="8434"/>
                </a:cubicBezTo>
                <a:cubicBezTo>
                  <a:pt x="16398" y="8411"/>
                  <a:pt x="16390" y="8400"/>
                  <a:pt x="16396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0240" y="3251160"/>
            <a:ext cx="598680" cy="579600"/>
          </a:xfrm>
          <a:custGeom>
            <a:avLst/>
            <a:gdLst/>
            <a:ahLst/>
            <a:rect l="l" t="t" r="r" b="b"/>
            <a:pathLst>
              <a:path w="1663" h="1613">
                <a:moveTo>
                  <a:pt x="18083" y="10120"/>
                </a:moveTo>
                <a:cubicBezTo>
                  <a:pt x="18152" y="10120"/>
                  <a:pt x="18363" y="10146"/>
                  <a:pt x="18380" y="10096"/>
                </a:cubicBezTo>
              </a:path>
              <a:path w="1663" h="1613">
                <a:moveTo>
                  <a:pt x="18554" y="9996"/>
                </a:moveTo>
                <a:cubicBezTo>
                  <a:pt x="18567" y="9957"/>
                  <a:pt x="18576" y="9968"/>
                  <a:pt x="18604" y="9947"/>
                </a:cubicBezTo>
                <a:cubicBezTo>
                  <a:pt x="18652" y="9911"/>
                  <a:pt x="18643" y="9902"/>
                  <a:pt x="18703" y="9897"/>
                </a:cubicBezTo>
                <a:cubicBezTo>
                  <a:pt x="18752" y="9893"/>
                  <a:pt x="18803" y="9897"/>
                  <a:pt x="18852" y="9897"/>
                </a:cubicBezTo>
                <a:cubicBezTo>
                  <a:pt x="18852" y="9960"/>
                  <a:pt x="18844" y="9994"/>
                  <a:pt x="18827" y="10046"/>
                </a:cubicBezTo>
                <a:cubicBezTo>
                  <a:pt x="18819" y="10071"/>
                  <a:pt x="18815" y="10122"/>
                  <a:pt x="18802" y="10145"/>
                </a:cubicBezTo>
                <a:cubicBezTo>
                  <a:pt x="18781" y="10182"/>
                  <a:pt x="18741" y="10204"/>
                  <a:pt x="18728" y="10244"/>
                </a:cubicBezTo>
                <a:cubicBezTo>
                  <a:pt x="18716" y="10282"/>
                  <a:pt x="18706" y="10313"/>
                  <a:pt x="18678" y="10344"/>
                </a:cubicBezTo>
                <a:cubicBezTo>
                  <a:pt x="18658" y="10366"/>
                  <a:pt x="18616" y="10414"/>
                  <a:pt x="18604" y="10443"/>
                </a:cubicBezTo>
                <a:cubicBezTo>
                  <a:pt x="18598" y="10457"/>
                  <a:pt x="18560" y="10562"/>
                  <a:pt x="18554" y="10567"/>
                </a:cubicBezTo>
                <a:cubicBezTo>
                  <a:pt x="18522" y="10593"/>
                  <a:pt x="18522" y="10678"/>
                  <a:pt x="18504" y="10641"/>
                </a:cubicBezTo>
                <a:cubicBezTo>
                  <a:pt x="18483" y="10600"/>
                  <a:pt x="18559" y="10616"/>
                  <a:pt x="18579" y="10616"/>
                </a:cubicBezTo>
                <a:cubicBezTo>
                  <a:pt x="18684" y="10616"/>
                  <a:pt x="18778" y="10616"/>
                  <a:pt x="18876" y="10641"/>
                </a:cubicBezTo>
                <a:cubicBezTo>
                  <a:pt x="18925" y="10653"/>
                  <a:pt x="19013" y="10653"/>
                  <a:pt x="19025" y="10616"/>
                </a:cubicBezTo>
              </a:path>
              <a:path w="1663" h="1613">
                <a:moveTo>
                  <a:pt x="19348" y="9054"/>
                </a:moveTo>
                <a:cubicBezTo>
                  <a:pt x="19348" y="9101"/>
                  <a:pt x="19331" y="9117"/>
                  <a:pt x="19323" y="9153"/>
                </a:cubicBezTo>
                <a:cubicBezTo>
                  <a:pt x="19307" y="9226"/>
                  <a:pt x="19270" y="9279"/>
                  <a:pt x="19248" y="9351"/>
                </a:cubicBezTo>
                <a:cubicBezTo>
                  <a:pt x="19231" y="9404"/>
                  <a:pt x="19254" y="9532"/>
                  <a:pt x="19273" y="9575"/>
                </a:cubicBezTo>
                <a:cubicBezTo>
                  <a:pt x="19298" y="9630"/>
                  <a:pt x="19338" y="9605"/>
                  <a:pt x="19372" y="9624"/>
                </a:cubicBezTo>
                <a:cubicBezTo>
                  <a:pt x="19414" y="9648"/>
                  <a:pt x="19472" y="9631"/>
                  <a:pt x="19521" y="9599"/>
                </a:cubicBezTo>
                <a:cubicBezTo>
                  <a:pt x="19577" y="9562"/>
                  <a:pt x="19582" y="9500"/>
                  <a:pt x="19621" y="9451"/>
                </a:cubicBezTo>
                <a:cubicBezTo>
                  <a:pt x="19668" y="9393"/>
                  <a:pt x="19670" y="9382"/>
                  <a:pt x="19670" y="9302"/>
                </a:cubicBezTo>
                <a:cubicBezTo>
                  <a:pt x="19670" y="9249"/>
                  <a:pt x="19651" y="9174"/>
                  <a:pt x="19621" y="9128"/>
                </a:cubicBezTo>
                <a:cubicBezTo>
                  <a:pt x="19602" y="9099"/>
                  <a:pt x="19480" y="9026"/>
                  <a:pt x="19447" y="9029"/>
                </a:cubicBezTo>
                <a:cubicBezTo>
                  <a:pt x="19423" y="9031"/>
                  <a:pt x="19386" y="9054"/>
                  <a:pt x="19348" y="9054"/>
                </a:cubicBezTo>
              </a:path>
              <a:path w="1663" h="1613">
                <a:moveTo>
                  <a:pt x="19000" y="9277"/>
                </a:moveTo>
                <a:cubicBezTo>
                  <a:pt x="19074" y="9277"/>
                  <a:pt x="19126" y="9291"/>
                  <a:pt x="19199" y="9302"/>
                </a:cubicBezTo>
                <a:cubicBezTo>
                  <a:pt x="19297" y="9316"/>
                  <a:pt x="19399" y="9313"/>
                  <a:pt x="19496" y="9327"/>
                </a:cubicBezTo>
                <a:cubicBezTo>
                  <a:pt x="19569" y="9337"/>
                  <a:pt x="19689" y="9344"/>
                  <a:pt x="19745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4880" y="4232160"/>
            <a:ext cx="1714320" cy="455760"/>
          </a:xfrm>
          <a:custGeom>
            <a:avLst/>
            <a:gdLst/>
            <a:ahLst/>
            <a:rect l="l" t="t" r="r" b="b"/>
            <a:pathLst>
              <a:path w="4764" h="1266">
                <a:moveTo>
                  <a:pt x="15379" y="12502"/>
                </a:moveTo>
                <a:cubicBezTo>
                  <a:pt x="15379" y="12442"/>
                  <a:pt x="15364" y="12409"/>
                  <a:pt x="15354" y="12353"/>
                </a:cubicBezTo>
                <a:cubicBezTo>
                  <a:pt x="15344" y="12294"/>
                  <a:pt x="15321" y="12279"/>
                  <a:pt x="15304" y="12229"/>
                </a:cubicBezTo>
                <a:cubicBezTo>
                  <a:pt x="15279" y="12154"/>
                  <a:pt x="15252" y="12188"/>
                  <a:pt x="15205" y="12204"/>
                </a:cubicBezTo>
                <a:cubicBezTo>
                  <a:pt x="15163" y="12218"/>
                  <a:pt x="15141" y="12244"/>
                  <a:pt x="15106" y="12278"/>
                </a:cubicBezTo>
                <a:cubicBezTo>
                  <a:pt x="15059" y="12324"/>
                  <a:pt x="15036" y="12393"/>
                  <a:pt x="15007" y="12452"/>
                </a:cubicBezTo>
                <a:cubicBezTo>
                  <a:pt x="14964" y="12537"/>
                  <a:pt x="14957" y="12579"/>
                  <a:pt x="14957" y="12675"/>
                </a:cubicBezTo>
                <a:cubicBezTo>
                  <a:pt x="14957" y="12721"/>
                  <a:pt x="14937" y="12796"/>
                  <a:pt x="14982" y="12824"/>
                </a:cubicBezTo>
                <a:cubicBezTo>
                  <a:pt x="15033" y="12855"/>
                  <a:pt x="15035" y="12839"/>
                  <a:pt x="15081" y="12824"/>
                </a:cubicBezTo>
                <a:cubicBezTo>
                  <a:pt x="15117" y="12812"/>
                  <a:pt x="15156" y="12788"/>
                  <a:pt x="15180" y="12750"/>
                </a:cubicBezTo>
                <a:cubicBezTo>
                  <a:pt x="15217" y="12693"/>
                  <a:pt x="15248" y="12630"/>
                  <a:pt x="15280" y="12576"/>
                </a:cubicBezTo>
                <a:cubicBezTo>
                  <a:pt x="15298" y="12545"/>
                  <a:pt x="15276" y="12499"/>
                  <a:pt x="15304" y="12477"/>
                </a:cubicBezTo>
                <a:cubicBezTo>
                  <a:pt x="15329" y="12477"/>
                  <a:pt x="15337" y="12477"/>
                  <a:pt x="15329" y="12452"/>
                </a:cubicBezTo>
                <a:cubicBezTo>
                  <a:pt x="15329" y="12520"/>
                  <a:pt x="15338" y="12563"/>
                  <a:pt x="15354" y="12626"/>
                </a:cubicBezTo>
                <a:cubicBezTo>
                  <a:pt x="15369" y="12687"/>
                  <a:pt x="15384" y="12713"/>
                  <a:pt x="15404" y="12774"/>
                </a:cubicBezTo>
                <a:cubicBezTo>
                  <a:pt x="15412" y="12797"/>
                  <a:pt x="15452" y="12887"/>
                  <a:pt x="15478" y="12874"/>
                </a:cubicBezTo>
                <a:cubicBezTo>
                  <a:pt x="15486" y="12866"/>
                  <a:pt x="15495" y="12857"/>
                  <a:pt x="15503" y="12849"/>
                </a:cubicBezTo>
              </a:path>
              <a:path w="4764" h="1266">
                <a:moveTo>
                  <a:pt x="15404" y="11807"/>
                </a:moveTo>
                <a:cubicBezTo>
                  <a:pt x="15465" y="11754"/>
                  <a:pt x="15456" y="11757"/>
                  <a:pt x="15528" y="11757"/>
                </a:cubicBezTo>
                <a:cubicBezTo>
                  <a:pt x="15565" y="11757"/>
                  <a:pt x="15577" y="11781"/>
                  <a:pt x="15602" y="11807"/>
                </a:cubicBezTo>
              </a:path>
              <a:path w="4764" h="1266">
                <a:moveTo>
                  <a:pt x="15553" y="11906"/>
                </a:moveTo>
                <a:cubicBezTo>
                  <a:pt x="15518" y="11941"/>
                  <a:pt x="15468" y="11985"/>
                  <a:pt x="15453" y="12030"/>
                </a:cubicBezTo>
                <a:cubicBezTo>
                  <a:pt x="15453" y="12038"/>
                  <a:pt x="15453" y="12047"/>
                  <a:pt x="15453" y="12055"/>
                </a:cubicBezTo>
                <a:cubicBezTo>
                  <a:pt x="15477" y="12091"/>
                  <a:pt x="15520" y="12080"/>
                  <a:pt x="15577" y="12080"/>
                </a:cubicBezTo>
                <a:cubicBezTo>
                  <a:pt x="15610" y="12080"/>
                  <a:pt x="15644" y="12080"/>
                  <a:pt x="15677" y="12080"/>
                </a:cubicBezTo>
              </a:path>
              <a:path w="4764" h="1266">
                <a:moveTo>
                  <a:pt x="16024" y="12055"/>
                </a:moveTo>
                <a:cubicBezTo>
                  <a:pt x="16054" y="12105"/>
                  <a:pt x="16049" y="12142"/>
                  <a:pt x="16049" y="12204"/>
                </a:cubicBezTo>
                <a:cubicBezTo>
                  <a:pt x="16049" y="12289"/>
                  <a:pt x="16049" y="12659"/>
                  <a:pt x="16049" y="12576"/>
                </a:cubicBezTo>
              </a:path>
              <a:path w="4764" h="1266">
                <a:moveTo>
                  <a:pt x="15825" y="12353"/>
                </a:moveTo>
                <a:cubicBezTo>
                  <a:pt x="15879" y="12373"/>
                  <a:pt x="15950" y="12393"/>
                  <a:pt x="15999" y="12402"/>
                </a:cubicBezTo>
                <a:cubicBezTo>
                  <a:pt x="16055" y="12413"/>
                  <a:pt x="16117" y="12384"/>
                  <a:pt x="16173" y="12378"/>
                </a:cubicBezTo>
              </a:path>
              <a:path w="4764" h="1266">
                <a:moveTo>
                  <a:pt x="16594" y="11981"/>
                </a:moveTo>
                <a:cubicBezTo>
                  <a:pt x="16561" y="12065"/>
                  <a:pt x="16529" y="12118"/>
                  <a:pt x="16495" y="12204"/>
                </a:cubicBezTo>
                <a:cubicBezTo>
                  <a:pt x="16466" y="12277"/>
                  <a:pt x="16412" y="12351"/>
                  <a:pt x="16396" y="12427"/>
                </a:cubicBezTo>
                <a:cubicBezTo>
                  <a:pt x="16380" y="12504"/>
                  <a:pt x="16406" y="12580"/>
                  <a:pt x="16421" y="12650"/>
                </a:cubicBezTo>
                <a:cubicBezTo>
                  <a:pt x="16433" y="12706"/>
                  <a:pt x="16455" y="12755"/>
                  <a:pt x="16495" y="12799"/>
                </a:cubicBezTo>
                <a:cubicBezTo>
                  <a:pt x="16510" y="12816"/>
                  <a:pt x="16574" y="12877"/>
                  <a:pt x="16594" y="12874"/>
                </a:cubicBezTo>
                <a:cubicBezTo>
                  <a:pt x="16611" y="12866"/>
                  <a:pt x="16627" y="12857"/>
                  <a:pt x="16644" y="12849"/>
                </a:cubicBezTo>
              </a:path>
              <a:path w="4764" h="1266">
                <a:moveTo>
                  <a:pt x="16694" y="12427"/>
                </a:moveTo>
                <a:cubicBezTo>
                  <a:pt x="16801" y="12427"/>
                  <a:pt x="16809" y="12427"/>
                  <a:pt x="16867" y="12427"/>
                </a:cubicBezTo>
              </a:path>
              <a:path w="4764" h="1266">
                <a:moveTo>
                  <a:pt x="16991" y="12179"/>
                </a:moveTo>
                <a:cubicBezTo>
                  <a:pt x="17029" y="12141"/>
                  <a:pt x="17037" y="12129"/>
                  <a:pt x="17090" y="12129"/>
                </a:cubicBezTo>
                <a:cubicBezTo>
                  <a:pt x="17136" y="12129"/>
                  <a:pt x="17155" y="12122"/>
                  <a:pt x="17190" y="12154"/>
                </a:cubicBezTo>
                <a:cubicBezTo>
                  <a:pt x="17223" y="12184"/>
                  <a:pt x="17214" y="12212"/>
                  <a:pt x="17214" y="12254"/>
                </a:cubicBezTo>
                <a:cubicBezTo>
                  <a:pt x="17214" y="12324"/>
                  <a:pt x="17170" y="12411"/>
                  <a:pt x="17140" y="12477"/>
                </a:cubicBezTo>
                <a:cubicBezTo>
                  <a:pt x="17115" y="12532"/>
                  <a:pt x="17076" y="12600"/>
                  <a:pt x="17041" y="12650"/>
                </a:cubicBezTo>
                <a:cubicBezTo>
                  <a:pt x="17018" y="12682"/>
                  <a:pt x="16996" y="12710"/>
                  <a:pt x="16991" y="12750"/>
                </a:cubicBezTo>
                <a:cubicBezTo>
                  <a:pt x="16991" y="12774"/>
                  <a:pt x="16991" y="12783"/>
                  <a:pt x="16991" y="12799"/>
                </a:cubicBezTo>
                <a:cubicBezTo>
                  <a:pt x="17024" y="12774"/>
                  <a:pt x="17036" y="12754"/>
                  <a:pt x="17066" y="12750"/>
                </a:cubicBezTo>
                <a:cubicBezTo>
                  <a:pt x="17144" y="12740"/>
                  <a:pt x="17217" y="12759"/>
                  <a:pt x="17289" y="12774"/>
                </a:cubicBezTo>
                <a:cubicBezTo>
                  <a:pt x="17327" y="12782"/>
                  <a:pt x="17373" y="12774"/>
                  <a:pt x="17413" y="12774"/>
                </a:cubicBezTo>
              </a:path>
              <a:path w="4764" h="1266">
                <a:moveTo>
                  <a:pt x="17239" y="11906"/>
                </a:moveTo>
                <a:cubicBezTo>
                  <a:pt x="17337" y="11920"/>
                  <a:pt x="17329" y="11980"/>
                  <a:pt x="17388" y="12055"/>
                </a:cubicBezTo>
                <a:cubicBezTo>
                  <a:pt x="17441" y="12122"/>
                  <a:pt x="17515" y="12220"/>
                  <a:pt x="17537" y="12303"/>
                </a:cubicBezTo>
                <a:cubicBezTo>
                  <a:pt x="17553" y="12364"/>
                  <a:pt x="17592" y="12518"/>
                  <a:pt x="17587" y="12576"/>
                </a:cubicBezTo>
                <a:cubicBezTo>
                  <a:pt x="17582" y="12636"/>
                  <a:pt x="17557" y="12771"/>
                  <a:pt x="17537" y="12824"/>
                </a:cubicBezTo>
                <a:cubicBezTo>
                  <a:pt x="17515" y="12882"/>
                  <a:pt x="17458" y="12953"/>
                  <a:pt x="17413" y="12998"/>
                </a:cubicBezTo>
                <a:cubicBezTo>
                  <a:pt x="17391" y="13020"/>
                  <a:pt x="17382" y="13031"/>
                  <a:pt x="17388" y="12998"/>
                </a:cubicBezTo>
              </a:path>
              <a:path w="4764" h="1266">
                <a:moveTo>
                  <a:pt x="17587" y="11807"/>
                </a:moveTo>
                <a:cubicBezTo>
                  <a:pt x="17619" y="11787"/>
                  <a:pt x="17690" y="11763"/>
                  <a:pt x="17735" y="11782"/>
                </a:cubicBezTo>
                <a:cubicBezTo>
                  <a:pt x="17772" y="11798"/>
                  <a:pt x="17804" y="11826"/>
                  <a:pt x="17835" y="11857"/>
                </a:cubicBezTo>
                <a:cubicBezTo>
                  <a:pt x="17867" y="11889"/>
                  <a:pt x="17859" y="11913"/>
                  <a:pt x="17859" y="11956"/>
                </a:cubicBezTo>
                <a:cubicBezTo>
                  <a:pt x="17859" y="12036"/>
                  <a:pt x="17813" y="12018"/>
                  <a:pt x="17785" y="12080"/>
                </a:cubicBezTo>
                <a:cubicBezTo>
                  <a:pt x="17770" y="12114"/>
                  <a:pt x="17744" y="12142"/>
                  <a:pt x="17735" y="12179"/>
                </a:cubicBezTo>
                <a:cubicBezTo>
                  <a:pt x="17859" y="12179"/>
                  <a:pt x="17983" y="12179"/>
                  <a:pt x="18107" y="12179"/>
                </a:cubicBezTo>
              </a:path>
              <a:path w="4764" h="1266">
                <a:moveTo>
                  <a:pt x="18107" y="12626"/>
                </a:moveTo>
                <a:cubicBezTo>
                  <a:pt x="18183" y="12626"/>
                  <a:pt x="18234" y="12618"/>
                  <a:pt x="18306" y="12601"/>
                </a:cubicBezTo>
                <a:cubicBezTo>
                  <a:pt x="18314" y="12601"/>
                  <a:pt x="18323" y="12601"/>
                  <a:pt x="18331" y="12601"/>
                </a:cubicBezTo>
              </a:path>
              <a:path w="4764" h="1266">
                <a:moveTo>
                  <a:pt x="18182" y="12799"/>
                </a:moveTo>
                <a:cubicBezTo>
                  <a:pt x="18216" y="12808"/>
                  <a:pt x="18313" y="12848"/>
                  <a:pt x="18355" y="12824"/>
                </a:cubicBezTo>
                <a:cubicBezTo>
                  <a:pt x="18363" y="12816"/>
                  <a:pt x="18372" y="12807"/>
                  <a:pt x="18380" y="12799"/>
                </a:cubicBezTo>
              </a:path>
              <a:path w="4764" h="1266">
                <a:moveTo>
                  <a:pt x="18554" y="12254"/>
                </a:moveTo>
                <a:cubicBezTo>
                  <a:pt x="18592" y="12225"/>
                  <a:pt x="18605" y="12229"/>
                  <a:pt x="18653" y="12229"/>
                </a:cubicBezTo>
                <a:cubicBezTo>
                  <a:pt x="18728" y="12229"/>
                  <a:pt x="18754" y="12204"/>
                  <a:pt x="18827" y="12204"/>
                </a:cubicBezTo>
                <a:cubicBezTo>
                  <a:pt x="18863" y="12204"/>
                  <a:pt x="18899" y="12197"/>
                  <a:pt x="18926" y="12179"/>
                </a:cubicBezTo>
                <a:cubicBezTo>
                  <a:pt x="18949" y="12156"/>
                  <a:pt x="18953" y="12148"/>
                  <a:pt x="18976" y="12154"/>
                </a:cubicBezTo>
                <a:cubicBezTo>
                  <a:pt x="18976" y="12315"/>
                  <a:pt x="18977" y="12473"/>
                  <a:pt x="18951" y="12626"/>
                </a:cubicBezTo>
                <a:cubicBezTo>
                  <a:pt x="18940" y="12693"/>
                  <a:pt x="18981" y="12807"/>
                  <a:pt x="18976" y="12849"/>
                </a:cubicBezTo>
                <a:cubicBezTo>
                  <a:pt x="18969" y="12911"/>
                  <a:pt x="18976" y="12910"/>
                  <a:pt x="18976" y="12973"/>
                </a:cubicBezTo>
                <a:cubicBezTo>
                  <a:pt x="18976" y="13001"/>
                  <a:pt x="18978" y="13007"/>
                  <a:pt x="19000" y="12973"/>
                </a:cubicBezTo>
              </a:path>
              <a:path w="4764" h="1266">
                <a:moveTo>
                  <a:pt x="19124" y="11931"/>
                </a:moveTo>
                <a:cubicBezTo>
                  <a:pt x="19183" y="11879"/>
                  <a:pt x="19213" y="11833"/>
                  <a:pt x="19298" y="11857"/>
                </a:cubicBezTo>
                <a:cubicBezTo>
                  <a:pt x="19335" y="11867"/>
                  <a:pt x="19404" y="11919"/>
                  <a:pt x="19422" y="11956"/>
                </a:cubicBezTo>
                <a:cubicBezTo>
                  <a:pt x="19475" y="12067"/>
                  <a:pt x="19421" y="12065"/>
                  <a:pt x="19397" y="12154"/>
                </a:cubicBezTo>
                <a:cubicBezTo>
                  <a:pt x="19385" y="12199"/>
                  <a:pt x="19379" y="12254"/>
                  <a:pt x="19323" y="12278"/>
                </a:cubicBezTo>
                <a:cubicBezTo>
                  <a:pt x="19276" y="12298"/>
                  <a:pt x="19237" y="12260"/>
                  <a:pt x="19224" y="12254"/>
                </a:cubicBezTo>
                <a:cubicBezTo>
                  <a:pt x="19197" y="12241"/>
                  <a:pt x="19215" y="12208"/>
                  <a:pt x="19248" y="12204"/>
                </a:cubicBezTo>
                <a:cubicBezTo>
                  <a:pt x="19301" y="12197"/>
                  <a:pt x="19327" y="12194"/>
                  <a:pt x="19372" y="12179"/>
                </a:cubicBezTo>
                <a:cubicBezTo>
                  <a:pt x="19471" y="12146"/>
                  <a:pt x="19599" y="12186"/>
                  <a:pt x="19695" y="12154"/>
                </a:cubicBezTo>
                <a:cubicBezTo>
                  <a:pt x="19720" y="12154"/>
                  <a:pt x="19728" y="12154"/>
                  <a:pt x="19720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1880" y="4732200"/>
            <a:ext cx="312480" cy="366840"/>
          </a:xfrm>
          <a:custGeom>
            <a:avLst/>
            <a:gdLst/>
            <a:ahLst/>
            <a:rect l="l" t="t" r="r" b="b"/>
            <a:pathLst>
              <a:path w="869" h="1018">
                <a:moveTo>
                  <a:pt x="15478" y="13816"/>
                </a:moveTo>
                <a:cubicBezTo>
                  <a:pt x="15478" y="13769"/>
                  <a:pt x="15458" y="13737"/>
                  <a:pt x="15453" y="13692"/>
                </a:cubicBezTo>
                <a:cubicBezTo>
                  <a:pt x="15449" y="13649"/>
                  <a:pt x="15417" y="13631"/>
                  <a:pt x="15404" y="13593"/>
                </a:cubicBezTo>
                <a:cubicBezTo>
                  <a:pt x="15394" y="13564"/>
                  <a:pt x="15370" y="13548"/>
                  <a:pt x="15329" y="13543"/>
                </a:cubicBezTo>
                <a:cubicBezTo>
                  <a:pt x="15295" y="13539"/>
                  <a:pt x="15230" y="13555"/>
                  <a:pt x="15205" y="13568"/>
                </a:cubicBezTo>
                <a:cubicBezTo>
                  <a:pt x="15189" y="13576"/>
                  <a:pt x="15112" y="13672"/>
                  <a:pt x="15106" y="13692"/>
                </a:cubicBezTo>
                <a:cubicBezTo>
                  <a:pt x="15090" y="13748"/>
                  <a:pt x="15046" y="13814"/>
                  <a:pt x="15032" y="13866"/>
                </a:cubicBezTo>
                <a:cubicBezTo>
                  <a:pt x="15017" y="13925"/>
                  <a:pt x="15022" y="14037"/>
                  <a:pt x="15056" y="14089"/>
                </a:cubicBezTo>
                <a:cubicBezTo>
                  <a:pt x="15076" y="14119"/>
                  <a:pt x="15125" y="14153"/>
                  <a:pt x="15156" y="14163"/>
                </a:cubicBezTo>
                <a:cubicBezTo>
                  <a:pt x="15175" y="14169"/>
                  <a:pt x="15265" y="14123"/>
                  <a:pt x="15280" y="14114"/>
                </a:cubicBezTo>
                <a:cubicBezTo>
                  <a:pt x="15315" y="14093"/>
                  <a:pt x="15336" y="14046"/>
                  <a:pt x="15354" y="14015"/>
                </a:cubicBezTo>
                <a:cubicBezTo>
                  <a:pt x="15377" y="13975"/>
                  <a:pt x="15382" y="13924"/>
                  <a:pt x="15404" y="13891"/>
                </a:cubicBezTo>
                <a:cubicBezTo>
                  <a:pt x="15430" y="13853"/>
                  <a:pt x="15426" y="13828"/>
                  <a:pt x="15453" y="13791"/>
                </a:cubicBezTo>
                <a:cubicBezTo>
                  <a:pt x="15453" y="13860"/>
                  <a:pt x="15462" y="13900"/>
                  <a:pt x="15478" y="13965"/>
                </a:cubicBezTo>
                <a:cubicBezTo>
                  <a:pt x="15492" y="14022"/>
                  <a:pt x="15512" y="14047"/>
                  <a:pt x="15553" y="14089"/>
                </a:cubicBezTo>
                <a:cubicBezTo>
                  <a:pt x="15591" y="14128"/>
                  <a:pt x="15599" y="14139"/>
                  <a:pt x="15652" y="14139"/>
                </a:cubicBezTo>
                <a:cubicBezTo>
                  <a:pt x="15660" y="14139"/>
                  <a:pt x="15669" y="14139"/>
                  <a:pt x="15677" y="14139"/>
                </a:cubicBezTo>
              </a:path>
              <a:path w="869" h="1018">
                <a:moveTo>
                  <a:pt x="15528" y="13221"/>
                </a:moveTo>
                <a:cubicBezTo>
                  <a:pt x="15557" y="13192"/>
                  <a:pt x="15591" y="13158"/>
                  <a:pt x="15627" y="13146"/>
                </a:cubicBezTo>
                <a:cubicBezTo>
                  <a:pt x="15657" y="13136"/>
                  <a:pt x="15706" y="13158"/>
                  <a:pt x="15726" y="13171"/>
                </a:cubicBezTo>
                <a:cubicBezTo>
                  <a:pt x="15768" y="13199"/>
                  <a:pt x="15776" y="13224"/>
                  <a:pt x="15776" y="13271"/>
                </a:cubicBezTo>
                <a:cubicBezTo>
                  <a:pt x="15776" y="13305"/>
                  <a:pt x="15748" y="13345"/>
                  <a:pt x="15726" y="13370"/>
                </a:cubicBezTo>
                <a:cubicBezTo>
                  <a:pt x="15707" y="13391"/>
                  <a:pt x="15655" y="13437"/>
                  <a:pt x="15652" y="13444"/>
                </a:cubicBezTo>
                <a:cubicBezTo>
                  <a:pt x="15652" y="13472"/>
                  <a:pt x="15650" y="13483"/>
                  <a:pt x="15627" y="13494"/>
                </a:cubicBezTo>
                <a:cubicBezTo>
                  <a:pt x="15652" y="13502"/>
                  <a:pt x="15672" y="13503"/>
                  <a:pt x="15701" y="13519"/>
                </a:cubicBezTo>
                <a:cubicBezTo>
                  <a:pt x="15742" y="13541"/>
                  <a:pt x="15751" y="13543"/>
                  <a:pt x="15801" y="13543"/>
                </a:cubicBezTo>
                <a:cubicBezTo>
                  <a:pt x="15840" y="13543"/>
                  <a:pt x="15855" y="13568"/>
                  <a:pt x="15900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84812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16520" y="13469"/>
                </a:moveTo>
                <a:cubicBezTo>
                  <a:pt x="16520" y="13609"/>
                  <a:pt x="16503" y="13768"/>
                  <a:pt x="16545" y="13891"/>
                </a:cubicBezTo>
                <a:cubicBezTo>
                  <a:pt x="16554" y="13917"/>
                  <a:pt x="16545" y="13963"/>
                  <a:pt x="16545" y="13990"/>
                </a:cubicBezTo>
              </a:path>
              <a:path w="323" h="522">
                <a:moveTo>
                  <a:pt x="16297" y="13643"/>
                </a:moveTo>
                <a:cubicBezTo>
                  <a:pt x="16362" y="13624"/>
                  <a:pt x="16372" y="13643"/>
                  <a:pt x="16446" y="13643"/>
                </a:cubicBezTo>
                <a:cubicBezTo>
                  <a:pt x="16512" y="13643"/>
                  <a:pt x="16540" y="13650"/>
                  <a:pt x="16594" y="13667"/>
                </a:cubicBezTo>
                <a:cubicBezTo>
                  <a:pt x="16602" y="13667"/>
                  <a:pt x="16611" y="13667"/>
                  <a:pt x="16619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3760" y="4813200"/>
            <a:ext cx="142920" cy="322200"/>
          </a:xfrm>
          <a:custGeom>
            <a:avLst/>
            <a:gdLst/>
            <a:ahLst/>
            <a:rect l="l" t="t" r="r" b="b"/>
            <a:pathLst>
              <a:path w="397" h="894">
                <a:moveTo>
                  <a:pt x="17140" y="13469"/>
                </a:moveTo>
                <a:cubicBezTo>
                  <a:pt x="17140" y="13461"/>
                  <a:pt x="17140" y="13452"/>
                  <a:pt x="17140" y="13444"/>
                </a:cubicBezTo>
                <a:cubicBezTo>
                  <a:pt x="17140" y="13498"/>
                  <a:pt x="17124" y="13526"/>
                  <a:pt x="17115" y="13568"/>
                </a:cubicBezTo>
                <a:cubicBezTo>
                  <a:pt x="17101" y="13631"/>
                  <a:pt x="17089" y="13658"/>
                  <a:pt x="17066" y="13717"/>
                </a:cubicBezTo>
                <a:cubicBezTo>
                  <a:pt x="17057" y="13741"/>
                  <a:pt x="17066" y="13790"/>
                  <a:pt x="17066" y="13816"/>
                </a:cubicBezTo>
                <a:cubicBezTo>
                  <a:pt x="17129" y="13816"/>
                  <a:pt x="17163" y="13824"/>
                  <a:pt x="17214" y="13841"/>
                </a:cubicBezTo>
                <a:cubicBezTo>
                  <a:pt x="17253" y="13854"/>
                  <a:pt x="17322" y="13862"/>
                  <a:pt x="17363" y="13866"/>
                </a:cubicBezTo>
                <a:cubicBezTo>
                  <a:pt x="17388" y="13866"/>
                  <a:pt x="17396" y="13866"/>
                  <a:pt x="17413" y="13866"/>
                </a:cubicBezTo>
              </a:path>
              <a:path w="397" h="894">
                <a:moveTo>
                  <a:pt x="17462" y="13370"/>
                </a:moveTo>
                <a:cubicBezTo>
                  <a:pt x="17462" y="13471"/>
                  <a:pt x="17442" y="13546"/>
                  <a:pt x="17438" y="13643"/>
                </a:cubicBezTo>
                <a:cubicBezTo>
                  <a:pt x="17433" y="13748"/>
                  <a:pt x="17428" y="13838"/>
                  <a:pt x="17413" y="13940"/>
                </a:cubicBezTo>
                <a:cubicBezTo>
                  <a:pt x="17403" y="14012"/>
                  <a:pt x="17401" y="14262"/>
                  <a:pt x="17438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02240" y="4803840"/>
            <a:ext cx="474840" cy="366480"/>
          </a:xfrm>
          <a:custGeom>
            <a:avLst/>
            <a:gdLst/>
            <a:ahLst/>
            <a:rect l="l" t="t" r="r" b="b"/>
            <a:pathLst>
              <a:path w="1316" h="1018">
                <a:moveTo>
                  <a:pt x="17785" y="13841"/>
                </a:moveTo>
                <a:cubicBezTo>
                  <a:pt x="17870" y="13841"/>
                  <a:pt x="17930" y="13836"/>
                  <a:pt x="18008" y="13816"/>
                </a:cubicBezTo>
                <a:cubicBezTo>
                  <a:pt x="18033" y="13816"/>
                  <a:pt x="18041" y="13816"/>
                  <a:pt x="18058" y="13816"/>
                </a:cubicBezTo>
              </a:path>
              <a:path w="1316" h="1018">
                <a:moveTo>
                  <a:pt x="17785" y="13915"/>
                </a:moveTo>
                <a:cubicBezTo>
                  <a:pt x="17893" y="13946"/>
                  <a:pt x="17920" y="13958"/>
                  <a:pt x="18008" y="13940"/>
                </a:cubicBezTo>
                <a:cubicBezTo>
                  <a:pt x="18050" y="13940"/>
                  <a:pt x="18058" y="13940"/>
                  <a:pt x="18083" y="13940"/>
                </a:cubicBezTo>
              </a:path>
              <a:path w="1316" h="1018">
                <a:moveTo>
                  <a:pt x="18355" y="13494"/>
                </a:moveTo>
                <a:cubicBezTo>
                  <a:pt x="18339" y="13543"/>
                  <a:pt x="18316" y="13604"/>
                  <a:pt x="18281" y="13643"/>
                </a:cubicBezTo>
                <a:cubicBezTo>
                  <a:pt x="18256" y="13670"/>
                  <a:pt x="18235" y="13705"/>
                  <a:pt x="18231" y="13742"/>
                </a:cubicBezTo>
                <a:cubicBezTo>
                  <a:pt x="18228" y="13766"/>
                  <a:pt x="18231" y="13792"/>
                  <a:pt x="18231" y="13816"/>
                </a:cubicBezTo>
                <a:cubicBezTo>
                  <a:pt x="18282" y="13816"/>
                  <a:pt x="18290" y="13827"/>
                  <a:pt x="18331" y="13841"/>
                </a:cubicBezTo>
                <a:cubicBezTo>
                  <a:pt x="18379" y="13857"/>
                  <a:pt x="18427" y="13851"/>
                  <a:pt x="18479" y="13866"/>
                </a:cubicBezTo>
                <a:cubicBezTo>
                  <a:pt x="18523" y="13888"/>
                  <a:pt x="18535" y="13901"/>
                  <a:pt x="18554" y="13866"/>
                </a:cubicBezTo>
              </a:path>
              <a:path w="1316" h="1018">
                <a:moveTo>
                  <a:pt x="18579" y="13345"/>
                </a:moveTo>
                <a:cubicBezTo>
                  <a:pt x="18543" y="13427"/>
                  <a:pt x="18547" y="13487"/>
                  <a:pt x="18529" y="13568"/>
                </a:cubicBezTo>
                <a:cubicBezTo>
                  <a:pt x="18508" y="13664"/>
                  <a:pt x="18504" y="13742"/>
                  <a:pt x="18504" y="13841"/>
                </a:cubicBezTo>
                <a:cubicBezTo>
                  <a:pt x="18504" y="13912"/>
                  <a:pt x="18468" y="14243"/>
                  <a:pt x="18529" y="14263"/>
                </a:cubicBezTo>
              </a:path>
              <a:path w="1316" h="1018">
                <a:moveTo>
                  <a:pt x="19025" y="13618"/>
                </a:moveTo>
                <a:cubicBezTo>
                  <a:pt x="19025" y="13464"/>
                  <a:pt x="19057" y="13472"/>
                  <a:pt x="18976" y="13419"/>
                </a:cubicBezTo>
                <a:cubicBezTo>
                  <a:pt x="18929" y="13388"/>
                  <a:pt x="18907" y="13397"/>
                  <a:pt x="18852" y="13419"/>
                </a:cubicBezTo>
                <a:cubicBezTo>
                  <a:pt x="18804" y="13438"/>
                  <a:pt x="18758" y="13448"/>
                  <a:pt x="18728" y="13494"/>
                </a:cubicBezTo>
                <a:cubicBezTo>
                  <a:pt x="18683" y="13564"/>
                  <a:pt x="18710" y="13574"/>
                  <a:pt x="18728" y="13643"/>
                </a:cubicBezTo>
                <a:cubicBezTo>
                  <a:pt x="18734" y="13665"/>
                  <a:pt x="18771" y="13697"/>
                  <a:pt x="18802" y="13717"/>
                </a:cubicBezTo>
                <a:cubicBezTo>
                  <a:pt x="18851" y="13748"/>
                  <a:pt x="18884" y="13745"/>
                  <a:pt x="18926" y="13717"/>
                </a:cubicBezTo>
                <a:cubicBezTo>
                  <a:pt x="18966" y="13690"/>
                  <a:pt x="18979" y="13649"/>
                  <a:pt x="19000" y="13618"/>
                </a:cubicBezTo>
                <a:cubicBezTo>
                  <a:pt x="19008" y="13610"/>
                  <a:pt x="19017" y="13601"/>
                  <a:pt x="19025" y="13593"/>
                </a:cubicBezTo>
                <a:cubicBezTo>
                  <a:pt x="19025" y="13658"/>
                  <a:pt x="19010" y="13706"/>
                  <a:pt x="19000" y="13767"/>
                </a:cubicBezTo>
                <a:cubicBezTo>
                  <a:pt x="18987" y="13845"/>
                  <a:pt x="19021" y="13913"/>
                  <a:pt x="19025" y="13990"/>
                </a:cubicBezTo>
                <a:cubicBezTo>
                  <a:pt x="19027" y="14032"/>
                  <a:pt x="19034" y="14123"/>
                  <a:pt x="19050" y="14163"/>
                </a:cubicBezTo>
                <a:cubicBezTo>
                  <a:pt x="19068" y="14210"/>
                  <a:pt x="19075" y="14228"/>
                  <a:pt x="19075" y="14288"/>
                </a:cubicBezTo>
                <a:cubicBezTo>
                  <a:pt x="19075" y="14314"/>
                  <a:pt x="19102" y="14361"/>
                  <a:pt x="19100" y="14362"/>
                </a:cubicBezTo>
                <a:cubicBezTo>
                  <a:pt x="19092" y="14362"/>
                  <a:pt x="19083" y="14362"/>
                  <a:pt x="19075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75200" y="5276880"/>
            <a:ext cx="866880" cy="438120"/>
          </a:xfrm>
          <a:custGeom>
            <a:avLst/>
            <a:gdLst/>
            <a:ahLst/>
            <a:rect l="l" t="t" r="r" b="b"/>
            <a:pathLst>
              <a:path w="2408" h="1216">
                <a:moveTo>
                  <a:pt x="16718" y="15156"/>
                </a:moveTo>
                <a:cubicBezTo>
                  <a:pt x="16729" y="15199"/>
                  <a:pt x="16749" y="15235"/>
                  <a:pt x="16768" y="15280"/>
                </a:cubicBezTo>
                <a:cubicBezTo>
                  <a:pt x="16779" y="15201"/>
                  <a:pt x="16775" y="15209"/>
                  <a:pt x="16768" y="15131"/>
                </a:cubicBezTo>
                <a:cubicBezTo>
                  <a:pt x="16762" y="15059"/>
                  <a:pt x="16747" y="15113"/>
                  <a:pt x="16718" y="15056"/>
                </a:cubicBezTo>
                <a:cubicBezTo>
                  <a:pt x="16703" y="15027"/>
                  <a:pt x="16672" y="14973"/>
                  <a:pt x="16619" y="14982"/>
                </a:cubicBezTo>
                <a:cubicBezTo>
                  <a:pt x="16584" y="14988"/>
                  <a:pt x="16551" y="15036"/>
                  <a:pt x="16520" y="15056"/>
                </a:cubicBezTo>
                <a:cubicBezTo>
                  <a:pt x="16477" y="15083"/>
                  <a:pt x="16387" y="15178"/>
                  <a:pt x="16371" y="15230"/>
                </a:cubicBezTo>
                <a:cubicBezTo>
                  <a:pt x="16352" y="15291"/>
                  <a:pt x="16332" y="15389"/>
                  <a:pt x="16321" y="15453"/>
                </a:cubicBezTo>
                <a:cubicBezTo>
                  <a:pt x="16312" y="15505"/>
                  <a:pt x="16339" y="15566"/>
                  <a:pt x="16371" y="15602"/>
                </a:cubicBezTo>
                <a:cubicBezTo>
                  <a:pt x="16408" y="15643"/>
                  <a:pt x="16443" y="15652"/>
                  <a:pt x="16495" y="15652"/>
                </a:cubicBezTo>
                <a:cubicBezTo>
                  <a:pt x="16547" y="15652"/>
                  <a:pt x="16607" y="15587"/>
                  <a:pt x="16644" y="15553"/>
                </a:cubicBezTo>
                <a:cubicBezTo>
                  <a:pt x="16686" y="15515"/>
                  <a:pt x="16706" y="15470"/>
                  <a:pt x="16743" y="15429"/>
                </a:cubicBezTo>
                <a:cubicBezTo>
                  <a:pt x="16770" y="15399"/>
                  <a:pt x="16784" y="15367"/>
                  <a:pt x="16793" y="15329"/>
                </a:cubicBezTo>
                <a:cubicBezTo>
                  <a:pt x="16793" y="15412"/>
                  <a:pt x="16804" y="15470"/>
                  <a:pt x="16818" y="15553"/>
                </a:cubicBezTo>
                <a:cubicBezTo>
                  <a:pt x="16829" y="15619"/>
                  <a:pt x="16876" y="15673"/>
                  <a:pt x="16917" y="15726"/>
                </a:cubicBezTo>
                <a:cubicBezTo>
                  <a:pt x="16949" y="15767"/>
                  <a:pt x="16967" y="15776"/>
                  <a:pt x="17016" y="15776"/>
                </a:cubicBezTo>
              </a:path>
              <a:path w="2408" h="1216">
                <a:moveTo>
                  <a:pt x="16917" y="14734"/>
                </a:moveTo>
                <a:cubicBezTo>
                  <a:pt x="16937" y="14694"/>
                  <a:pt x="16946" y="14687"/>
                  <a:pt x="16942" y="14660"/>
                </a:cubicBezTo>
                <a:cubicBezTo>
                  <a:pt x="16981" y="14689"/>
                  <a:pt x="17029" y="14684"/>
                  <a:pt x="17066" y="14709"/>
                </a:cubicBezTo>
                <a:cubicBezTo>
                  <a:pt x="17117" y="14744"/>
                  <a:pt x="17115" y="14777"/>
                  <a:pt x="17115" y="14833"/>
                </a:cubicBezTo>
                <a:cubicBezTo>
                  <a:pt x="17115" y="14886"/>
                  <a:pt x="17060" y="14889"/>
                  <a:pt x="17041" y="14932"/>
                </a:cubicBezTo>
                <a:cubicBezTo>
                  <a:pt x="17024" y="14971"/>
                  <a:pt x="17001" y="14976"/>
                  <a:pt x="16991" y="15007"/>
                </a:cubicBezTo>
                <a:cubicBezTo>
                  <a:pt x="17031" y="15060"/>
                  <a:pt x="17014" y="15056"/>
                  <a:pt x="17090" y="15056"/>
                </a:cubicBezTo>
                <a:cubicBezTo>
                  <a:pt x="17144" y="15056"/>
                  <a:pt x="17160" y="15067"/>
                  <a:pt x="17214" y="15056"/>
                </a:cubicBezTo>
                <a:cubicBezTo>
                  <a:pt x="17231" y="15056"/>
                  <a:pt x="17247" y="15056"/>
                  <a:pt x="17264" y="15056"/>
                </a:cubicBezTo>
              </a:path>
              <a:path w="2408" h="1216">
                <a:moveTo>
                  <a:pt x="17214" y="15280"/>
                </a:moveTo>
                <a:cubicBezTo>
                  <a:pt x="17299" y="15319"/>
                  <a:pt x="17349" y="15344"/>
                  <a:pt x="17438" y="15354"/>
                </a:cubicBezTo>
              </a:path>
              <a:path w="2408" h="1216">
                <a:moveTo>
                  <a:pt x="17264" y="15577"/>
                </a:moveTo>
                <a:cubicBezTo>
                  <a:pt x="17363" y="15577"/>
                  <a:pt x="17380" y="15577"/>
                  <a:pt x="17438" y="15577"/>
                </a:cubicBezTo>
              </a:path>
              <a:path w="2408" h="1216">
                <a:moveTo>
                  <a:pt x="17859" y="15156"/>
                </a:moveTo>
                <a:cubicBezTo>
                  <a:pt x="17849" y="15198"/>
                  <a:pt x="17831" y="15237"/>
                  <a:pt x="17810" y="15280"/>
                </a:cubicBezTo>
                <a:cubicBezTo>
                  <a:pt x="17791" y="15319"/>
                  <a:pt x="17764" y="15365"/>
                  <a:pt x="17760" y="15404"/>
                </a:cubicBezTo>
                <a:cubicBezTo>
                  <a:pt x="17757" y="15428"/>
                  <a:pt x="17760" y="15454"/>
                  <a:pt x="17760" y="15478"/>
                </a:cubicBezTo>
                <a:cubicBezTo>
                  <a:pt x="17795" y="15490"/>
                  <a:pt x="17785" y="15485"/>
                  <a:pt x="17785" y="15528"/>
                </a:cubicBezTo>
                <a:cubicBezTo>
                  <a:pt x="17829" y="15539"/>
                  <a:pt x="17860" y="15565"/>
                  <a:pt x="17909" y="15577"/>
                </a:cubicBezTo>
                <a:cubicBezTo>
                  <a:pt x="17939" y="15584"/>
                  <a:pt x="17977" y="15577"/>
                  <a:pt x="18008" y="15577"/>
                </a:cubicBezTo>
              </a:path>
              <a:path w="2408" h="1216">
                <a:moveTo>
                  <a:pt x="18157" y="15032"/>
                </a:moveTo>
                <a:cubicBezTo>
                  <a:pt x="18121" y="15078"/>
                  <a:pt x="18126" y="15102"/>
                  <a:pt x="18107" y="15156"/>
                </a:cubicBezTo>
                <a:cubicBezTo>
                  <a:pt x="18072" y="15256"/>
                  <a:pt x="18063" y="15369"/>
                  <a:pt x="18058" y="15478"/>
                </a:cubicBezTo>
                <a:cubicBezTo>
                  <a:pt x="18055" y="15558"/>
                  <a:pt x="18079" y="15623"/>
                  <a:pt x="18083" y="15701"/>
                </a:cubicBezTo>
                <a:cubicBezTo>
                  <a:pt x="18086" y="15749"/>
                  <a:pt x="18082" y="15809"/>
                  <a:pt x="18107" y="15850"/>
                </a:cubicBezTo>
                <a:cubicBezTo>
                  <a:pt x="18134" y="15896"/>
                  <a:pt x="18148" y="15878"/>
                  <a:pt x="18157" y="15850"/>
                </a:cubicBezTo>
              </a:path>
              <a:path w="2408" h="1216">
                <a:moveTo>
                  <a:pt x="18380" y="15106"/>
                </a:moveTo>
                <a:cubicBezTo>
                  <a:pt x="18473" y="15053"/>
                  <a:pt x="18559" y="15038"/>
                  <a:pt x="18653" y="15007"/>
                </a:cubicBezTo>
                <a:cubicBezTo>
                  <a:pt x="18670" y="14999"/>
                  <a:pt x="18686" y="14990"/>
                  <a:pt x="18703" y="14982"/>
                </a:cubicBezTo>
              </a:path>
              <a:path w="2408" h="1216">
                <a:moveTo>
                  <a:pt x="18355" y="15131"/>
                </a:moveTo>
                <a:cubicBezTo>
                  <a:pt x="18339" y="15169"/>
                  <a:pt x="18313" y="15235"/>
                  <a:pt x="18331" y="15280"/>
                </a:cubicBezTo>
                <a:cubicBezTo>
                  <a:pt x="18354" y="15336"/>
                  <a:pt x="18396" y="15310"/>
                  <a:pt x="18430" y="15329"/>
                </a:cubicBezTo>
                <a:cubicBezTo>
                  <a:pt x="18472" y="15352"/>
                  <a:pt x="18478" y="15354"/>
                  <a:pt x="18529" y="15354"/>
                </a:cubicBezTo>
                <a:cubicBezTo>
                  <a:pt x="18601" y="15354"/>
                  <a:pt x="18582" y="15347"/>
                  <a:pt x="18628" y="15404"/>
                </a:cubicBezTo>
                <a:cubicBezTo>
                  <a:pt x="18666" y="15451"/>
                  <a:pt x="18714" y="15489"/>
                  <a:pt x="18728" y="15553"/>
                </a:cubicBezTo>
                <a:cubicBezTo>
                  <a:pt x="18739" y="15602"/>
                  <a:pt x="18727" y="15686"/>
                  <a:pt x="18703" y="15726"/>
                </a:cubicBezTo>
                <a:cubicBezTo>
                  <a:pt x="18683" y="15759"/>
                  <a:pt x="18678" y="15836"/>
                  <a:pt x="18628" y="15850"/>
                </a:cubicBezTo>
                <a:cubicBezTo>
                  <a:pt x="18577" y="15865"/>
                  <a:pt x="18536" y="15875"/>
                  <a:pt x="18479" y="15875"/>
                </a:cubicBezTo>
                <a:cubicBezTo>
                  <a:pt x="18430" y="15875"/>
                  <a:pt x="18380" y="15875"/>
                  <a:pt x="18331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27840" y="5902200"/>
            <a:ext cx="965160" cy="420840"/>
          </a:xfrm>
          <a:custGeom>
            <a:avLst/>
            <a:gdLst/>
            <a:ahLst/>
            <a:rect l="l" t="t" r="r" b="b"/>
            <a:pathLst>
              <a:path w="2680" h="1167">
                <a:moveTo>
                  <a:pt x="17140" y="17016"/>
                </a:moveTo>
                <a:cubicBezTo>
                  <a:pt x="17163" y="16985"/>
                  <a:pt x="17187" y="16929"/>
                  <a:pt x="17190" y="16892"/>
                </a:cubicBezTo>
                <a:cubicBezTo>
                  <a:pt x="17193" y="16846"/>
                  <a:pt x="17188" y="16781"/>
                  <a:pt x="17165" y="16743"/>
                </a:cubicBezTo>
                <a:cubicBezTo>
                  <a:pt x="17138" y="16699"/>
                  <a:pt x="17144" y="16662"/>
                  <a:pt x="17090" y="16644"/>
                </a:cubicBezTo>
                <a:cubicBezTo>
                  <a:pt x="17043" y="16628"/>
                  <a:pt x="17007" y="16616"/>
                  <a:pt x="16966" y="16644"/>
                </a:cubicBezTo>
                <a:cubicBezTo>
                  <a:pt x="16917" y="16678"/>
                  <a:pt x="16883" y="16735"/>
                  <a:pt x="16842" y="16768"/>
                </a:cubicBezTo>
                <a:cubicBezTo>
                  <a:pt x="16784" y="16815"/>
                  <a:pt x="16750" y="16862"/>
                  <a:pt x="16743" y="16942"/>
                </a:cubicBezTo>
                <a:cubicBezTo>
                  <a:pt x="16737" y="17012"/>
                  <a:pt x="16737" y="17129"/>
                  <a:pt x="16768" y="17190"/>
                </a:cubicBezTo>
                <a:cubicBezTo>
                  <a:pt x="16785" y="17223"/>
                  <a:pt x="16859" y="17260"/>
                  <a:pt x="16892" y="17264"/>
                </a:cubicBezTo>
                <a:cubicBezTo>
                  <a:pt x="16936" y="17269"/>
                  <a:pt x="16959" y="17267"/>
                  <a:pt x="16991" y="17239"/>
                </a:cubicBezTo>
                <a:cubicBezTo>
                  <a:pt x="17023" y="17211"/>
                  <a:pt x="17033" y="17174"/>
                  <a:pt x="17066" y="17140"/>
                </a:cubicBezTo>
                <a:cubicBezTo>
                  <a:pt x="17100" y="17106"/>
                  <a:pt x="17081" y="16982"/>
                  <a:pt x="17115" y="17016"/>
                </a:cubicBezTo>
                <a:cubicBezTo>
                  <a:pt x="17131" y="17032"/>
                  <a:pt x="17126" y="17133"/>
                  <a:pt x="17140" y="17165"/>
                </a:cubicBezTo>
                <a:cubicBezTo>
                  <a:pt x="17161" y="17214"/>
                  <a:pt x="17233" y="17276"/>
                  <a:pt x="17289" y="17289"/>
                </a:cubicBezTo>
                <a:cubicBezTo>
                  <a:pt x="17330" y="17289"/>
                  <a:pt x="17338" y="17289"/>
                  <a:pt x="17363" y="17289"/>
                </a:cubicBezTo>
              </a:path>
              <a:path w="2680" h="1167">
                <a:moveTo>
                  <a:pt x="17487" y="16743"/>
                </a:moveTo>
                <a:cubicBezTo>
                  <a:pt x="17570" y="16707"/>
                  <a:pt x="17554" y="16738"/>
                  <a:pt x="17636" y="16743"/>
                </a:cubicBezTo>
                <a:cubicBezTo>
                  <a:pt x="17653" y="16743"/>
                  <a:pt x="17669" y="16743"/>
                  <a:pt x="17686" y="16743"/>
                </a:cubicBezTo>
              </a:path>
              <a:path w="2680" h="1167">
                <a:moveTo>
                  <a:pt x="17462" y="16966"/>
                </a:moveTo>
                <a:cubicBezTo>
                  <a:pt x="17512" y="17036"/>
                  <a:pt x="17520" y="17017"/>
                  <a:pt x="17587" y="17041"/>
                </a:cubicBezTo>
                <a:cubicBezTo>
                  <a:pt x="17640" y="17060"/>
                  <a:pt x="17656" y="17066"/>
                  <a:pt x="17711" y="17066"/>
                </a:cubicBezTo>
                <a:cubicBezTo>
                  <a:pt x="17735" y="17066"/>
                  <a:pt x="17744" y="17066"/>
                  <a:pt x="17760" y="17066"/>
                </a:cubicBezTo>
              </a:path>
              <a:path w="2680" h="1167">
                <a:moveTo>
                  <a:pt x="17959" y="16570"/>
                </a:moveTo>
                <a:cubicBezTo>
                  <a:pt x="18049" y="16570"/>
                  <a:pt x="18129" y="16569"/>
                  <a:pt x="18207" y="16594"/>
                </a:cubicBezTo>
                <a:cubicBezTo>
                  <a:pt x="18253" y="16609"/>
                  <a:pt x="18281" y="16637"/>
                  <a:pt x="18306" y="16669"/>
                </a:cubicBezTo>
                <a:cubicBezTo>
                  <a:pt x="18349" y="16724"/>
                  <a:pt x="18324" y="16715"/>
                  <a:pt x="18306" y="16768"/>
                </a:cubicBezTo>
                <a:cubicBezTo>
                  <a:pt x="18300" y="16787"/>
                  <a:pt x="18263" y="16828"/>
                  <a:pt x="18231" y="16842"/>
                </a:cubicBezTo>
                <a:cubicBezTo>
                  <a:pt x="18203" y="16854"/>
                  <a:pt x="18166" y="16887"/>
                  <a:pt x="18157" y="16892"/>
                </a:cubicBezTo>
                <a:cubicBezTo>
                  <a:pt x="18115" y="16913"/>
                  <a:pt x="18124" y="16867"/>
                  <a:pt x="18107" y="16917"/>
                </a:cubicBezTo>
                <a:cubicBezTo>
                  <a:pt x="18143" y="16863"/>
                  <a:pt x="18158" y="16905"/>
                  <a:pt x="18182" y="16917"/>
                </a:cubicBezTo>
                <a:cubicBezTo>
                  <a:pt x="18193" y="16923"/>
                  <a:pt x="18248" y="16942"/>
                  <a:pt x="18256" y="16966"/>
                </a:cubicBezTo>
                <a:cubicBezTo>
                  <a:pt x="18272" y="17018"/>
                  <a:pt x="18302" y="17107"/>
                  <a:pt x="18281" y="17165"/>
                </a:cubicBezTo>
                <a:cubicBezTo>
                  <a:pt x="18264" y="17212"/>
                  <a:pt x="18246" y="17249"/>
                  <a:pt x="18207" y="17289"/>
                </a:cubicBezTo>
                <a:cubicBezTo>
                  <a:pt x="18182" y="17315"/>
                  <a:pt x="18142" y="17334"/>
                  <a:pt x="18107" y="17338"/>
                </a:cubicBezTo>
                <a:cubicBezTo>
                  <a:pt x="18058" y="17343"/>
                  <a:pt x="18047" y="17326"/>
                  <a:pt x="18008" y="17314"/>
                </a:cubicBezTo>
                <a:cubicBezTo>
                  <a:pt x="17994" y="17309"/>
                  <a:pt x="17942" y="17267"/>
                  <a:pt x="17934" y="17239"/>
                </a:cubicBezTo>
                <a:cubicBezTo>
                  <a:pt x="17919" y="17188"/>
                  <a:pt x="17936" y="17128"/>
                  <a:pt x="17959" y="17090"/>
                </a:cubicBezTo>
              </a:path>
              <a:path w="2680" h="1167">
                <a:moveTo>
                  <a:pt x="18579" y="16867"/>
                </a:moveTo>
                <a:cubicBezTo>
                  <a:pt x="18579" y="17041"/>
                  <a:pt x="18579" y="17214"/>
                  <a:pt x="18579" y="17388"/>
                </a:cubicBezTo>
                <a:cubicBezTo>
                  <a:pt x="18579" y="17195"/>
                  <a:pt x="18581" y="17002"/>
                  <a:pt x="18604" y="16818"/>
                </a:cubicBezTo>
                <a:cubicBezTo>
                  <a:pt x="18612" y="16755"/>
                  <a:pt x="18603" y="16729"/>
                  <a:pt x="18628" y="16669"/>
                </a:cubicBezTo>
                <a:cubicBezTo>
                  <a:pt x="18648" y="16621"/>
                  <a:pt x="18656" y="16575"/>
                  <a:pt x="18703" y="16545"/>
                </a:cubicBezTo>
                <a:cubicBezTo>
                  <a:pt x="18729" y="16528"/>
                  <a:pt x="18761" y="16511"/>
                  <a:pt x="18777" y="16495"/>
                </a:cubicBezTo>
                <a:cubicBezTo>
                  <a:pt x="18814" y="16458"/>
                  <a:pt x="18848" y="16433"/>
                  <a:pt x="18901" y="16421"/>
                </a:cubicBezTo>
                <a:cubicBezTo>
                  <a:pt x="18948" y="16410"/>
                  <a:pt x="19002" y="16402"/>
                  <a:pt x="19050" y="16396"/>
                </a:cubicBezTo>
                <a:cubicBezTo>
                  <a:pt x="19115" y="16388"/>
                  <a:pt x="19189" y="16426"/>
                  <a:pt x="19248" y="16446"/>
                </a:cubicBezTo>
                <a:cubicBezTo>
                  <a:pt x="19283" y="16458"/>
                  <a:pt x="19340" y="16455"/>
                  <a:pt x="19372" y="16470"/>
                </a:cubicBezTo>
                <a:cubicBezTo>
                  <a:pt x="19395" y="16493"/>
                  <a:pt x="19399" y="16501"/>
                  <a:pt x="19422" y="16495"/>
                </a:cubicBezTo>
              </a:path>
              <a:path w="2680" h="1167">
                <a:moveTo>
                  <a:pt x="18951" y="16768"/>
                </a:moveTo>
                <a:cubicBezTo>
                  <a:pt x="19016" y="16786"/>
                  <a:pt x="19104" y="16812"/>
                  <a:pt x="19174" y="16793"/>
                </a:cubicBezTo>
                <a:cubicBezTo>
                  <a:pt x="19191" y="16785"/>
                  <a:pt x="19207" y="16776"/>
                  <a:pt x="19224" y="16768"/>
                </a:cubicBezTo>
              </a:path>
              <a:path w="2680" h="1167">
                <a:moveTo>
                  <a:pt x="18876" y="16793"/>
                </a:moveTo>
                <a:cubicBezTo>
                  <a:pt x="18866" y="16828"/>
                  <a:pt x="18834" y="16914"/>
                  <a:pt x="18876" y="16942"/>
                </a:cubicBezTo>
                <a:cubicBezTo>
                  <a:pt x="18923" y="16974"/>
                  <a:pt x="18933" y="16956"/>
                  <a:pt x="18976" y="16942"/>
                </a:cubicBezTo>
                <a:cubicBezTo>
                  <a:pt x="19005" y="16932"/>
                  <a:pt x="19056" y="16953"/>
                  <a:pt x="19075" y="16966"/>
                </a:cubicBezTo>
                <a:cubicBezTo>
                  <a:pt x="19108" y="16988"/>
                  <a:pt x="19146" y="17029"/>
                  <a:pt x="19149" y="17066"/>
                </a:cubicBezTo>
                <a:cubicBezTo>
                  <a:pt x="19154" y="17130"/>
                  <a:pt x="19174" y="17168"/>
                  <a:pt x="19174" y="17239"/>
                </a:cubicBezTo>
                <a:cubicBezTo>
                  <a:pt x="19174" y="17316"/>
                  <a:pt x="19166" y="17367"/>
                  <a:pt x="19149" y="17438"/>
                </a:cubicBezTo>
                <a:cubicBezTo>
                  <a:pt x="19138" y="17483"/>
                  <a:pt x="19112" y="17519"/>
                  <a:pt x="19075" y="17537"/>
                </a:cubicBezTo>
                <a:cubicBezTo>
                  <a:pt x="19050" y="17549"/>
                  <a:pt x="18984" y="17580"/>
                  <a:pt x="18951" y="17562"/>
                </a:cubicBezTo>
                <a:cubicBezTo>
                  <a:pt x="18931" y="17551"/>
                  <a:pt x="18879" y="17518"/>
                  <a:pt x="18876" y="17512"/>
                </a:cubicBezTo>
                <a:cubicBezTo>
                  <a:pt x="18876" y="17487"/>
                  <a:pt x="18876" y="17479"/>
                  <a:pt x="18876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6920" y="2286000"/>
            <a:ext cx="169920" cy="473040"/>
          </a:xfrm>
          <a:custGeom>
            <a:avLst/>
            <a:gdLst/>
            <a:ahLst/>
            <a:rect l="l" t="t" r="r" b="b"/>
            <a:pathLst>
              <a:path w="472" h="1316">
                <a:moveTo>
                  <a:pt x="744" y="7565"/>
                </a:moveTo>
                <a:cubicBezTo>
                  <a:pt x="721" y="7588"/>
                  <a:pt x="713" y="7592"/>
                  <a:pt x="719" y="7615"/>
                </a:cubicBezTo>
                <a:cubicBezTo>
                  <a:pt x="688" y="7568"/>
                  <a:pt x="674" y="7567"/>
                  <a:pt x="670" y="7491"/>
                </a:cubicBezTo>
                <a:cubicBezTo>
                  <a:pt x="665" y="7405"/>
                  <a:pt x="648" y="7329"/>
                  <a:pt x="645" y="7243"/>
                </a:cubicBezTo>
                <a:cubicBezTo>
                  <a:pt x="641" y="7135"/>
                  <a:pt x="670" y="7031"/>
                  <a:pt x="670" y="6921"/>
                </a:cubicBezTo>
                <a:cubicBezTo>
                  <a:pt x="670" y="6800"/>
                  <a:pt x="673" y="6679"/>
                  <a:pt x="695" y="6573"/>
                </a:cubicBezTo>
                <a:cubicBezTo>
                  <a:pt x="695" y="6557"/>
                  <a:pt x="695" y="6540"/>
                  <a:pt x="695" y="6524"/>
                </a:cubicBezTo>
                <a:cubicBezTo>
                  <a:pt x="716" y="6550"/>
                  <a:pt x="745" y="6600"/>
                  <a:pt x="769" y="6648"/>
                </a:cubicBezTo>
                <a:cubicBezTo>
                  <a:pt x="809" y="6727"/>
                  <a:pt x="839" y="6812"/>
                  <a:pt x="868" y="6896"/>
                </a:cubicBezTo>
                <a:cubicBezTo>
                  <a:pt x="895" y="6973"/>
                  <a:pt x="939" y="7039"/>
                  <a:pt x="943" y="7119"/>
                </a:cubicBezTo>
                <a:cubicBezTo>
                  <a:pt x="946" y="7179"/>
                  <a:pt x="946" y="7252"/>
                  <a:pt x="893" y="7293"/>
                </a:cubicBezTo>
                <a:cubicBezTo>
                  <a:pt x="858" y="7320"/>
                  <a:pt x="787" y="7326"/>
                  <a:pt x="744" y="7317"/>
                </a:cubicBezTo>
                <a:cubicBezTo>
                  <a:pt x="693" y="7306"/>
                  <a:pt x="634" y="7300"/>
                  <a:pt x="595" y="7268"/>
                </a:cubicBezTo>
                <a:cubicBezTo>
                  <a:pt x="577" y="7253"/>
                  <a:pt x="543" y="7237"/>
                  <a:pt x="546" y="7193"/>
                </a:cubicBezTo>
                <a:cubicBezTo>
                  <a:pt x="551" y="7108"/>
                  <a:pt x="609" y="7063"/>
                  <a:pt x="645" y="6995"/>
                </a:cubicBezTo>
                <a:cubicBezTo>
                  <a:pt x="705" y="6882"/>
                  <a:pt x="755" y="6759"/>
                  <a:pt x="819" y="6648"/>
                </a:cubicBezTo>
                <a:cubicBezTo>
                  <a:pt x="869" y="6562"/>
                  <a:pt x="907" y="6478"/>
                  <a:pt x="967" y="6400"/>
                </a:cubicBezTo>
                <a:cubicBezTo>
                  <a:pt x="992" y="6367"/>
                  <a:pt x="999" y="6368"/>
                  <a:pt x="1017" y="6350"/>
                </a:cubicBezTo>
                <a:cubicBezTo>
                  <a:pt x="1001" y="6443"/>
                  <a:pt x="989" y="6532"/>
                  <a:pt x="967" y="6623"/>
                </a:cubicBezTo>
                <a:cubicBezTo>
                  <a:pt x="935" y="6753"/>
                  <a:pt x="878" y="6867"/>
                  <a:pt x="843" y="6995"/>
                </a:cubicBezTo>
                <a:cubicBezTo>
                  <a:pt x="810" y="7116"/>
                  <a:pt x="771" y="7228"/>
                  <a:pt x="719" y="7342"/>
                </a:cubicBezTo>
                <a:cubicBezTo>
                  <a:pt x="681" y="7427"/>
                  <a:pt x="644" y="7537"/>
                  <a:pt x="595" y="7615"/>
                </a:cubicBezTo>
                <a:cubicBezTo>
                  <a:pt x="576" y="7646"/>
                  <a:pt x="564" y="7622"/>
                  <a:pt x="595" y="7640"/>
                </a:cubicBezTo>
                <a:cubicBezTo>
                  <a:pt x="620" y="7640"/>
                  <a:pt x="628" y="7640"/>
                  <a:pt x="620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9760" y="2320920"/>
            <a:ext cx="509400" cy="393840"/>
          </a:xfrm>
          <a:custGeom>
            <a:avLst/>
            <a:gdLst/>
            <a:ahLst/>
            <a:rect l="l" t="t" r="r" b="b"/>
            <a:pathLst>
              <a:path w="1415" h="1093">
                <a:moveTo>
                  <a:pt x="1836" y="6697"/>
                </a:moveTo>
                <a:cubicBezTo>
                  <a:pt x="1844" y="6705"/>
                  <a:pt x="1852" y="6714"/>
                  <a:pt x="1860" y="6722"/>
                </a:cubicBezTo>
                <a:cubicBezTo>
                  <a:pt x="1854" y="6703"/>
                  <a:pt x="1817" y="6662"/>
                  <a:pt x="1786" y="6648"/>
                </a:cubicBezTo>
                <a:cubicBezTo>
                  <a:pt x="1759" y="6636"/>
                  <a:pt x="1705" y="6660"/>
                  <a:pt x="1687" y="6672"/>
                </a:cubicBezTo>
                <a:cubicBezTo>
                  <a:pt x="1658" y="6691"/>
                  <a:pt x="1629" y="6736"/>
                  <a:pt x="1612" y="6747"/>
                </a:cubicBezTo>
                <a:cubicBezTo>
                  <a:pt x="1574" y="6773"/>
                  <a:pt x="1571" y="6784"/>
                  <a:pt x="1538" y="6821"/>
                </a:cubicBezTo>
                <a:cubicBezTo>
                  <a:pt x="1527" y="6833"/>
                  <a:pt x="1488" y="6901"/>
                  <a:pt x="1513" y="6921"/>
                </a:cubicBezTo>
                <a:cubicBezTo>
                  <a:pt x="1525" y="6931"/>
                  <a:pt x="1595" y="6964"/>
                  <a:pt x="1612" y="6970"/>
                </a:cubicBezTo>
                <a:cubicBezTo>
                  <a:pt x="1668" y="6989"/>
                  <a:pt x="1734" y="7009"/>
                  <a:pt x="1786" y="7045"/>
                </a:cubicBezTo>
                <a:cubicBezTo>
                  <a:pt x="1826" y="7072"/>
                  <a:pt x="1875" y="7172"/>
                  <a:pt x="1885" y="7218"/>
                </a:cubicBezTo>
                <a:cubicBezTo>
                  <a:pt x="1900" y="7288"/>
                  <a:pt x="1879" y="7364"/>
                  <a:pt x="1836" y="7417"/>
                </a:cubicBezTo>
                <a:cubicBezTo>
                  <a:pt x="1799" y="7462"/>
                  <a:pt x="1742" y="7482"/>
                  <a:pt x="1687" y="7491"/>
                </a:cubicBezTo>
                <a:cubicBezTo>
                  <a:pt x="1626" y="7501"/>
                  <a:pt x="1585" y="7475"/>
                  <a:pt x="1538" y="7466"/>
                </a:cubicBezTo>
                <a:cubicBezTo>
                  <a:pt x="1500" y="7458"/>
                  <a:pt x="1429" y="7445"/>
                  <a:pt x="1414" y="7392"/>
                </a:cubicBezTo>
                <a:cubicBezTo>
                  <a:pt x="1400" y="7344"/>
                  <a:pt x="1414" y="7325"/>
                  <a:pt x="1439" y="7293"/>
                </a:cubicBezTo>
              </a:path>
              <a:path w="1415" h="1093">
                <a:moveTo>
                  <a:pt x="2183" y="6871"/>
                </a:moveTo>
                <a:cubicBezTo>
                  <a:pt x="2164" y="6984"/>
                  <a:pt x="2158" y="7079"/>
                  <a:pt x="2158" y="7193"/>
                </a:cubicBezTo>
                <a:cubicBezTo>
                  <a:pt x="2158" y="7276"/>
                  <a:pt x="2169" y="7348"/>
                  <a:pt x="2183" y="7417"/>
                </a:cubicBezTo>
                <a:cubicBezTo>
                  <a:pt x="2193" y="7466"/>
                  <a:pt x="2183" y="7522"/>
                  <a:pt x="2183" y="7441"/>
                </a:cubicBezTo>
                <a:cubicBezTo>
                  <a:pt x="2183" y="7425"/>
                  <a:pt x="2183" y="7408"/>
                  <a:pt x="2183" y="7392"/>
                </a:cubicBezTo>
              </a:path>
              <a:path w="1415" h="1093">
                <a:moveTo>
                  <a:pt x="2257" y="6499"/>
                </a:moveTo>
                <a:cubicBezTo>
                  <a:pt x="2265" y="6482"/>
                  <a:pt x="2274" y="6466"/>
                  <a:pt x="2282" y="6449"/>
                </a:cubicBezTo>
              </a:path>
              <a:path w="1415" h="1093">
                <a:moveTo>
                  <a:pt x="2406" y="7045"/>
                </a:moveTo>
                <a:cubicBezTo>
                  <a:pt x="2406" y="7219"/>
                  <a:pt x="2406" y="7690"/>
                  <a:pt x="2406" y="7516"/>
                </a:cubicBezTo>
                <a:cubicBezTo>
                  <a:pt x="2406" y="7428"/>
                  <a:pt x="2418" y="7350"/>
                  <a:pt x="2431" y="7268"/>
                </a:cubicBezTo>
                <a:cubicBezTo>
                  <a:pt x="2445" y="7179"/>
                  <a:pt x="2438" y="7129"/>
                  <a:pt x="2480" y="7045"/>
                </a:cubicBezTo>
                <a:cubicBezTo>
                  <a:pt x="2523" y="6958"/>
                  <a:pt x="2535" y="6907"/>
                  <a:pt x="2604" y="6846"/>
                </a:cubicBezTo>
                <a:cubicBezTo>
                  <a:pt x="2641" y="6813"/>
                  <a:pt x="2673" y="6776"/>
                  <a:pt x="2729" y="6796"/>
                </a:cubicBezTo>
                <a:cubicBezTo>
                  <a:pt x="2807" y="6824"/>
                  <a:pt x="2817" y="6922"/>
                  <a:pt x="2828" y="6995"/>
                </a:cubicBezTo>
                <a:cubicBezTo>
                  <a:pt x="2848" y="7137"/>
                  <a:pt x="2834" y="7307"/>
                  <a:pt x="2803" y="7441"/>
                </a:cubicBezTo>
                <a:cubicBezTo>
                  <a:pt x="2801" y="7451"/>
                  <a:pt x="2803" y="7559"/>
                  <a:pt x="2803" y="7491"/>
                </a:cubicBezTo>
                <a:cubicBezTo>
                  <a:pt x="2803" y="7454"/>
                  <a:pt x="2822" y="7434"/>
                  <a:pt x="2828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232000"/>
            <a:ext cx="1643040" cy="474840"/>
          </a:xfrm>
          <a:custGeom>
            <a:avLst/>
            <a:gdLst/>
            <a:ahLst/>
            <a:rect l="l" t="t" r="r" b="b"/>
            <a:pathLst>
              <a:path w="4565" h="1316">
                <a:moveTo>
                  <a:pt x="3200" y="6449"/>
                </a:moveTo>
                <a:cubicBezTo>
                  <a:pt x="3331" y="6431"/>
                  <a:pt x="3383" y="6391"/>
                  <a:pt x="3473" y="6474"/>
                </a:cubicBezTo>
                <a:cubicBezTo>
                  <a:pt x="3513" y="6510"/>
                  <a:pt x="3552" y="6620"/>
                  <a:pt x="3547" y="6672"/>
                </a:cubicBezTo>
                <a:cubicBezTo>
                  <a:pt x="3541" y="6738"/>
                  <a:pt x="3500" y="6834"/>
                  <a:pt x="3473" y="6896"/>
                </a:cubicBezTo>
                <a:cubicBezTo>
                  <a:pt x="3438" y="6978"/>
                  <a:pt x="3394" y="7047"/>
                  <a:pt x="3349" y="7119"/>
                </a:cubicBezTo>
                <a:cubicBezTo>
                  <a:pt x="3300" y="7198"/>
                  <a:pt x="3228" y="7276"/>
                  <a:pt x="3200" y="7367"/>
                </a:cubicBezTo>
                <a:cubicBezTo>
                  <a:pt x="3188" y="7406"/>
                  <a:pt x="3144" y="7457"/>
                  <a:pt x="3200" y="7491"/>
                </a:cubicBezTo>
                <a:cubicBezTo>
                  <a:pt x="3209" y="7497"/>
                  <a:pt x="3310" y="7513"/>
                  <a:pt x="3324" y="7516"/>
                </a:cubicBezTo>
                <a:cubicBezTo>
                  <a:pt x="3380" y="7528"/>
                  <a:pt x="3437" y="7491"/>
                  <a:pt x="3497" y="7491"/>
                </a:cubicBezTo>
                <a:cubicBezTo>
                  <a:pt x="3542" y="7491"/>
                  <a:pt x="3555" y="7494"/>
                  <a:pt x="3572" y="7466"/>
                </a:cubicBezTo>
              </a:path>
              <a:path w="4565" h="1316">
                <a:moveTo>
                  <a:pt x="3820" y="6896"/>
                </a:moveTo>
                <a:cubicBezTo>
                  <a:pt x="3812" y="6985"/>
                  <a:pt x="3783" y="7056"/>
                  <a:pt x="3770" y="7144"/>
                </a:cubicBezTo>
                <a:cubicBezTo>
                  <a:pt x="3759" y="7218"/>
                  <a:pt x="3763" y="7308"/>
                  <a:pt x="3795" y="7367"/>
                </a:cubicBezTo>
                <a:cubicBezTo>
                  <a:pt x="3812" y="7398"/>
                  <a:pt x="3841" y="7470"/>
                  <a:pt x="3894" y="7441"/>
                </a:cubicBezTo>
                <a:cubicBezTo>
                  <a:pt x="3960" y="7406"/>
                  <a:pt x="4009" y="7358"/>
                  <a:pt x="4043" y="7293"/>
                </a:cubicBezTo>
                <a:cubicBezTo>
                  <a:pt x="4078" y="7228"/>
                  <a:pt x="4106" y="7118"/>
                  <a:pt x="4118" y="7045"/>
                </a:cubicBezTo>
                <a:cubicBezTo>
                  <a:pt x="4128" y="6988"/>
                  <a:pt x="4111" y="6922"/>
                  <a:pt x="4142" y="6871"/>
                </a:cubicBezTo>
                <a:cubicBezTo>
                  <a:pt x="4150" y="6863"/>
                  <a:pt x="4159" y="6854"/>
                  <a:pt x="4167" y="6846"/>
                </a:cubicBezTo>
                <a:cubicBezTo>
                  <a:pt x="4167" y="6922"/>
                  <a:pt x="4128" y="6996"/>
                  <a:pt x="4142" y="7069"/>
                </a:cubicBezTo>
                <a:cubicBezTo>
                  <a:pt x="4155" y="7136"/>
                  <a:pt x="4148" y="7227"/>
                  <a:pt x="4167" y="7293"/>
                </a:cubicBezTo>
                <a:cubicBezTo>
                  <a:pt x="4185" y="7358"/>
                  <a:pt x="4195" y="7394"/>
                  <a:pt x="4242" y="7441"/>
                </a:cubicBezTo>
                <a:cubicBezTo>
                  <a:pt x="4275" y="7474"/>
                  <a:pt x="4296" y="7466"/>
                  <a:pt x="4341" y="7466"/>
                </a:cubicBezTo>
                <a:cubicBezTo>
                  <a:pt x="4373" y="7466"/>
                  <a:pt x="4369" y="7445"/>
                  <a:pt x="4390" y="7417"/>
                </a:cubicBezTo>
              </a:path>
              <a:path w="4565" h="1316">
                <a:moveTo>
                  <a:pt x="4589" y="6871"/>
                </a:moveTo>
                <a:cubicBezTo>
                  <a:pt x="4689" y="6871"/>
                  <a:pt x="4831" y="6847"/>
                  <a:pt x="4911" y="6896"/>
                </a:cubicBezTo>
              </a:path>
              <a:path w="4565" h="1316">
                <a:moveTo>
                  <a:pt x="4589" y="7094"/>
                </a:moveTo>
                <a:cubicBezTo>
                  <a:pt x="4639" y="7124"/>
                  <a:pt x="4676" y="7119"/>
                  <a:pt x="4738" y="7119"/>
                </a:cubicBezTo>
                <a:cubicBezTo>
                  <a:pt x="4780" y="7119"/>
                  <a:pt x="4972" y="7119"/>
                  <a:pt x="4936" y="7119"/>
                </a:cubicBezTo>
              </a:path>
              <a:path w="4565" h="1316">
                <a:moveTo>
                  <a:pt x="5407" y="6548"/>
                </a:moveTo>
                <a:cubicBezTo>
                  <a:pt x="5392" y="6589"/>
                  <a:pt x="5327" y="6618"/>
                  <a:pt x="5358" y="6648"/>
                </a:cubicBezTo>
                <a:cubicBezTo>
                  <a:pt x="5393" y="6681"/>
                  <a:pt x="5391" y="6569"/>
                  <a:pt x="5407" y="6524"/>
                </a:cubicBezTo>
                <a:cubicBezTo>
                  <a:pt x="5424" y="6475"/>
                  <a:pt x="5456" y="6426"/>
                  <a:pt x="5482" y="6375"/>
                </a:cubicBezTo>
                <a:cubicBezTo>
                  <a:pt x="5503" y="6334"/>
                  <a:pt x="5500" y="6290"/>
                  <a:pt x="5531" y="6251"/>
                </a:cubicBezTo>
                <a:cubicBezTo>
                  <a:pt x="5556" y="6220"/>
                  <a:pt x="5587" y="6186"/>
                  <a:pt x="5631" y="6201"/>
                </a:cubicBezTo>
                <a:cubicBezTo>
                  <a:pt x="5672" y="6215"/>
                  <a:pt x="5697" y="6263"/>
                  <a:pt x="5705" y="6300"/>
                </a:cubicBezTo>
                <a:cubicBezTo>
                  <a:pt x="5719" y="6371"/>
                  <a:pt x="5746" y="6455"/>
                  <a:pt x="5755" y="6524"/>
                </a:cubicBezTo>
                <a:cubicBezTo>
                  <a:pt x="5769" y="6633"/>
                  <a:pt x="5759" y="6712"/>
                  <a:pt x="5755" y="6821"/>
                </a:cubicBezTo>
                <a:cubicBezTo>
                  <a:pt x="5751" y="6934"/>
                  <a:pt x="5742" y="7011"/>
                  <a:pt x="5705" y="7119"/>
                </a:cubicBezTo>
                <a:cubicBezTo>
                  <a:pt x="5686" y="7176"/>
                  <a:pt x="5621" y="7321"/>
                  <a:pt x="5581" y="7367"/>
                </a:cubicBezTo>
                <a:cubicBezTo>
                  <a:pt x="5547" y="7405"/>
                  <a:pt x="5479" y="7459"/>
                  <a:pt x="5432" y="7466"/>
                </a:cubicBezTo>
                <a:cubicBezTo>
                  <a:pt x="5374" y="7475"/>
                  <a:pt x="5349" y="7449"/>
                  <a:pt x="5308" y="7441"/>
                </a:cubicBezTo>
                <a:cubicBezTo>
                  <a:pt x="5223" y="7425"/>
                  <a:pt x="5236" y="7411"/>
                  <a:pt x="5184" y="7342"/>
                </a:cubicBezTo>
                <a:cubicBezTo>
                  <a:pt x="5144" y="7289"/>
                  <a:pt x="5124" y="7267"/>
                  <a:pt x="5159" y="7193"/>
                </a:cubicBezTo>
                <a:cubicBezTo>
                  <a:pt x="5173" y="7162"/>
                  <a:pt x="5256" y="7101"/>
                  <a:pt x="5283" y="7094"/>
                </a:cubicBezTo>
                <a:cubicBezTo>
                  <a:pt x="5358" y="7074"/>
                  <a:pt x="5400" y="7110"/>
                  <a:pt x="5457" y="7144"/>
                </a:cubicBezTo>
                <a:cubicBezTo>
                  <a:pt x="5516" y="7179"/>
                  <a:pt x="5525" y="7214"/>
                  <a:pt x="5556" y="7268"/>
                </a:cubicBezTo>
                <a:cubicBezTo>
                  <a:pt x="5587" y="7323"/>
                  <a:pt x="5578" y="7356"/>
                  <a:pt x="5581" y="7417"/>
                </a:cubicBezTo>
                <a:cubicBezTo>
                  <a:pt x="5582" y="7447"/>
                  <a:pt x="5591" y="7526"/>
                  <a:pt x="5631" y="7516"/>
                </a:cubicBezTo>
                <a:cubicBezTo>
                  <a:pt x="5631" y="7508"/>
                  <a:pt x="5631" y="7499"/>
                  <a:pt x="5631" y="7491"/>
                </a:cubicBezTo>
              </a:path>
              <a:path w="4565" h="1316">
                <a:moveTo>
                  <a:pt x="6350" y="6846"/>
                </a:moveTo>
                <a:cubicBezTo>
                  <a:pt x="6328" y="6829"/>
                  <a:pt x="6284" y="6802"/>
                  <a:pt x="6251" y="6821"/>
                </a:cubicBezTo>
                <a:cubicBezTo>
                  <a:pt x="6212" y="6843"/>
                  <a:pt x="6162" y="6847"/>
                  <a:pt x="6127" y="6871"/>
                </a:cubicBezTo>
                <a:cubicBezTo>
                  <a:pt x="6078" y="6904"/>
                  <a:pt x="6064" y="6928"/>
                  <a:pt x="6102" y="6970"/>
                </a:cubicBezTo>
                <a:cubicBezTo>
                  <a:pt x="6146" y="7019"/>
                  <a:pt x="6206" y="7060"/>
                  <a:pt x="6251" y="7094"/>
                </a:cubicBezTo>
                <a:cubicBezTo>
                  <a:pt x="6301" y="7132"/>
                  <a:pt x="6320" y="7172"/>
                  <a:pt x="6325" y="7243"/>
                </a:cubicBezTo>
                <a:cubicBezTo>
                  <a:pt x="6328" y="7293"/>
                  <a:pt x="6328" y="7363"/>
                  <a:pt x="6276" y="7392"/>
                </a:cubicBezTo>
                <a:cubicBezTo>
                  <a:pt x="6249" y="7407"/>
                  <a:pt x="6190" y="7433"/>
                  <a:pt x="6152" y="7417"/>
                </a:cubicBezTo>
                <a:cubicBezTo>
                  <a:pt x="6142" y="7413"/>
                  <a:pt x="6054" y="7369"/>
                  <a:pt x="6052" y="7367"/>
                </a:cubicBezTo>
                <a:cubicBezTo>
                  <a:pt x="6052" y="7342"/>
                  <a:pt x="6052" y="7334"/>
                  <a:pt x="6052" y="7317"/>
                </a:cubicBezTo>
              </a:path>
              <a:path w="4565" h="1316">
                <a:moveTo>
                  <a:pt x="6499" y="6896"/>
                </a:moveTo>
                <a:cubicBezTo>
                  <a:pt x="6499" y="7011"/>
                  <a:pt x="6491" y="7110"/>
                  <a:pt x="6474" y="7218"/>
                </a:cubicBezTo>
                <a:cubicBezTo>
                  <a:pt x="6471" y="7239"/>
                  <a:pt x="6474" y="7401"/>
                  <a:pt x="6474" y="7342"/>
                </a:cubicBezTo>
                <a:cubicBezTo>
                  <a:pt x="6440" y="7286"/>
                  <a:pt x="6449" y="7239"/>
                  <a:pt x="6449" y="7169"/>
                </a:cubicBezTo>
                <a:cubicBezTo>
                  <a:pt x="6449" y="7128"/>
                  <a:pt x="6449" y="7086"/>
                  <a:pt x="6449" y="7045"/>
                </a:cubicBezTo>
              </a:path>
              <a:path w="4565" h="1316">
                <a:moveTo>
                  <a:pt x="6499" y="6672"/>
                </a:moveTo>
                <a:cubicBezTo>
                  <a:pt x="6507" y="6664"/>
                  <a:pt x="6516" y="6656"/>
                  <a:pt x="6524" y="6648"/>
                </a:cubicBezTo>
              </a:path>
              <a:path w="4565" h="1316">
                <a:moveTo>
                  <a:pt x="6623" y="7045"/>
                </a:moveTo>
                <a:cubicBezTo>
                  <a:pt x="6623" y="7135"/>
                  <a:pt x="6614" y="7186"/>
                  <a:pt x="6598" y="7268"/>
                </a:cubicBezTo>
                <a:cubicBezTo>
                  <a:pt x="6598" y="7203"/>
                  <a:pt x="6608" y="7179"/>
                  <a:pt x="6623" y="7119"/>
                </a:cubicBezTo>
                <a:cubicBezTo>
                  <a:pt x="6638" y="7060"/>
                  <a:pt x="6666" y="7021"/>
                  <a:pt x="6697" y="6970"/>
                </a:cubicBezTo>
                <a:cubicBezTo>
                  <a:pt x="6736" y="6906"/>
                  <a:pt x="6765" y="6861"/>
                  <a:pt x="6846" y="6846"/>
                </a:cubicBezTo>
                <a:cubicBezTo>
                  <a:pt x="6889" y="6838"/>
                  <a:pt x="6937" y="6909"/>
                  <a:pt x="6945" y="6945"/>
                </a:cubicBezTo>
                <a:cubicBezTo>
                  <a:pt x="6964" y="7027"/>
                  <a:pt x="6970" y="7107"/>
                  <a:pt x="6970" y="7193"/>
                </a:cubicBezTo>
                <a:cubicBezTo>
                  <a:pt x="6970" y="7252"/>
                  <a:pt x="6945" y="7279"/>
                  <a:pt x="6945" y="7342"/>
                </a:cubicBezTo>
                <a:cubicBezTo>
                  <a:pt x="6945" y="7453"/>
                  <a:pt x="6945" y="7364"/>
                  <a:pt x="6945" y="7342"/>
                </a:cubicBezTo>
              </a:path>
              <a:path w="4565" h="1316">
                <a:moveTo>
                  <a:pt x="7293" y="6821"/>
                </a:moveTo>
                <a:cubicBezTo>
                  <a:pt x="7293" y="6930"/>
                  <a:pt x="7273" y="7015"/>
                  <a:pt x="7268" y="7119"/>
                </a:cubicBezTo>
                <a:cubicBezTo>
                  <a:pt x="7265" y="7182"/>
                  <a:pt x="7266" y="7270"/>
                  <a:pt x="7317" y="7317"/>
                </a:cubicBezTo>
                <a:cubicBezTo>
                  <a:pt x="7335" y="7334"/>
                  <a:pt x="7412" y="7358"/>
                  <a:pt x="7441" y="7342"/>
                </a:cubicBezTo>
                <a:cubicBezTo>
                  <a:pt x="7485" y="7317"/>
                  <a:pt x="7519" y="7260"/>
                  <a:pt x="7541" y="7218"/>
                </a:cubicBezTo>
                <a:cubicBezTo>
                  <a:pt x="7566" y="7171"/>
                  <a:pt x="7606" y="7073"/>
                  <a:pt x="7615" y="7020"/>
                </a:cubicBezTo>
                <a:cubicBezTo>
                  <a:pt x="7628" y="6945"/>
                  <a:pt x="7647" y="6892"/>
                  <a:pt x="7665" y="6821"/>
                </a:cubicBezTo>
                <a:cubicBezTo>
                  <a:pt x="7676" y="6777"/>
                  <a:pt x="7659" y="6788"/>
                  <a:pt x="7689" y="6747"/>
                </a:cubicBezTo>
                <a:cubicBezTo>
                  <a:pt x="7672" y="6818"/>
                  <a:pt x="7656" y="6886"/>
                  <a:pt x="7640" y="6970"/>
                </a:cubicBezTo>
                <a:cubicBezTo>
                  <a:pt x="7629" y="7030"/>
                  <a:pt x="7608" y="7154"/>
                  <a:pt x="7640" y="7218"/>
                </a:cubicBezTo>
                <a:cubicBezTo>
                  <a:pt x="7644" y="7226"/>
                  <a:pt x="7709" y="7302"/>
                  <a:pt x="7714" y="7293"/>
                </a:cubicBezTo>
                <a:cubicBezTo>
                  <a:pt x="7714" y="7251"/>
                  <a:pt x="7706" y="7235"/>
                  <a:pt x="7739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73240" y="2411280"/>
            <a:ext cx="822600" cy="268560"/>
          </a:xfrm>
          <a:custGeom>
            <a:avLst/>
            <a:gdLst/>
            <a:ahLst/>
            <a:rect l="l" t="t" r="r" b="b"/>
            <a:pathLst>
              <a:path w="2283" h="745">
                <a:moveTo>
                  <a:pt x="8607" y="6821"/>
                </a:moveTo>
                <a:cubicBezTo>
                  <a:pt x="8634" y="6939"/>
                  <a:pt x="8661" y="6957"/>
                  <a:pt x="8607" y="6896"/>
                </a:cubicBezTo>
                <a:cubicBezTo>
                  <a:pt x="8587" y="6873"/>
                  <a:pt x="8546" y="6825"/>
                  <a:pt x="8533" y="6796"/>
                </a:cubicBezTo>
                <a:cubicBezTo>
                  <a:pt x="8515" y="6756"/>
                  <a:pt x="8475" y="6763"/>
                  <a:pt x="8434" y="6796"/>
                </a:cubicBezTo>
                <a:cubicBezTo>
                  <a:pt x="8393" y="6829"/>
                  <a:pt x="8354" y="6872"/>
                  <a:pt x="8334" y="6921"/>
                </a:cubicBezTo>
                <a:cubicBezTo>
                  <a:pt x="8299" y="7007"/>
                  <a:pt x="8264" y="7077"/>
                  <a:pt x="8260" y="7169"/>
                </a:cubicBezTo>
                <a:cubicBezTo>
                  <a:pt x="8257" y="7227"/>
                  <a:pt x="8280" y="7317"/>
                  <a:pt x="8310" y="7367"/>
                </a:cubicBezTo>
                <a:cubicBezTo>
                  <a:pt x="8359" y="7449"/>
                  <a:pt x="8439" y="7423"/>
                  <a:pt x="8508" y="7417"/>
                </a:cubicBezTo>
                <a:cubicBezTo>
                  <a:pt x="8570" y="7411"/>
                  <a:pt x="8601" y="7395"/>
                  <a:pt x="8657" y="7367"/>
                </a:cubicBezTo>
              </a:path>
              <a:path w="2283" h="745">
                <a:moveTo>
                  <a:pt x="8905" y="6945"/>
                </a:moveTo>
                <a:cubicBezTo>
                  <a:pt x="8860" y="7050"/>
                  <a:pt x="8855" y="7084"/>
                  <a:pt x="8855" y="7193"/>
                </a:cubicBezTo>
                <a:cubicBezTo>
                  <a:pt x="8855" y="7248"/>
                  <a:pt x="8872" y="7286"/>
                  <a:pt x="8930" y="7293"/>
                </a:cubicBezTo>
                <a:cubicBezTo>
                  <a:pt x="8983" y="7299"/>
                  <a:pt x="9016" y="7314"/>
                  <a:pt x="9079" y="7293"/>
                </a:cubicBezTo>
                <a:cubicBezTo>
                  <a:pt x="9152" y="7268"/>
                  <a:pt x="9171" y="7208"/>
                  <a:pt x="9203" y="7144"/>
                </a:cubicBezTo>
                <a:cubicBezTo>
                  <a:pt x="9239" y="7071"/>
                  <a:pt x="9247" y="6968"/>
                  <a:pt x="9203" y="6896"/>
                </a:cubicBezTo>
                <a:cubicBezTo>
                  <a:pt x="9176" y="6853"/>
                  <a:pt x="9074" y="6805"/>
                  <a:pt x="9029" y="6796"/>
                </a:cubicBezTo>
                <a:cubicBezTo>
                  <a:pt x="8959" y="6782"/>
                  <a:pt x="8900" y="6830"/>
                  <a:pt x="8855" y="6871"/>
                </a:cubicBezTo>
                <a:cubicBezTo>
                  <a:pt x="8815" y="6907"/>
                  <a:pt x="8787" y="6940"/>
                  <a:pt x="8781" y="6995"/>
                </a:cubicBezTo>
                <a:cubicBezTo>
                  <a:pt x="8775" y="7056"/>
                  <a:pt x="8799" y="7046"/>
                  <a:pt x="8855" y="7069"/>
                </a:cubicBezTo>
              </a:path>
              <a:path w="2283" h="745">
                <a:moveTo>
                  <a:pt x="9649" y="6772"/>
                </a:moveTo>
                <a:cubicBezTo>
                  <a:pt x="9672" y="6749"/>
                  <a:pt x="9680" y="6745"/>
                  <a:pt x="9674" y="6722"/>
                </a:cubicBezTo>
                <a:cubicBezTo>
                  <a:pt x="9627" y="6722"/>
                  <a:pt x="9611" y="6739"/>
                  <a:pt x="9575" y="6747"/>
                </a:cubicBezTo>
                <a:cubicBezTo>
                  <a:pt x="9500" y="6763"/>
                  <a:pt x="9512" y="6764"/>
                  <a:pt x="9475" y="6821"/>
                </a:cubicBezTo>
                <a:cubicBezTo>
                  <a:pt x="9451" y="6858"/>
                  <a:pt x="9466" y="6884"/>
                  <a:pt x="9500" y="6921"/>
                </a:cubicBezTo>
                <a:cubicBezTo>
                  <a:pt x="9552" y="6978"/>
                  <a:pt x="9611" y="7005"/>
                  <a:pt x="9649" y="7069"/>
                </a:cubicBezTo>
                <a:cubicBezTo>
                  <a:pt x="9699" y="7154"/>
                  <a:pt x="9695" y="7150"/>
                  <a:pt x="9674" y="7243"/>
                </a:cubicBezTo>
                <a:cubicBezTo>
                  <a:pt x="9670" y="7262"/>
                  <a:pt x="9588" y="7305"/>
                  <a:pt x="9550" y="7317"/>
                </a:cubicBezTo>
                <a:cubicBezTo>
                  <a:pt x="9492" y="7336"/>
                  <a:pt x="9422" y="7305"/>
                  <a:pt x="9376" y="7293"/>
                </a:cubicBezTo>
                <a:cubicBezTo>
                  <a:pt x="9341" y="7293"/>
                  <a:pt x="9337" y="7284"/>
                  <a:pt x="9376" y="7243"/>
                </a:cubicBezTo>
              </a:path>
              <a:path w="2283" h="745">
                <a:moveTo>
                  <a:pt x="9872" y="6821"/>
                </a:moveTo>
                <a:cubicBezTo>
                  <a:pt x="9863" y="6934"/>
                  <a:pt x="9816" y="7036"/>
                  <a:pt x="9798" y="7144"/>
                </a:cubicBezTo>
                <a:cubicBezTo>
                  <a:pt x="9789" y="7195"/>
                  <a:pt x="9830" y="7241"/>
                  <a:pt x="9872" y="7268"/>
                </a:cubicBezTo>
                <a:cubicBezTo>
                  <a:pt x="9924" y="7301"/>
                  <a:pt x="9994" y="7292"/>
                  <a:pt x="10046" y="7268"/>
                </a:cubicBezTo>
                <a:cubicBezTo>
                  <a:pt x="10098" y="7244"/>
                  <a:pt x="10168" y="7170"/>
                  <a:pt x="10195" y="7119"/>
                </a:cubicBezTo>
                <a:cubicBezTo>
                  <a:pt x="10232" y="7049"/>
                  <a:pt x="10301" y="6917"/>
                  <a:pt x="10319" y="6846"/>
                </a:cubicBezTo>
                <a:cubicBezTo>
                  <a:pt x="10333" y="6788"/>
                  <a:pt x="10334" y="6745"/>
                  <a:pt x="10368" y="6697"/>
                </a:cubicBezTo>
                <a:cubicBezTo>
                  <a:pt x="10381" y="6777"/>
                  <a:pt x="10393" y="6838"/>
                  <a:pt x="10393" y="6921"/>
                </a:cubicBezTo>
                <a:cubicBezTo>
                  <a:pt x="10393" y="7004"/>
                  <a:pt x="10385" y="7117"/>
                  <a:pt x="10418" y="7193"/>
                </a:cubicBezTo>
                <a:cubicBezTo>
                  <a:pt x="10435" y="7232"/>
                  <a:pt x="10495" y="7284"/>
                  <a:pt x="10517" y="7317"/>
                </a:cubicBezTo>
                <a:cubicBezTo>
                  <a:pt x="10542" y="7355"/>
                  <a:pt x="10560" y="7353"/>
                  <a:pt x="10517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17760" y="3205080"/>
            <a:ext cx="1893600" cy="1019160"/>
          </a:xfrm>
          <a:custGeom>
            <a:avLst/>
            <a:gdLst/>
            <a:ahLst/>
            <a:rect l="l" t="t" r="r" b="b"/>
            <a:pathLst>
              <a:path w="5259" h="2829">
                <a:moveTo>
                  <a:pt x="4266" y="9475"/>
                </a:moveTo>
                <a:cubicBezTo>
                  <a:pt x="4382" y="9475"/>
                  <a:pt x="4498" y="9475"/>
                  <a:pt x="4614" y="9475"/>
                </a:cubicBezTo>
              </a:path>
              <a:path w="5259" h="2829">
                <a:moveTo>
                  <a:pt x="4217" y="9748"/>
                </a:moveTo>
                <a:cubicBezTo>
                  <a:pt x="4264" y="9810"/>
                  <a:pt x="4240" y="9798"/>
                  <a:pt x="4341" y="9798"/>
                </a:cubicBezTo>
                <a:cubicBezTo>
                  <a:pt x="4426" y="9798"/>
                  <a:pt x="4486" y="9803"/>
                  <a:pt x="4564" y="9823"/>
                </a:cubicBezTo>
                <a:cubicBezTo>
                  <a:pt x="4602" y="9833"/>
                  <a:pt x="4641" y="9815"/>
                  <a:pt x="4589" y="9798"/>
                </a:cubicBezTo>
              </a:path>
              <a:path w="5259" h="2829">
                <a:moveTo>
                  <a:pt x="5184" y="9203"/>
                </a:moveTo>
                <a:cubicBezTo>
                  <a:pt x="5172" y="9199"/>
                  <a:pt x="5129" y="9152"/>
                  <a:pt x="5159" y="9128"/>
                </a:cubicBezTo>
                <a:cubicBezTo>
                  <a:pt x="5176" y="9115"/>
                  <a:pt x="5198" y="9089"/>
                  <a:pt x="5209" y="9054"/>
                </a:cubicBezTo>
                <a:cubicBezTo>
                  <a:pt x="5221" y="9016"/>
                  <a:pt x="5232" y="9025"/>
                  <a:pt x="5259" y="9004"/>
                </a:cubicBezTo>
                <a:cubicBezTo>
                  <a:pt x="5319" y="8958"/>
                  <a:pt x="5283" y="8998"/>
                  <a:pt x="5333" y="9004"/>
                </a:cubicBezTo>
                <a:cubicBezTo>
                  <a:pt x="5388" y="9011"/>
                  <a:pt x="5384" y="9044"/>
                  <a:pt x="5407" y="9079"/>
                </a:cubicBezTo>
                <a:cubicBezTo>
                  <a:pt x="5439" y="9126"/>
                  <a:pt x="5454" y="9190"/>
                  <a:pt x="5457" y="9252"/>
                </a:cubicBezTo>
                <a:cubicBezTo>
                  <a:pt x="5465" y="9387"/>
                  <a:pt x="5459" y="9520"/>
                  <a:pt x="5432" y="9649"/>
                </a:cubicBezTo>
                <a:cubicBezTo>
                  <a:pt x="5407" y="9766"/>
                  <a:pt x="5405" y="9862"/>
                  <a:pt x="5358" y="9971"/>
                </a:cubicBezTo>
                <a:cubicBezTo>
                  <a:pt x="5325" y="10049"/>
                  <a:pt x="5293" y="10068"/>
                  <a:pt x="5234" y="10120"/>
                </a:cubicBezTo>
                <a:cubicBezTo>
                  <a:pt x="5195" y="10154"/>
                  <a:pt x="5160" y="10145"/>
                  <a:pt x="5110" y="10145"/>
                </a:cubicBezTo>
                <a:cubicBezTo>
                  <a:pt x="5050" y="10145"/>
                  <a:pt x="5031" y="10122"/>
                  <a:pt x="5011" y="10071"/>
                </a:cubicBezTo>
                <a:cubicBezTo>
                  <a:pt x="4998" y="10039"/>
                  <a:pt x="4968" y="9990"/>
                  <a:pt x="4986" y="9947"/>
                </a:cubicBezTo>
                <a:cubicBezTo>
                  <a:pt x="5007" y="9898"/>
                  <a:pt x="5018" y="9864"/>
                  <a:pt x="5060" y="9823"/>
                </a:cubicBezTo>
                <a:cubicBezTo>
                  <a:pt x="5086" y="9797"/>
                  <a:pt x="5155" y="9742"/>
                  <a:pt x="5184" y="9748"/>
                </a:cubicBezTo>
                <a:cubicBezTo>
                  <a:pt x="5229" y="9757"/>
                  <a:pt x="5271" y="9787"/>
                  <a:pt x="5308" y="9823"/>
                </a:cubicBezTo>
                <a:cubicBezTo>
                  <a:pt x="5368" y="9882"/>
                  <a:pt x="5377" y="9881"/>
                  <a:pt x="5383" y="9971"/>
                </a:cubicBezTo>
                <a:cubicBezTo>
                  <a:pt x="5386" y="10012"/>
                  <a:pt x="5404" y="10035"/>
                  <a:pt x="5407" y="10046"/>
                </a:cubicBezTo>
                <a:cubicBezTo>
                  <a:pt x="5407" y="10054"/>
                  <a:pt x="5407" y="10063"/>
                  <a:pt x="5407" y="10071"/>
                </a:cubicBezTo>
              </a:path>
              <a:path w="5259" h="2829">
                <a:moveTo>
                  <a:pt x="5904" y="9649"/>
                </a:moveTo>
                <a:cubicBezTo>
                  <a:pt x="5871" y="9688"/>
                  <a:pt x="5833" y="9715"/>
                  <a:pt x="5829" y="9748"/>
                </a:cubicBezTo>
                <a:cubicBezTo>
                  <a:pt x="5829" y="9756"/>
                  <a:pt x="5829" y="9765"/>
                  <a:pt x="5829" y="9773"/>
                </a:cubicBezTo>
                <a:cubicBezTo>
                  <a:pt x="5870" y="9763"/>
                  <a:pt x="5899" y="9745"/>
                  <a:pt x="5904" y="9699"/>
                </a:cubicBezTo>
                <a:cubicBezTo>
                  <a:pt x="5904" y="9691"/>
                  <a:pt x="5904" y="9682"/>
                  <a:pt x="5904" y="9674"/>
                </a:cubicBezTo>
                <a:cubicBezTo>
                  <a:pt x="5886" y="9680"/>
                  <a:pt x="5843" y="9717"/>
                  <a:pt x="5829" y="9748"/>
                </a:cubicBezTo>
                <a:cubicBezTo>
                  <a:pt x="5829" y="9773"/>
                  <a:pt x="5829" y="9781"/>
                  <a:pt x="5829" y="9798"/>
                </a:cubicBezTo>
              </a:path>
              <a:path w="5259" h="2829">
                <a:moveTo>
                  <a:pt x="6276" y="9178"/>
                </a:moveTo>
                <a:cubicBezTo>
                  <a:pt x="6281" y="9161"/>
                  <a:pt x="6298" y="9117"/>
                  <a:pt x="6325" y="9103"/>
                </a:cubicBezTo>
                <a:cubicBezTo>
                  <a:pt x="6355" y="9088"/>
                  <a:pt x="6416" y="9056"/>
                  <a:pt x="6449" y="9054"/>
                </a:cubicBezTo>
                <a:cubicBezTo>
                  <a:pt x="6505" y="9050"/>
                  <a:pt x="6556" y="9046"/>
                  <a:pt x="6598" y="9079"/>
                </a:cubicBezTo>
                <a:cubicBezTo>
                  <a:pt x="6649" y="9119"/>
                  <a:pt x="6620" y="9178"/>
                  <a:pt x="6598" y="9227"/>
                </a:cubicBezTo>
                <a:cubicBezTo>
                  <a:pt x="6569" y="9292"/>
                  <a:pt x="6482" y="9384"/>
                  <a:pt x="6424" y="9426"/>
                </a:cubicBezTo>
                <a:cubicBezTo>
                  <a:pt x="6398" y="9445"/>
                  <a:pt x="6299" y="9451"/>
                  <a:pt x="6350" y="9451"/>
                </a:cubicBezTo>
                <a:cubicBezTo>
                  <a:pt x="6395" y="9451"/>
                  <a:pt x="6465" y="9438"/>
                  <a:pt x="6499" y="9475"/>
                </a:cubicBezTo>
                <a:cubicBezTo>
                  <a:pt x="6544" y="9523"/>
                  <a:pt x="6578" y="9575"/>
                  <a:pt x="6598" y="9624"/>
                </a:cubicBezTo>
                <a:cubicBezTo>
                  <a:pt x="6618" y="9673"/>
                  <a:pt x="6637" y="9778"/>
                  <a:pt x="6598" y="9823"/>
                </a:cubicBezTo>
                <a:cubicBezTo>
                  <a:pt x="6545" y="9885"/>
                  <a:pt x="6497" y="9897"/>
                  <a:pt x="6424" y="9922"/>
                </a:cubicBezTo>
                <a:cubicBezTo>
                  <a:pt x="6344" y="9949"/>
                  <a:pt x="6297" y="9942"/>
                  <a:pt x="6251" y="9922"/>
                </a:cubicBezTo>
                <a:cubicBezTo>
                  <a:pt x="6219" y="9908"/>
                  <a:pt x="6212" y="9910"/>
                  <a:pt x="6251" y="9897"/>
                </a:cubicBezTo>
              </a:path>
              <a:path w="5259" h="2829">
                <a:moveTo>
                  <a:pt x="6945" y="9451"/>
                </a:moveTo>
                <a:cubicBezTo>
                  <a:pt x="6932" y="9583"/>
                  <a:pt x="6921" y="9694"/>
                  <a:pt x="6921" y="9823"/>
                </a:cubicBezTo>
                <a:cubicBezTo>
                  <a:pt x="6921" y="9856"/>
                  <a:pt x="6921" y="9889"/>
                  <a:pt x="6921" y="9922"/>
                </a:cubicBezTo>
                <a:cubicBezTo>
                  <a:pt x="6907" y="9867"/>
                  <a:pt x="6899" y="9831"/>
                  <a:pt x="6896" y="9773"/>
                </a:cubicBezTo>
                <a:cubicBezTo>
                  <a:pt x="6890" y="9667"/>
                  <a:pt x="6906" y="9576"/>
                  <a:pt x="6921" y="9475"/>
                </a:cubicBezTo>
                <a:cubicBezTo>
                  <a:pt x="6932" y="9402"/>
                  <a:pt x="6923" y="9322"/>
                  <a:pt x="6945" y="9252"/>
                </a:cubicBezTo>
                <a:cubicBezTo>
                  <a:pt x="6963" y="9195"/>
                  <a:pt x="7009" y="9090"/>
                  <a:pt x="7045" y="9054"/>
                </a:cubicBezTo>
                <a:cubicBezTo>
                  <a:pt x="7084" y="9015"/>
                  <a:pt x="7168" y="8987"/>
                  <a:pt x="7218" y="8979"/>
                </a:cubicBezTo>
                <a:cubicBezTo>
                  <a:pt x="7289" y="8967"/>
                  <a:pt x="7371" y="8972"/>
                  <a:pt x="7441" y="8954"/>
                </a:cubicBezTo>
                <a:cubicBezTo>
                  <a:pt x="7516" y="8935"/>
                  <a:pt x="7585" y="8909"/>
                  <a:pt x="7665" y="8905"/>
                </a:cubicBezTo>
                <a:cubicBezTo>
                  <a:pt x="7689" y="8905"/>
                  <a:pt x="7698" y="8905"/>
                  <a:pt x="7714" y="8905"/>
                </a:cubicBezTo>
              </a:path>
              <a:path w="5259" h="2829">
                <a:moveTo>
                  <a:pt x="7293" y="9277"/>
                </a:moveTo>
                <a:cubicBezTo>
                  <a:pt x="7351" y="9273"/>
                  <a:pt x="7489" y="9277"/>
                  <a:pt x="7541" y="9227"/>
                </a:cubicBezTo>
                <a:cubicBezTo>
                  <a:pt x="7541" y="9219"/>
                  <a:pt x="7541" y="9211"/>
                  <a:pt x="7541" y="9203"/>
                </a:cubicBezTo>
              </a:path>
              <a:path w="5259" h="2829">
                <a:moveTo>
                  <a:pt x="7268" y="9227"/>
                </a:moveTo>
                <a:cubicBezTo>
                  <a:pt x="7244" y="9268"/>
                  <a:pt x="7160" y="9367"/>
                  <a:pt x="7193" y="9426"/>
                </a:cubicBezTo>
                <a:cubicBezTo>
                  <a:pt x="7226" y="9486"/>
                  <a:pt x="7231" y="9455"/>
                  <a:pt x="7243" y="9525"/>
                </a:cubicBezTo>
                <a:cubicBezTo>
                  <a:pt x="7283" y="9432"/>
                  <a:pt x="7257" y="9485"/>
                  <a:pt x="7317" y="9451"/>
                </a:cubicBezTo>
                <a:cubicBezTo>
                  <a:pt x="7347" y="9434"/>
                  <a:pt x="7375" y="9411"/>
                  <a:pt x="7417" y="9426"/>
                </a:cubicBezTo>
                <a:cubicBezTo>
                  <a:pt x="7503" y="9457"/>
                  <a:pt x="7535" y="9507"/>
                  <a:pt x="7565" y="9599"/>
                </a:cubicBezTo>
                <a:cubicBezTo>
                  <a:pt x="7582" y="9651"/>
                  <a:pt x="7571" y="9752"/>
                  <a:pt x="7541" y="9798"/>
                </a:cubicBezTo>
                <a:cubicBezTo>
                  <a:pt x="7524" y="9825"/>
                  <a:pt x="7470" y="9844"/>
                  <a:pt x="7441" y="9847"/>
                </a:cubicBezTo>
                <a:cubicBezTo>
                  <a:pt x="7377" y="9854"/>
                  <a:pt x="7308" y="9847"/>
                  <a:pt x="7243" y="9847"/>
                </a:cubicBezTo>
              </a:path>
              <a:path w="5259" h="2829">
                <a:moveTo>
                  <a:pt x="6251" y="10220"/>
                </a:moveTo>
                <a:cubicBezTo>
                  <a:pt x="6559" y="10220"/>
                  <a:pt x="6865" y="10225"/>
                  <a:pt x="7169" y="10195"/>
                </a:cubicBezTo>
                <a:cubicBezTo>
                  <a:pt x="7276" y="10185"/>
                  <a:pt x="7562" y="10122"/>
                  <a:pt x="7466" y="10170"/>
                </a:cubicBezTo>
                <a:cubicBezTo>
                  <a:pt x="7444" y="10192"/>
                  <a:pt x="7439" y="10201"/>
                  <a:pt x="7417" y="10195"/>
                </a:cubicBezTo>
              </a:path>
              <a:path w="5259" h="2829">
                <a:moveTo>
                  <a:pt x="6424" y="10517"/>
                </a:moveTo>
                <a:cubicBezTo>
                  <a:pt x="6514" y="10536"/>
                  <a:pt x="6581" y="10542"/>
                  <a:pt x="6672" y="10542"/>
                </a:cubicBezTo>
                <a:cubicBezTo>
                  <a:pt x="6802" y="10542"/>
                  <a:pt x="6923" y="10536"/>
                  <a:pt x="7045" y="10567"/>
                </a:cubicBezTo>
                <a:cubicBezTo>
                  <a:pt x="7053" y="10567"/>
                  <a:pt x="7061" y="10567"/>
                  <a:pt x="7069" y="10567"/>
                </a:cubicBezTo>
                <a:cubicBezTo>
                  <a:pt x="7046" y="10598"/>
                  <a:pt x="7024" y="10628"/>
                  <a:pt x="7020" y="10666"/>
                </a:cubicBezTo>
                <a:cubicBezTo>
                  <a:pt x="7013" y="10726"/>
                  <a:pt x="6980" y="10781"/>
                  <a:pt x="6970" y="10840"/>
                </a:cubicBezTo>
                <a:cubicBezTo>
                  <a:pt x="6958" y="10911"/>
                  <a:pt x="6949" y="10991"/>
                  <a:pt x="6945" y="11063"/>
                </a:cubicBezTo>
                <a:cubicBezTo>
                  <a:pt x="6942" y="11121"/>
                  <a:pt x="6942" y="11233"/>
                  <a:pt x="6921" y="11286"/>
                </a:cubicBezTo>
                <a:cubicBezTo>
                  <a:pt x="6914" y="11304"/>
                  <a:pt x="6887" y="11410"/>
                  <a:pt x="6871" y="11410"/>
                </a:cubicBezTo>
                <a:cubicBezTo>
                  <a:pt x="6871" y="11382"/>
                  <a:pt x="6873" y="11371"/>
                  <a:pt x="6896" y="11361"/>
                </a:cubicBezTo>
              </a:path>
              <a:path w="5259" h="2829">
                <a:moveTo>
                  <a:pt x="7913" y="10145"/>
                </a:moveTo>
                <a:cubicBezTo>
                  <a:pt x="7874" y="10184"/>
                  <a:pt x="7842" y="10201"/>
                  <a:pt x="7888" y="10195"/>
                </a:cubicBezTo>
                <a:cubicBezTo>
                  <a:pt x="7923" y="10183"/>
                  <a:pt x="7913" y="10188"/>
                  <a:pt x="7913" y="10145"/>
                </a:cubicBezTo>
                <a:cubicBezTo>
                  <a:pt x="7874" y="10155"/>
                  <a:pt x="7860" y="10178"/>
                  <a:pt x="7838" y="10195"/>
                </a:cubicBezTo>
                <a:cubicBezTo>
                  <a:pt x="7830" y="10203"/>
                  <a:pt x="7821" y="10212"/>
                  <a:pt x="7813" y="10220"/>
                </a:cubicBezTo>
              </a:path>
              <a:path w="5259" h="2829">
                <a:moveTo>
                  <a:pt x="8310" y="9723"/>
                </a:moveTo>
                <a:cubicBezTo>
                  <a:pt x="8393" y="9723"/>
                  <a:pt x="8475" y="9723"/>
                  <a:pt x="8558" y="9723"/>
                </a:cubicBezTo>
              </a:path>
              <a:path w="5259" h="2829">
                <a:moveTo>
                  <a:pt x="8905" y="9252"/>
                </a:moveTo>
                <a:cubicBezTo>
                  <a:pt x="8977" y="9190"/>
                  <a:pt x="9056" y="9143"/>
                  <a:pt x="9128" y="9103"/>
                </a:cubicBezTo>
                <a:cubicBezTo>
                  <a:pt x="9186" y="9070"/>
                  <a:pt x="9207" y="9054"/>
                  <a:pt x="9277" y="9054"/>
                </a:cubicBezTo>
                <a:cubicBezTo>
                  <a:pt x="9339" y="9054"/>
                  <a:pt x="9331" y="9083"/>
                  <a:pt x="9376" y="9128"/>
                </a:cubicBezTo>
                <a:cubicBezTo>
                  <a:pt x="9410" y="9162"/>
                  <a:pt x="9415" y="9253"/>
                  <a:pt x="9401" y="9302"/>
                </a:cubicBezTo>
                <a:cubicBezTo>
                  <a:pt x="9383" y="9365"/>
                  <a:pt x="9322" y="9419"/>
                  <a:pt x="9302" y="9475"/>
                </a:cubicBezTo>
                <a:cubicBezTo>
                  <a:pt x="9261" y="9590"/>
                  <a:pt x="9235" y="9653"/>
                  <a:pt x="9153" y="9748"/>
                </a:cubicBezTo>
                <a:cubicBezTo>
                  <a:pt x="9094" y="9816"/>
                  <a:pt x="9044" y="9882"/>
                  <a:pt x="8979" y="9947"/>
                </a:cubicBezTo>
                <a:cubicBezTo>
                  <a:pt x="8952" y="9974"/>
                  <a:pt x="8866" y="10057"/>
                  <a:pt x="8855" y="10096"/>
                </a:cubicBezTo>
                <a:cubicBezTo>
                  <a:pt x="8855" y="10120"/>
                  <a:pt x="8855" y="10129"/>
                  <a:pt x="8855" y="10145"/>
                </a:cubicBezTo>
                <a:cubicBezTo>
                  <a:pt x="8896" y="10159"/>
                  <a:pt x="8934" y="10170"/>
                  <a:pt x="9004" y="10170"/>
                </a:cubicBezTo>
                <a:cubicBezTo>
                  <a:pt x="9079" y="10170"/>
                  <a:pt x="9134" y="10157"/>
                  <a:pt x="9203" y="10145"/>
                </a:cubicBezTo>
                <a:cubicBezTo>
                  <a:pt x="9269" y="10134"/>
                  <a:pt x="9320" y="10137"/>
                  <a:pt x="9376" y="10120"/>
                </a:cubicBezTo>
                <a:cubicBezTo>
                  <a:pt x="9384" y="10120"/>
                  <a:pt x="9393" y="10120"/>
                  <a:pt x="9401" y="10120"/>
                </a:cubicBezTo>
              </a:path>
              <a:path w="5259" h="2829">
                <a:moveTo>
                  <a:pt x="8483" y="10418"/>
                </a:moveTo>
                <a:cubicBezTo>
                  <a:pt x="8659" y="10418"/>
                  <a:pt x="8833" y="10404"/>
                  <a:pt x="9004" y="10393"/>
                </a:cubicBezTo>
                <a:cubicBezTo>
                  <a:pt x="9139" y="10384"/>
                  <a:pt x="9230" y="10411"/>
                  <a:pt x="9351" y="10418"/>
                </a:cubicBezTo>
                <a:cubicBezTo>
                  <a:pt x="9392" y="10420"/>
                  <a:pt x="9434" y="10418"/>
                  <a:pt x="9475" y="10418"/>
                </a:cubicBezTo>
              </a:path>
              <a:path w="5259" h="2829">
                <a:moveTo>
                  <a:pt x="8657" y="10740"/>
                </a:moveTo>
                <a:cubicBezTo>
                  <a:pt x="8864" y="10740"/>
                  <a:pt x="9070" y="10740"/>
                  <a:pt x="9277" y="10740"/>
                </a:cubicBezTo>
                <a:cubicBezTo>
                  <a:pt x="9277" y="10787"/>
                  <a:pt x="9272" y="10850"/>
                  <a:pt x="9252" y="10889"/>
                </a:cubicBezTo>
                <a:cubicBezTo>
                  <a:pt x="9219" y="10954"/>
                  <a:pt x="9224" y="11016"/>
                  <a:pt x="9203" y="11088"/>
                </a:cubicBezTo>
                <a:cubicBezTo>
                  <a:pt x="9179" y="11172"/>
                  <a:pt x="9157" y="11247"/>
                  <a:pt x="9153" y="11336"/>
                </a:cubicBezTo>
                <a:cubicBezTo>
                  <a:pt x="9148" y="11434"/>
                  <a:pt x="9161" y="11526"/>
                  <a:pt x="9178" y="11609"/>
                </a:cubicBezTo>
                <a:cubicBezTo>
                  <a:pt x="9191" y="11674"/>
                  <a:pt x="9165" y="11683"/>
                  <a:pt x="9153" y="11708"/>
                </a:cubicBezTo>
                <a:cubicBezTo>
                  <a:pt x="9153" y="11716"/>
                  <a:pt x="9153" y="11725"/>
                  <a:pt x="9153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7120" y="4348080"/>
            <a:ext cx="1411200" cy="403200"/>
          </a:xfrm>
          <a:custGeom>
            <a:avLst/>
            <a:gdLst/>
            <a:ahLst/>
            <a:rect l="l" t="t" r="r" b="b"/>
            <a:pathLst>
              <a:path w="3920" h="1117">
                <a:moveTo>
                  <a:pt x="4341" y="12725"/>
                </a:moveTo>
                <a:cubicBezTo>
                  <a:pt x="4414" y="12725"/>
                  <a:pt x="4480" y="12709"/>
                  <a:pt x="4539" y="12700"/>
                </a:cubicBezTo>
                <a:cubicBezTo>
                  <a:pt x="4610" y="12689"/>
                  <a:pt x="4690" y="12700"/>
                  <a:pt x="4762" y="12700"/>
                </a:cubicBezTo>
              </a:path>
              <a:path w="3920" h="1117">
                <a:moveTo>
                  <a:pt x="4242" y="13097"/>
                </a:moveTo>
                <a:cubicBezTo>
                  <a:pt x="4253" y="13178"/>
                  <a:pt x="4260" y="13171"/>
                  <a:pt x="4341" y="13171"/>
                </a:cubicBezTo>
                <a:cubicBezTo>
                  <a:pt x="4408" y="13171"/>
                  <a:pt x="4453" y="13186"/>
                  <a:pt x="4514" y="13196"/>
                </a:cubicBezTo>
                <a:cubicBezTo>
                  <a:pt x="4541" y="13201"/>
                  <a:pt x="4737" y="13189"/>
                  <a:pt x="4713" y="13171"/>
                </a:cubicBezTo>
                <a:cubicBezTo>
                  <a:pt x="4705" y="13171"/>
                  <a:pt x="4696" y="13171"/>
                  <a:pt x="4688" y="13171"/>
                </a:cubicBezTo>
              </a:path>
              <a:path w="3920" h="1117">
                <a:moveTo>
                  <a:pt x="5159" y="13171"/>
                </a:moveTo>
                <a:cubicBezTo>
                  <a:pt x="5288" y="13171"/>
                  <a:pt x="5409" y="13181"/>
                  <a:pt x="5531" y="13196"/>
                </a:cubicBezTo>
                <a:cubicBezTo>
                  <a:pt x="5835" y="13234"/>
                  <a:pt x="6172" y="13194"/>
                  <a:pt x="6474" y="13171"/>
                </a:cubicBezTo>
                <a:cubicBezTo>
                  <a:pt x="6836" y="13143"/>
                  <a:pt x="7205" y="13176"/>
                  <a:pt x="7565" y="13146"/>
                </a:cubicBezTo>
                <a:cubicBezTo>
                  <a:pt x="7721" y="13133"/>
                  <a:pt x="7893" y="13141"/>
                  <a:pt x="8037" y="13122"/>
                </a:cubicBezTo>
                <a:cubicBezTo>
                  <a:pt x="8075" y="13117"/>
                  <a:pt x="8161" y="13145"/>
                  <a:pt x="8161" y="13097"/>
                </a:cubicBezTo>
                <a:cubicBezTo>
                  <a:pt x="8153" y="13097"/>
                  <a:pt x="8144" y="13097"/>
                  <a:pt x="8136" y="13097"/>
                </a:cubicBezTo>
              </a:path>
              <a:path w="3920" h="1117">
                <a:moveTo>
                  <a:pt x="5085" y="12576"/>
                </a:moveTo>
                <a:cubicBezTo>
                  <a:pt x="5141" y="12610"/>
                  <a:pt x="5173" y="12583"/>
                  <a:pt x="5234" y="12601"/>
                </a:cubicBezTo>
                <a:cubicBezTo>
                  <a:pt x="5305" y="12622"/>
                  <a:pt x="5355" y="12626"/>
                  <a:pt x="5432" y="12626"/>
                </a:cubicBezTo>
                <a:cubicBezTo>
                  <a:pt x="5474" y="12626"/>
                  <a:pt x="5482" y="12626"/>
                  <a:pt x="5507" y="12626"/>
                </a:cubicBezTo>
              </a:path>
              <a:path w="3920" h="1117">
                <a:moveTo>
                  <a:pt x="5755" y="12204"/>
                </a:moveTo>
                <a:cubicBezTo>
                  <a:pt x="5755" y="12485"/>
                  <a:pt x="5755" y="13279"/>
                  <a:pt x="5755" y="12998"/>
                </a:cubicBezTo>
              </a:path>
              <a:path w="3920" h="1117">
                <a:moveTo>
                  <a:pt x="5904" y="12378"/>
                </a:moveTo>
                <a:cubicBezTo>
                  <a:pt x="5966" y="12315"/>
                  <a:pt x="5994" y="12261"/>
                  <a:pt x="6077" y="12254"/>
                </a:cubicBezTo>
                <a:cubicBezTo>
                  <a:pt x="6127" y="12250"/>
                  <a:pt x="6137" y="12265"/>
                  <a:pt x="6176" y="12278"/>
                </a:cubicBezTo>
                <a:cubicBezTo>
                  <a:pt x="6235" y="12297"/>
                  <a:pt x="6226" y="12344"/>
                  <a:pt x="6226" y="12402"/>
                </a:cubicBezTo>
                <a:cubicBezTo>
                  <a:pt x="6226" y="12479"/>
                  <a:pt x="6192" y="12483"/>
                  <a:pt x="6176" y="12551"/>
                </a:cubicBezTo>
                <a:cubicBezTo>
                  <a:pt x="6158" y="12625"/>
                  <a:pt x="6101" y="12685"/>
                  <a:pt x="6052" y="12750"/>
                </a:cubicBezTo>
                <a:cubicBezTo>
                  <a:pt x="6024" y="12788"/>
                  <a:pt x="5983" y="12801"/>
                  <a:pt x="5978" y="12849"/>
                </a:cubicBezTo>
                <a:cubicBezTo>
                  <a:pt x="5975" y="12873"/>
                  <a:pt x="5978" y="12899"/>
                  <a:pt x="5978" y="12923"/>
                </a:cubicBezTo>
                <a:cubicBezTo>
                  <a:pt x="6042" y="12923"/>
                  <a:pt x="6039" y="12930"/>
                  <a:pt x="6102" y="12923"/>
                </a:cubicBezTo>
                <a:cubicBezTo>
                  <a:pt x="6209" y="12910"/>
                  <a:pt x="6334" y="12917"/>
                  <a:pt x="6424" y="12948"/>
                </a:cubicBezTo>
                <a:cubicBezTo>
                  <a:pt x="6462" y="12961"/>
                  <a:pt x="6466" y="12948"/>
                  <a:pt x="6474" y="12923"/>
                </a:cubicBezTo>
              </a:path>
              <a:path w="3920" h="1117">
                <a:moveTo>
                  <a:pt x="6548" y="12402"/>
                </a:moveTo>
                <a:cubicBezTo>
                  <a:pt x="6567" y="12465"/>
                  <a:pt x="6573" y="12526"/>
                  <a:pt x="6573" y="12601"/>
                </a:cubicBezTo>
                <a:cubicBezTo>
                  <a:pt x="6573" y="12668"/>
                  <a:pt x="6588" y="12712"/>
                  <a:pt x="6598" y="12774"/>
                </a:cubicBezTo>
                <a:cubicBezTo>
                  <a:pt x="6602" y="12800"/>
                  <a:pt x="6598" y="12975"/>
                  <a:pt x="6598" y="12923"/>
                </a:cubicBezTo>
                <a:cubicBezTo>
                  <a:pt x="6598" y="12786"/>
                  <a:pt x="6604" y="12658"/>
                  <a:pt x="6623" y="12526"/>
                </a:cubicBezTo>
                <a:cubicBezTo>
                  <a:pt x="6635" y="12441"/>
                  <a:pt x="6633" y="12352"/>
                  <a:pt x="6648" y="12278"/>
                </a:cubicBezTo>
                <a:cubicBezTo>
                  <a:pt x="6660" y="12218"/>
                  <a:pt x="6660" y="12238"/>
                  <a:pt x="6697" y="12204"/>
                </a:cubicBezTo>
                <a:cubicBezTo>
                  <a:pt x="6740" y="12164"/>
                  <a:pt x="6799" y="12151"/>
                  <a:pt x="6846" y="12129"/>
                </a:cubicBezTo>
                <a:cubicBezTo>
                  <a:pt x="6913" y="12098"/>
                  <a:pt x="6972" y="12105"/>
                  <a:pt x="7045" y="12105"/>
                </a:cubicBezTo>
                <a:cubicBezTo>
                  <a:pt x="7114" y="12105"/>
                  <a:pt x="7170" y="12080"/>
                  <a:pt x="7243" y="12080"/>
                </a:cubicBezTo>
                <a:cubicBezTo>
                  <a:pt x="7300" y="12080"/>
                  <a:pt x="7331" y="12102"/>
                  <a:pt x="7392" y="12105"/>
                </a:cubicBezTo>
                <a:cubicBezTo>
                  <a:pt x="7417" y="12105"/>
                  <a:pt x="7425" y="12105"/>
                  <a:pt x="7441" y="12105"/>
                </a:cubicBezTo>
              </a:path>
              <a:path w="3920" h="1117">
                <a:moveTo>
                  <a:pt x="6995" y="12278"/>
                </a:moveTo>
                <a:cubicBezTo>
                  <a:pt x="7091" y="12278"/>
                  <a:pt x="7184" y="12278"/>
                  <a:pt x="7268" y="12254"/>
                </a:cubicBezTo>
                <a:cubicBezTo>
                  <a:pt x="7312" y="12241"/>
                  <a:pt x="7300" y="12261"/>
                  <a:pt x="7342" y="12229"/>
                </a:cubicBezTo>
              </a:path>
              <a:path w="3920" h="1117">
                <a:moveTo>
                  <a:pt x="7020" y="12278"/>
                </a:moveTo>
                <a:cubicBezTo>
                  <a:pt x="6988" y="12337"/>
                  <a:pt x="6952" y="12391"/>
                  <a:pt x="6945" y="12452"/>
                </a:cubicBezTo>
                <a:cubicBezTo>
                  <a:pt x="6942" y="12483"/>
                  <a:pt x="6955" y="12519"/>
                  <a:pt x="6970" y="12526"/>
                </a:cubicBezTo>
                <a:cubicBezTo>
                  <a:pt x="7007" y="12544"/>
                  <a:pt x="7037" y="12505"/>
                  <a:pt x="7069" y="12502"/>
                </a:cubicBezTo>
                <a:cubicBezTo>
                  <a:pt x="7119" y="12497"/>
                  <a:pt x="7130" y="12513"/>
                  <a:pt x="7169" y="12526"/>
                </a:cubicBezTo>
                <a:cubicBezTo>
                  <a:pt x="7211" y="12540"/>
                  <a:pt x="7234" y="12567"/>
                  <a:pt x="7268" y="12601"/>
                </a:cubicBezTo>
                <a:cubicBezTo>
                  <a:pt x="7327" y="12660"/>
                  <a:pt x="7337" y="12715"/>
                  <a:pt x="7367" y="12774"/>
                </a:cubicBezTo>
                <a:cubicBezTo>
                  <a:pt x="7384" y="12807"/>
                  <a:pt x="7409" y="12864"/>
                  <a:pt x="7367" y="12898"/>
                </a:cubicBezTo>
                <a:cubicBezTo>
                  <a:pt x="7359" y="12904"/>
                  <a:pt x="7280" y="12945"/>
                  <a:pt x="7268" y="12948"/>
                </a:cubicBezTo>
                <a:cubicBezTo>
                  <a:pt x="7202" y="12962"/>
                  <a:pt x="7146" y="12940"/>
                  <a:pt x="7094" y="12923"/>
                </a:cubicBezTo>
                <a:cubicBezTo>
                  <a:pt x="7064" y="12913"/>
                  <a:pt x="7024" y="12901"/>
                  <a:pt x="6995" y="12898"/>
                </a:cubicBezTo>
                <a:cubicBezTo>
                  <a:pt x="6933" y="12891"/>
                  <a:pt x="7007" y="12878"/>
                  <a:pt x="6945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8800" y="4840200"/>
            <a:ext cx="438120" cy="490680"/>
          </a:xfrm>
          <a:custGeom>
            <a:avLst/>
            <a:gdLst/>
            <a:ahLst/>
            <a:rect l="l" t="t" r="r" b="b"/>
            <a:pathLst>
              <a:path w="1217" h="1365">
                <a:moveTo>
                  <a:pt x="6003" y="13444"/>
                </a:moveTo>
                <a:cubicBezTo>
                  <a:pt x="6003" y="13553"/>
                  <a:pt x="6001" y="13613"/>
                  <a:pt x="5953" y="13717"/>
                </a:cubicBezTo>
                <a:cubicBezTo>
                  <a:pt x="5932" y="13762"/>
                  <a:pt x="5866" y="13825"/>
                  <a:pt x="5854" y="13866"/>
                </a:cubicBezTo>
                <a:cubicBezTo>
                  <a:pt x="5833" y="13939"/>
                  <a:pt x="5846" y="13889"/>
                  <a:pt x="5829" y="13940"/>
                </a:cubicBezTo>
                <a:cubicBezTo>
                  <a:pt x="5842" y="13978"/>
                  <a:pt x="5859" y="13965"/>
                  <a:pt x="5904" y="13965"/>
                </a:cubicBezTo>
                <a:cubicBezTo>
                  <a:pt x="5949" y="13965"/>
                  <a:pt x="5963" y="13986"/>
                  <a:pt x="6003" y="13990"/>
                </a:cubicBezTo>
                <a:cubicBezTo>
                  <a:pt x="6062" y="13997"/>
                  <a:pt x="6118" y="14030"/>
                  <a:pt x="6176" y="14039"/>
                </a:cubicBezTo>
                <a:cubicBezTo>
                  <a:pt x="6231" y="14048"/>
                  <a:pt x="6294" y="14039"/>
                  <a:pt x="6350" y="14039"/>
                </a:cubicBezTo>
              </a:path>
              <a:path w="1217" h="1365">
                <a:moveTo>
                  <a:pt x="6424" y="13593"/>
                </a:moveTo>
                <a:cubicBezTo>
                  <a:pt x="6424" y="13714"/>
                  <a:pt x="6413" y="13823"/>
                  <a:pt x="6400" y="13940"/>
                </a:cubicBezTo>
                <a:cubicBezTo>
                  <a:pt x="6387" y="14055"/>
                  <a:pt x="6388" y="14175"/>
                  <a:pt x="6375" y="14288"/>
                </a:cubicBezTo>
                <a:cubicBezTo>
                  <a:pt x="6359" y="14427"/>
                  <a:pt x="6355" y="14817"/>
                  <a:pt x="6400" y="14684"/>
                </a:cubicBezTo>
                <a:cubicBezTo>
                  <a:pt x="6400" y="14668"/>
                  <a:pt x="6400" y="14651"/>
                  <a:pt x="6400" y="14635"/>
                </a:cubicBezTo>
              </a:path>
              <a:path w="1217" h="1365">
                <a:moveTo>
                  <a:pt x="7020" y="13915"/>
                </a:moveTo>
                <a:cubicBezTo>
                  <a:pt x="7049" y="13867"/>
                  <a:pt x="7045" y="13853"/>
                  <a:pt x="7045" y="13791"/>
                </a:cubicBezTo>
                <a:cubicBezTo>
                  <a:pt x="7045" y="13726"/>
                  <a:pt x="7040" y="13703"/>
                  <a:pt x="7020" y="13643"/>
                </a:cubicBezTo>
                <a:cubicBezTo>
                  <a:pt x="7001" y="13588"/>
                  <a:pt x="6987" y="13562"/>
                  <a:pt x="6945" y="13519"/>
                </a:cubicBezTo>
                <a:cubicBezTo>
                  <a:pt x="6919" y="13493"/>
                  <a:pt x="6835" y="13460"/>
                  <a:pt x="6796" y="13469"/>
                </a:cubicBezTo>
                <a:cubicBezTo>
                  <a:pt x="6739" y="13483"/>
                  <a:pt x="6692" y="13543"/>
                  <a:pt x="6672" y="13593"/>
                </a:cubicBezTo>
                <a:cubicBezTo>
                  <a:pt x="6649" y="13649"/>
                  <a:pt x="6648" y="13705"/>
                  <a:pt x="6648" y="13767"/>
                </a:cubicBezTo>
                <a:cubicBezTo>
                  <a:pt x="6648" y="13818"/>
                  <a:pt x="6677" y="13883"/>
                  <a:pt x="6722" y="13915"/>
                </a:cubicBezTo>
                <a:cubicBezTo>
                  <a:pt x="6751" y="13935"/>
                  <a:pt x="6815" y="13982"/>
                  <a:pt x="6846" y="13990"/>
                </a:cubicBezTo>
                <a:cubicBezTo>
                  <a:pt x="6886" y="14001"/>
                  <a:pt x="6917" y="13968"/>
                  <a:pt x="6945" y="13940"/>
                </a:cubicBezTo>
                <a:cubicBezTo>
                  <a:pt x="6972" y="13912"/>
                  <a:pt x="6987" y="13877"/>
                  <a:pt x="6995" y="13841"/>
                </a:cubicBezTo>
                <a:cubicBezTo>
                  <a:pt x="7000" y="13819"/>
                  <a:pt x="6995" y="13670"/>
                  <a:pt x="6995" y="13791"/>
                </a:cubicBezTo>
                <a:cubicBezTo>
                  <a:pt x="6995" y="14106"/>
                  <a:pt x="6960" y="14463"/>
                  <a:pt x="7020" y="14759"/>
                </a:cubicBezTo>
                <a:cubicBezTo>
                  <a:pt x="7020" y="14784"/>
                  <a:pt x="7020" y="14792"/>
                  <a:pt x="7020" y="14808"/>
                </a:cubicBezTo>
                <a:cubicBezTo>
                  <a:pt x="7005" y="14778"/>
                  <a:pt x="6990" y="14743"/>
                  <a:pt x="6970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02680" y="1795320"/>
            <a:ext cx="53640" cy="3321360"/>
          </a:xfrm>
          <a:custGeom>
            <a:avLst/>
            <a:gdLst/>
            <a:ahLst/>
            <a:rect l="l" t="t" r="r" b="b"/>
            <a:pathLst>
              <a:path w="150" h="9228">
                <a:moveTo>
                  <a:pt x="20588" y="4986"/>
                </a:moveTo>
                <a:cubicBezTo>
                  <a:pt x="20588" y="5154"/>
                  <a:pt x="20572" y="5320"/>
                  <a:pt x="20563" y="5482"/>
                </a:cubicBezTo>
                <a:cubicBezTo>
                  <a:pt x="20555" y="5619"/>
                  <a:pt x="20581" y="5745"/>
                  <a:pt x="20588" y="5879"/>
                </a:cubicBezTo>
                <a:cubicBezTo>
                  <a:pt x="20611" y="6343"/>
                  <a:pt x="20584" y="6806"/>
                  <a:pt x="20613" y="7268"/>
                </a:cubicBezTo>
                <a:cubicBezTo>
                  <a:pt x="20623" y="7427"/>
                  <a:pt x="20636" y="7578"/>
                  <a:pt x="20638" y="7739"/>
                </a:cubicBezTo>
                <a:cubicBezTo>
                  <a:pt x="20648" y="8600"/>
                  <a:pt x="20662" y="9461"/>
                  <a:pt x="20662" y="10319"/>
                </a:cubicBezTo>
                <a:cubicBezTo>
                  <a:pt x="20662" y="10758"/>
                  <a:pt x="20653" y="11198"/>
                  <a:pt x="20638" y="11633"/>
                </a:cubicBezTo>
                <a:cubicBezTo>
                  <a:pt x="20621" y="12137"/>
                  <a:pt x="20641" y="12647"/>
                  <a:pt x="20662" y="13146"/>
                </a:cubicBezTo>
                <a:cubicBezTo>
                  <a:pt x="20671" y="13353"/>
                  <a:pt x="20676" y="13565"/>
                  <a:pt x="20687" y="13767"/>
                </a:cubicBezTo>
                <a:cubicBezTo>
                  <a:pt x="20693" y="13882"/>
                  <a:pt x="20720" y="14058"/>
                  <a:pt x="20712" y="14163"/>
                </a:cubicBezTo>
                <a:cubicBezTo>
                  <a:pt x="20712" y="14215"/>
                  <a:pt x="20711" y="14230"/>
                  <a:pt x="20687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86280" y="3510000"/>
            <a:ext cx="2652840" cy="61920"/>
          </a:xfrm>
          <a:custGeom>
            <a:avLst/>
            <a:gdLst/>
            <a:ahLst/>
            <a:rect l="l" t="t" r="r" b="b"/>
            <a:pathLst>
              <a:path w="7368" h="175">
                <a:moveTo>
                  <a:pt x="16073" y="9748"/>
                </a:moveTo>
                <a:cubicBezTo>
                  <a:pt x="16236" y="9748"/>
                  <a:pt x="16388" y="9764"/>
                  <a:pt x="16545" y="9773"/>
                </a:cubicBezTo>
                <a:cubicBezTo>
                  <a:pt x="17247" y="9812"/>
                  <a:pt x="17957" y="9696"/>
                  <a:pt x="18653" y="9748"/>
                </a:cubicBezTo>
                <a:cubicBezTo>
                  <a:pt x="18778" y="9757"/>
                  <a:pt x="18897" y="9771"/>
                  <a:pt x="19025" y="9773"/>
                </a:cubicBezTo>
                <a:cubicBezTo>
                  <a:pt x="19225" y="9776"/>
                  <a:pt x="19425" y="9790"/>
                  <a:pt x="19621" y="9798"/>
                </a:cubicBezTo>
                <a:cubicBezTo>
                  <a:pt x="19794" y="9805"/>
                  <a:pt x="19971" y="9816"/>
                  <a:pt x="20141" y="9823"/>
                </a:cubicBezTo>
                <a:cubicBezTo>
                  <a:pt x="20273" y="9829"/>
                  <a:pt x="20409" y="9842"/>
                  <a:pt x="20538" y="9847"/>
                </a:cubicBezTo>
                <a:cubicBezTo>
                  <a:pt x="20702" y="9854"/>
                  <a:pt x="20873" y="9866"/>
                  <a:pt x="21034" y="9872"/>
                </a:cubicBezTo>
                <a:cubicBezTo>
                  <a:pt x="21776" y="9901"/>
                  <a:pt x="22589" y="9769"/>
                  <a:pt x="23316" y="9897"/>
                </a:cubicBezTo>
                <a:cubicBezTo>
                  <a:pt x="23368" y="9906"/>
                  <a:pt x="23387" y="9894"/>
                  <a:pt x="2344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59680" y="2143080"/>
            <a:ext cx="1161720" cy="1384200"/>
          </a:xfrm>
          <a:custGeom>
            <a:avLst/>
            <a:gdLst/>
            <a:ahLst/>
            <a:rect l="l" t="t" r="r" b="b"/>
            <a:pathLst>
              <a:path w="3226" h="3846">
                <a:moveTo>
                  <a:pt x="20613" y="9798"/>
                </a:moveTo>
                <a:cubicBezTo>
                  <a:pt x="20595" y="9766"/>
                  <a:pt x="20585" y="9732"/>
                  <a:pt x="20563" y="9699"/>
                </a:cubicBezTo>
                <a:cubicBezTo>
                  <a:pt x="20542" y="9666"/>
                  <a:pt x="20508" y="9627"/>
                  <a:pt x="20489" y="9599"/>
                </a:cubicBezTo>
                <a:cubicBezTo>
                  <a:pt x="20456" y="9550"/>
                  <a:pt x="20388" y="9482"/>
                  <a:pt x="20365" y="9451"/>
                </a:cubicBezTo>
                <a:cubicBezTo>
                  <a:pt x="20315" y="9385"/>
                  <a:pt x="20266" y="9318"/>
                  <a:pt x="20216" y="9252"/>
                </a:cubicBezTo>
                <a:cubicBezTo>
                  <a:pt x="20168" y="9188"/>
                  <a:pt x="20111" y="9120"/>
                  <a:pt x="20067" y="9054"/>
                </a:cubicBezTo>
                <a:cubicBezTo>
                  <a:pt x="20011" y="8969"/>
                  <a:pt x="19961" y="8882"/>
                  <a:pt x="19893" y="8806"/>
                </a:cubicBezTo>
                <a:cubicBezTo>
                  <a:pt x="19819" y="8723"/>
                  <a:pt x="19736" y="8647"/>
                  <a:pt x="19670" y="8558"/>
                </a:cubicBezTo>
                <a:cubicBezTo>
                  <a:pt x="19574" y="8427"/>
                  <a:pt x="19479" y="8330"/>
                  <a:pt x="19372" y="8210"/>
                </a:cubicBezTo>
                <a:cubicBezTo>
                  <a:pt x="19290" y="8118"/>
                  <a:pt x="19211" y="8027"/>
                  <a:pt x="19124" y="7938"/>
                </a:cubicBezTo>
                <a:cubicBezTo>
                  <a:pt x="19029" y="7841"/>
                  <a:pt x="18939" y="7743"/>
                  <a:pt x="18852" y="7640"/>
                </a:cubicBezTo>
                <a:cubicBezTo>
                  <a:pt x="18773" y="7546"/>
                  <a:pt x="18686" y="7460"/>
                  <a:pt x="18604" y="7367"/>
                </a:cubicBezTo>
                <a:cubicBezTo>
                  <a:pt x="18512" y="7261"/>
                  <a:pt x="18426" y="7149"/>
                  <a:pt x="18331" y="7045"/>
                </a:cubicBezTo>
                <a:cubicBezTo>
                  <a:pt x="18255" y="6962"/>
                  <a:pt x="18182" y="6880"/>
                  <a:pt x="18107" y="6796"/>
                </a:cubicBezTo>
                <a:cubicBezTo>
                  <a:pt x="18007" y="6684"/>
                  <a:pt x="17906" y="6566"/>
                  <a:pt x="17810" y="6449"/>
                </a:cubicBezTo>
                <a:cubicBezTo>
                  <a:pt x="17768" y="6398"/>
                  <a:pt x="17693" y="6324"/>
                  <a:pt x="17661" y="6276"/>
                </a:cubicBezTo>
                <a:cubicBezTo>
                  <a:pt x="17617" y="6210"/>
                  <a:pt x="17586" y="6183"/>
                  <a:pt x="17537" y="6127"/>
                </a:cubicBezTo>
                <a:cubicBezTo>
                  <a:pt x="17506" y="6091"/>
                  <a:pt x="17491" y="6060"/>
                  <a:pt x="17462" y="6028"/>
                </a:cubicBezTo>
                <a:cubicBezTo>
                  <a:pt x="17435" y="5998"/>
                  <a:pt x="17402" y="5969"/>
                  <a:pt x="17388" y="5953"/>
                </a:cubicBezTo>
                <a:cubicBezTo>
                  <a:pt x="17392" y="6027"/>
                  <a:pt x="17409" y="6116"/>
                  <a:pt x="17413" y="6176"/>
                </a:cubicBezTo>
                <a:cubicBezTo>
                  <a:pt x="17422" y="6300"/>
                  <a:pt x="17431" y="6430"/>
                  <a:pt x="17438" y="6548"/>
                </a:cubicBezTo>
                <a:cubicBezTo>
                  <a:pt x="17447" y="6692"/>
                  <a:pt x="17421" y="6836"/>
                  <a:pt x="17413" y="6970"/>
                </a:cubicBezTo>
                <a:cubicBezTo>
                  <a:pt x="17408" y="7064"/>
                  <a:pt x="17394" y="7151"/>
                  <a:pt x="17388" y="7243"/>
                </a:cubicBezTo>
                <a:cubicBezTo>
                  <a:pt x="17364" y="7603"/>
                  <a:pt x="17393" y="7983"/>
                  <a:pt x="17413" y="8334"/>
                </a:cubicBezTo>
                <a:cubicBezTo>
                  <a:pt x="17437" y="8758"/>
                  <a:pt x="17371" y="9219"/>
                  <a:pt x="17388" y="9624"/>
                </a:cubicBezTo>
                <a:cubicBezTo>
                  <a:pt x="17389" y="9657"/>
                  <a:pt x="17413" y="9666"/>
                  <a:pt x="17413" y="9699"/>
                </a:cubicBezTo>
                <a:cubicBezTo>
                  <a:pt x="17413" y="9723"/>
                  <a:pt x="17413" y="9732"/>
                  <a:pt x="17413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olve this equation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in 2x + cos x = 0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95360" y="1670040"/>
            <a:ext cx="1839960" cy="455760"/>
          </a:xfrm>
          <a:custGeom>
            <a:avLst/>
            <a:gdLst/>
            <a:ahLst/>
            <a:rect l="l" t="t" r="r" b="b"/>
            <a:pathLst>
              <a:path w="5111" h="1267">
                <a:moveTo>
                  <a:pt x="6747" y="4837"/>
                </a:moveTo>
                <a:cubicBezTo>
                  <a:pt x="6726" y="4892"/>
                  <a:pt x="6728" y="4887"/>
                  <a:pt x="6722" y="4936"/>
                </a:cubicBezTo>
                <a:cubicBezTo>
                  <a:pt x="6733" y="4908"/>
                  <a:pt x="6734" y="4864"/>
                  <a:pt x="6747" y="4837"/>
                </a:cubicBezTo>
                <a:cubicBezTo>
                  <a:pt x="6771" y="4788"/>
                  <a:pt x="6789" y="4730"/>
                  <a:pt x="6821" y="4688"/>
                </a:cubicBezTo>
                <a:cubicBezTo>
                  <a:pt x="6833" y="4672"/>
                  <a:pt x="6870" y="4653"/>
                  <a:pt x="6896" y="4638"/>
                </a:cubicBezTo>
                <a:cubicBezTo>
                  <a:pt x="6931" y="4659"/>
                  <a:pt x="6961" y="4679"/>
                  <a:pt x="6995" y="4713"/>
                </a:cubicBezTo>
                <a:cubicBezTo>
                  <a:pt x="7028" y="4746"/>
                  <a:pt x="7060" y="4862"/>
                  <a:pt x="7069" y="4911"/>
                </a:cubicBezTo>
                <a:cubicBezTo>
                  <a:pt x="7083" y="4989"/>
                  <a:pt x="7107" y="5077"/>
                  <a:pt x="7094" y="5159"/>
                </a:cubicBezTo>
                <a:cubicBezTo>
                  <a:pt x="7077" y="5262"/>
                  <a:pt x="7070" y="5387"/>
                  <a:pt x="7020" y="5482"/>
                </a:cubicBezTo>
                <a:cubicBezTo>
                  <a:pt x="6976" y="5566"/>
                  <a:pt x="6932" y="5658"/>
                  <a:pt x="6871" y="5730"/>
                </a:cubicBezTo>
                <a:cubicBezTo>
                  <a:pt x="6833" y="5775"/>
                  <a:pt x="6755" y="5863"/>
                  <a:pt x="6697" y="5879"/>
                </a:cubicBezTo>
                <a:cubicBezTo>
                  <a:pt x="6646" y="5893"/>
                  <a:pt x="6566" y="5880"/>
                  <a:pt x="6524" y="5854"/>
                </a:cubicBezTo>
                <a:cubicBezTo>
                  <a:pt x="6465" y="5818"/>
                  <a:pt x="6438" y="5756"/>
                  <a:pt x="6400" y="5705"/>
                </a:cubicBezTo>
                <a:cubicBezTo>
                  <a:pt x="6373" y="5669"/>
                  <a:pt x="6362" y="5605"/>
                  <a:pt x="6375" y="5556"/>
                </a:cubicBezTo>
                <a:cubicBezTo>
                  <a:pt x="6390" y="5499"/>
                  <a:pt x="6474" y="5423"/>
                  <a:pt x="6524" y="5407"/>
                </a:cubicBezTo>
                <a:cubicBezTo>
                  <a:pt x="6559" y="5396"/>
                  <a:pt x="6696" y="5431"/>
                  <a:pt x="6722" y="5457"/>
                </a:cubicBezTo>
                <a:cubicBezTo>
                  <a:pt x="6765" y="5500"/>
                  <a:pt x="6813" y="5552"/>
                  <a:pt x="6846" y="5606"/>
                </a:cubicBezTo>
                <a:cubicBezTo>
                  <a:pt x="6875" y="5653"/>
                  <a:pt x="6888" y="5726"/>
                  <a:pt x="6896" y="5779"/>
                </a:cubicBezTo>
                <a:cubicBezTo>
                  <a:pt x="6902" y="5824"/>
                  <a:pt x="6877" y="5896"/>
                  <a:pt x="6921" y="5904"/>
                </a:cubicBezTo>
                <a:cubicBezTo>
                  <a:pt x="6949" y="5904"/>
                  <a:pt x="6959" y="5901"/>
                  <a:pt x="6970" y="5879"/>
                </a:cubicBezTo>
              </a:path>
              <a:path w="5111" h="1267">
                <a:moveTo>
                  <a:pt x="7689" y="5184"/>
                </a:moveTo>
                <a:cubicBezTo>
                  <a:pt x="7651" y="5168"/>
                  <a:pt x="7586" y="5140"/>
                  <a:pt x="7541" y="5159"/>
                </a:cubicBezTo>
                <a:cubicBezTo>
                  <a:pt x="7501" y="5176"/>
                  <a:pt x="7452" y="5202"/>
                  <a:pt x="7417" y="5234"/>
                </a:cubicBezTo>
                <a:cubicBezTo>
                  <a:pt x="7380" y="5268"/>
                  <a:pt x="7340" y="5278"/>
                  <a:pt x="7317" y="5308"/>
                </a:cubicBezTo>
                <a:cubicBezTo>
                  <a:pt x="7332" y="5353"/>
                  <a:pt x="7409" y="5332"/>
                  <a:pt x="7466" y="5358"/>
                </a:cubicBezTo>
                <a:cubicBezTo>
                  <a:pt x="7504" y="5375"/>
                  <a:pt x="7611" y="5426"/>
                  <a:pt x="7640" y="5457"/>
                </a:cubicBezTo>
                <a:cubicBezTo>
                  <a:pt x="7682" y="5503"/>
                  <a:pt x="7689" y="5548"/>
                  <a:pt x="7689" y="5606"/>
                </a:cubicBezTo>
                <a:cubicBezTo>
                  <a:pt x="7689" y="5671"/>
                  <a:pt x="7659" y="5686"/>
                  <a:pt x="7615" y="5730"/>
                </a:cubicBezTo>
                <a:cubicBezTo>
                  <a:pt x="7576" y="5769"/>
                  <a:pt x="7544" y="5779"/>
                  <a:pt x="7491" y="5779"/>
                </a:cubicBezTo>
                <a:cubicBezTo>
                  <a:pt x="7434" y="5779"/>
                  <a:pt x="7386" y="5790"/>
                  <a:pt x="7342" y="5755"/>
                </a:cubicBezTo>
                <a:cubicBezTo>
                  <a:pt x="7319" y="5732"/>
                  <a:pt x="7311" y="5728"/>
                  <a:pt x="7317" y="5705"/>
                </a:cubicBezTo>
              </a:path>
              <a:path w="5111" h="1267">
                <a:moveTo>
                  <a:pt x="7913" y="5333"/>
                </a:moveTo>
                <a:cubicBezTo>
                  <a:pt x="7924" y="5479"/>
                  <a:pt x="7928" y="5575"/>
                  <a:pt x="7938" y="5705"/>
                </a:cubicBezTo>
                <a:cubicBezTo>
                  <a:pt x="7942" y="5752"/>
                  <a:pt x="7940" y="5765"/>
                  <a:pt x="7962" y="5804"/>
                </a:cubicBezTo>
                <a:cubicBezTo>
                  <a:pt x="7962" y="5771"/>
                  <a:pt x="7962" y="5738"/>
                  <a:pt x="7962" y="5705"/>
                </a:cubicBezTo>
              </a:path>
              <a:path w="5111" h="1267">
                <a:moveTo>
                  <a:pt x="7962" y="5035"/>
                </a:moveTo>
                <a:cubicBezTo>
                  <a:pt x="7970" y="5019"/>
                  <a:pt x="7979" y="5002"/>
                  <a:pt x="7987" y="4986"/>
                </a:cubicBezTo>
              </a:path>
              <a:path w="5111" h="1267">
                <a:moveTo>
                  <a:pt x="8161" y="5581"/>
                </a:moveTo>
                <a:cubicBezTo>
                  <a:pt x="8176" y="5660"/>
                  <a:pt x="8186" y="5689"/>
                  <a:pt x="8186" y="5755"/>
                </a:cubicBezTo>
                <a:cubicBezTo>
                  <a:pt x="8174" y="5719"/>
                  <a:pt x="8161" y="5714"/>
                  <a:pt x="8161" y="5655"/>
                </a:cubicBezTo>
                <a:cubicBezTo>
                  <a:pt x="8161" y="5580"/>
                  <a:pt x="8175" y="5526"/>
                  <a:pt x="8186" y="5457"/>
                </a:cubicBezTo>
                <a:cubicBezTo>
                  <a:pt x="8198" y="5388"/>
                  <a:pt x="8206" y="5324"/>
                  <a:pt x="8235" y="5259"/>
                </a:cubicBezTo>
                <a:cubicBezTo>
                  <a:pt x="8250" y="5225"/>
                  <a:pt x="8319" y="5146"/>
                  <a:pt x="8359" y="5135"/>
                </a:cubicBezTo>
                <a:cubicBezTo>
                  <a:pt x="8448" y="5110"/>
                  <a:pt x="8481" y="5226"/>
                  <a:pt x="8508" y="5283"/>
                </a:cubicBezTo>
                <a:cubicBezTo>
                  <a:pt x="8546" y="5362"/>
                  <a:pt x="8533" y="5444"/>
                  <a:pt x="8533" y="5531"/>
                </a:cubicBezTo>
                <a:cubicBezTo>
                  <a:pt x="8533" y="5574"/>
                  <a:pt x="8521" y="5744"/>
                  <a:pt x="8533" y="5705"/>
                </a:cubicBezTo>
                <a:cubicBezTo>
                  <a:pt x="8541" y="5680"/>
                  <a:pt x="8550" y="5656"/>
                  <a:pt x="8558" y="5631"/>
                </a:cubicBezTo>
              </a:path>
              <a:path w="5111" h="1267">
                <a:moveTo>
                  <a:pt x="8905" y="5135"/>
                </a:moveTo>
                <a:cubicBezTo>
                  <a:pt x="8953" y="5239"/>
                  <a:pt x="8997" y="5333"/>
                  <a:pt x="9054" y="5432"/>
                </a:cubicBezTo>
                <a:cubicBezTo>
                  <a:pt x="9100" y="5512"/>
                  <a:pt x="9154" y="5581"/>
                  <a:pt x="9203" y="5655"/>
                </a:cubicBezTo>
                <a:cubicBezTo>
                  <a:pt x="9228" y="5693"/>
                  <a:pt x="9273" y="5763"/>
                  <a:pt x="9302" y="5779"/>
                </a:cubicBezTo>
                <a:cubicBezTo>
                  <a:pt x="9342" y="5801"/>
                  <a:pt x="9327" y="5723"/>
                  <a:pt x="9327" y="5705"/>
                </a:cubicBezTo>
              </a:path>
              <a:path w="5111" h="1267">
                <a:moveTo>
                  <a:pt x="9203" y="5159"/>
                </a:moveTo>
                <a:cubicBezTo>
                  <a:pt x="9131" y="5283"/>
                  <a:pt x="9063" y="5394"/>
                  <a:pt x="8979" y="5507"/>
                </a:cubicBezTo>
                <a:cubicBezTo>
                  <a:pt x="8924" y="5580"/>
                  <a:pt x="8870" y="5640"/>
                  <a:pt x="8806" y="5705"/>
                </a:cubicBezTo>
                <a:cubicBezTo>
                  <a:pt x="8774" y="5737"/>
                  <a:pt x="8749" y="5783"/>
                  <a:pt x="8731" y="5730"/>
                </a:cubicBezTo>
              </a:path>
              <a:path w="5111" h="1267">
                <a:moveTo>
                  <a:pt x="9773" y="5209"/>
                </a:moveTo>
                <a:cubicBezTo>
                  <a:pt x="9811" y="5253"/>
                  <a:pt x="9814" y="5272"/>
                  <a:pt x="9847" y="5283"/>
                </a:cubicBezTo>
                <a:cubicBezTo>
                  <a:pt x="9820" y="5274"/>
                  <a:pt x="9779" y="5230"/>
                  <a:pt x="9748" y="5209"/>
                </a:cubicBezTo>
                <a:cubicBezTo>
                  <a:pt x="9725" y="5193"/>
                  <a:pt x="9683" y="5165"/>
                  <a:pt x="9649" y="5184"/>
                </a:cubicBezTo>
                <a:cubicBezTo>
                  <a:pt x="9614" y="5203"/>
                  <a:pt x="9520" y="5297"/>
                  <a:pt x="9500" y="5333"/>
                </a:cubicBezTo>
                <a:cubicBezTo>
                  <a:pt x="9465" y="5396"/>
                  <a:pt x="9415" y="5510"/>
                  <a:pt x="9401" y="5581"/>
                </a:cubicBezTo>
                <a:cubicBezTo>
                  <a:pt x="9391" y="5635"/>
                  <a:pt x="9395" y="5709"/>
                  <a:pt x="9426" y="5755"/>
                </a:cubicBezTo>
                <a:cubicBezTo>
                  <a:pt x="9456" y="5800"/>
                  <a:pt x="9524" y="5816"/>
                  <a:pt x="9575" y="5804"/>
                </a:cubicBezTo>
                <a:cubicBezTo>
                  <a:pt x="9669" y="5782"/>
                  <a:pt x="9719" y="5736"/>
                  <a:pt x="9798" y="5680"/>
                </a:cubicBezTo>
              </a:path>
              <a:path w="5111" h="1267">
                <a:moveTo>
                  <a:pt x="9996" y="5333"/>
                </a:moveTo>
                <a:cubicBezTo>
                  <a:pt x="9985" y="5430"/>
                  <a:pt x="9942" y="5621"/>
                  <a:pt x="9971" y="5730"/>
                </a:cubicBezTo>
                <a:cubicBezTo>
                  <a:pt x="9986" y="5785"/>
                  <a:pt x="10044" y="5836"/>
                  <a:pt x="10096" y="5854"/>
                </a:cubicBezTo>
                <a:cubicBezTo>
                  <a:pt x="10152" y="5873"/>
                  <a:pt x="10225" y="5835"/>
                  <a:pt x="10269" y="5804"/>
                </a:cubicBezTo>
                <a:cubicBezTo>
                  <a:pt x="10359" y="5741"/>
                  <a:pt x="10377" y="5661"/>
                  <a:pt x="10393" y="5556"/>
                </a:cubicBezTo>
                <a:cubicBezTo>
                  <a:pt x="10401" y="5504"/>
                  <a:pt x="10371" y="5402"/>
                  <a:pt x="10344" y="5358"/>
                </a:cubicBezTo>
                <a:cubicBezTo>
                  <a:pt x="10320" y="5319"/>
                  <a:pt x="10262" y="5273"/>
                  <a:pt x="10220" y="5259"/>
                </a:cubicBezTo>
                <a:cubicBezTo>
                  <a:pt x="10183" y="5247"/>
                  <a:pt x="10126" y="5263"/>
                  <a:pt x="10096" y="5283"/>
                </a:cubicBezTo>
                <a:cubicBezTo>
                  <a:pt x="10057" y="5309"/>
                  <a:pt x="10033" y="5311"/>
                  <a:pt x="10021" y="5358"/>
                </a:cubicBezTo>
              </a:path>
              <a:path w="5111" h="1267">
                <a:moveTo>
                  <a:pt x="10790" y="5259"/>
                </a:moveTo>
                <a:cubicBezTo>
                  <a:pt x="10736" y="5290"/>
                  <a:pt x="10676" y="5288"/>
                  <a:pt x="10616" y="5308"/>
                </a:cubicBezTo>
                <a:cubicBezTo>
                  <a:pt x="10578" y="5321"/>
                  <a:pt x="10521" y="5354"/>
                  <a:pt x="10517" y="5383"/>
                </a:cubicBezTo>
                <a:cubicBezTo>
                  <a:pt x="10510" y="5440"/>
                  <a:pt x="10602" y="5462"/>
                  <a:pt x="10641" y="5482"/>
                </a:cubicBezTo>
                <a:cubicBezTo>
                  <a:pt x="10724" y="5524"/>
                  <a:pt x="10761" y="5585"/>
                  <a:pt x="10815" y="5655"/>
                </a:cubicBezTo>
                <a:cubicBezTo>
                  <a:pt x="10853" y="5705"/>
                  <a:pt x="10847" y="5763"/>
                  <a:pt x="10790" y="5804"/>
                </a:cubicBezTo>
                <a:cubicBezTo>
                  <a:pt x="10726" y="5850"/>
                  <a:pt x="10655" y="5839"/>
                  <a:pt x="10592" y="5829"/>
                </a:cubicBezTo>
                <a:cubicBezTo>
                  <a:pt x="10546" y="5822"/>
                  <a:pt x="10524" y="5836"/>
                  <a:pt x="10517" y="5779"/>
                </a:cubicBezTo>
                <a:cubicBezTo>
                  <a:pt x="10517" y="5751"/>
                  <a:pt x="10520" y="5741"/>
                  <a:pt x="10542" y="5730"/>
                </a:cubicBezTo>
              </a:path>
              <a:path w="5111" h="1267">
                <a:moveTo>
                  <a:pt x="11038" y="5333"/>
                </a:moveTo>
                <a:cubicBezTo>
                  <a:pt x="11066" y="5383"/>
                  <a:pt x="11161" y="5621"/>
                  <a:pt x="11212" y="5680"/>
                </a:cubicBezTo>
                <a:cubicBezTo>
                  <a:pt x="11262" y="5737"/>
                  <a:pt x="11353" y="5777"/>
                  <a:pt x="11410" y="5829"/>
                </a:cubicBezTo>
                <a:cubicBezTo>
                  <a:pt x="11454" y="5869"/>
                  <a:pt x="11472" y="5857"/>
                  <a:pt x="11485" y="5804"/>
                </a:cubicBezTo>
              </a:path>
              <a:path w="5111" h="1267">
                <a:moveTo>
                  <a:pt x="11311" y="5333"/>
                </a:moveTo>
                <a:cubicBezTo>
                  <a:pt x="11194" y="5455"/>
                  <a:pt x="11097" y="5578"/>
                  <a:pt x="10988" y="5705"/>
                </a:cubicBezTo>
                <a:cubicBezTo>
                  <a:pt x="10936" y="5766"/>
                  <a:pt x="10866" y="5850"/>
                  <a:pt x="10790" y="5879"/>
                </a:cubicBezTo>
                <a:cubicBezTo>
                  <a:pt x="10750" y="5894"/>
                  <a:pt x="10765" y="5912"/>
                  <a:pt x="10765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03800" y="186696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2278" y="5184"/>
                </a:moveTo>
                <a:cubicBezTo>
                  <a:pt x="12260" y="5320"/>
                  <a:pt x="12254" y="5444"/>
                  <a:pt x="12254" y="5581"/>
                </a:cubicBezTo>
                <a:cubicBezTo>
                  <a:pt x="12254" y="5658"/>
                  <a:pt x="12272" y="5710"/>
                  <a:pt x="12278" y="5779"/>
                </a:cubicBezTo>
                <a:cubicBezTo>
                  <a:pt x="12282" y="5825"/>
                  <a:pt x="12294" y="5831"/>
                  <a:pt x="12254" y="5804"/>
                </a:cubicBezTo>
              </a:path>
              <a:path w="472" h="646">
                <a:moveTo>
                  <a:pt x="11956" y="5457"/>
                </a:moveTo>
                <a:cubicBezTo>
                  <a:pt x="12039" y="5457"/>
                  <a:pt x="12101" y="5435"/>
                  <a:pt x="12179" y="5432"/>
                </a:cubicBezTo>
                <a:cubicBezTo>
                  <a:pt x="12267" y="5428"/>
                  <a:pt x="12342" y="5417"/>
                  <a:pt x="12427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3000" y="1901880"/>
            <a:ext cx="1089000" cy="250920"/>
          </a:xfrm>
          <a:custGeom>
            <a:avLst/>
            <a:gdLst/>
            <a:ahLst/>
            <a:rect l="l" t="t" r="r" b="b"/>
            <a:pathLst>
              <a:path w="3027" h="696">
                <a:moveTo>
                  <a:pt x="13196" y="5358"/>
                </a:moveTo>
                <a:cubicBezTo>
                  <a:pt x="13252" y="5413"/>
                  <a:pt x="13250" y="5438"/>
                  <a:pt x="13295" y="5432"/>
                </a:cubicBezTo>
                <a:cubicBezTo>
                  <a:pt x="13295" y="5399"/>
                  <a:pt x="13308" y="5352"/>
                  <a:pt x="13271" y="5333"/>
                </a:cubicBezTo>
                <a:cubicBezTo>
                  <a:pt x="13245" y="5320"/>
                  <a:pt x="13183" y="5262"/>
                  <a:pt x="13146" y="5283"/>
                </a:cubicBezTo>
                <a:cubicBezTo>
                  <a:pt x="13061" y="5331"/>
                  <a:pt x="13042" y="5395"/>
                  <a:pt x="12998" y="5482"/>
                </a:cubicBezTo>
                <a:cubicBezTo>
                  <a:pt x="12964" y="5550"/>
                  <a:pt x="12927" y="5605"/>
                  <a:pt x="12923" y="5680"/>
                </a:cubicBezTo>
                <a:cubicBezTo>
                  <a:pt x="12919" y="5749"/>
                  <a:pt x="12926" y="5757"/>
                  <a:pt x="12973" y="5804"/>
                </a:cubicBezTo>
                <a:cubicBezTo>
                  <a:pt x="13019" y="5850"/>
                  <a:pt x="13067" y="5829"/>
                  <a:pt x="13122" y="5804"/>
                </a:cubicBezTo>
                <a:cubicBezTo>
                  <a:pt x="13178" y="5775"/>
                  <a:pt x="13202" y="5765"/>
                  <a:pt x="13246" y="5755"/>
                </a:cubicBezTo>
              </a:path>
              <a:path w="3027" h="696">
                <a:moveTo>
                  <a:pt x="13543" y="5457"/>
                </a:moveTo>
                <a:cubicBezTo>
                  <a:pt x="13521" y="5554"/>
                  <a:pt x="13455" y="5682"/>
                  <a:pt x="13519" y="5779"/>
                </a:cubicBezTo>
                <a:cubicBezTo>
                  <a:pt x="13557" y="5836"/>
                  <a:pt x="13604" y="5787"/>
                  <a:pt x="13643" y="5779"/>
                </a:cubicBezTo>
                <a:cubicBezTo>
                  <a:pt x="13724" y="5763"/>
                  <a:pt x="13752" y="5729"/>
                  <a:pt x="13791" y="5655"/>
                </a:cubicBezTo>
                <a:cubicBezTo>
                  <a:pt x="13828" y="5584"/>
                  <a:pt x="13861" y="5516"/>
                  <a:pt x="13841" y="5432"/>
                </a:cubicBezTo>
                <a:cubicBezTo>
                  <a:pt x="13823" y="5356"/>
                  <a:pt x="13808" y="5294"/>
                  <a:pt x="13717" y="5283"/>
                </a:cubicBezTo>
                <a:cubicBezTo>
                  <a:pt x="13645" y="5274"/>
                  <a:pt x="13596" y="5285"/>
                  <a:pt x="13543" y="5333"/>
                </a:cubicBezTo>
                <a:cubicBezTo>
                  <a:pt x="13494" y="5378"/>
                  <a:pt x="13487" y="5407"/>
                  <a:pt x="13494" y="5432"/>
                </a:cubicBezTo>
                <a:cubicBezTo>
                  <a:pt x="13494" y="5460"/>
                  <a:pt x="13496" y="5471"/>
                  <a:pt x="13519" y="5482"/>
                </a:cubicBezTo>
              </a:path>
              <a:path w="3027" h="696">
                <a:moveTo>
                  <a:pt x="14263" y="5283"/>
                </a:moveTo>
                <a:cubicBezTo>
                  <a:pt x="14213" y="5327"/>
                  <a:pt x="14162" y="5360"/>
                  <a:pt x="14114" y="5407"/>
                </a:cubicBezTo>
                <a:cubicBezTo>
                  <a:pt x="14077" y="5443"/>
                  <a:pt x="14080" y="5470"/>
                  <a:pt x="14114" y="5507"/>
                </a:cubicBezTo>
                <a:cubicBezTo>
                  <a:pt x="14164" y="5561"/>
                  <a:pt x="14204" y="5615"/>
                  <a:pt x="14238" y="5680"/>
                </a:cubicBezTo>
                <a:cubicBezTo>
                  <a:pt x="14261" y="5722"/>
                  <a:pt x="14278" y="5796"/>
                  <a:pt x="14238" y="5829"/>
                </a:cubicBezTo>
                <a:cubicBezTo>
                  <a:pt x="14201" y="5859"/>
                  <a:pt x="14138" y="5913"/>
                  <a:pt x="14089" y="5904"/>
                </a:cubicBezTo>
                <a:cubicBezTo>
                  <a:pt x="14071" y="5901"/>
                  <a:pt x="13942" y="5882"/>
                  <a:pt x="13965" y="5829"/>
                </a:cubicBezTo>
                <a:cubicBezTo>
                  <a:pt x="13973" y="5821"/>
                  <a:pt x="13982" y="5812"/>
                  <a:pt x="13990" y="5804"/>
                </a:cubicBezTo>
              </a:path>
              <a:path w="3027" h="696">
                <a:moveTo>
                  <a:pt x="14585" y="5432"/>
                </a:moveTo>
                <a:cubicBezTo>
                  <a:pt x="14642" y="5528"/>
                  <a:pt x="14707" y="5702"/>
                  <a:pt x="14784" y="5779"/>
                </a:cubicBezTo>
                <a:cubicBezTo>
                  <a:pt x="14831" y="5826"/>
                  <a:pt x="14887" y="5882"/>
                  <a:pt x="14957" y="5904"/>
                </a:cubicBezTo>
                <a:cubicBezTo>
                  <a:pt x="14994" y="5916"/>
                  <a:pt x="15052" y="5912"/>
                  <a:pt x="15056" y="5879"/>
                </a:cubicBezTo>
                <a:cubicBezTo>
                  <a:pt x="15056" y="5854"/>
                  <a:pt x="15056" y="5846"/>
                  <a:pt x="15056" y="5829"/>
                </a:cubicBezTo>
              </a:path>
              <a:path w="3027" h="696">
                <a:moveTo>
                  <a:pt x="14833" y="5383"/>
                </a:moveTo>
                <a:cubicBezTo>
                  <a:pt x="14736" y="5520"/>
                  <a:pt x="14643" y="5674"/>
                  <a:pt x="14536" y="5804"/>
                </a:cubicBezTo>
                <a:cubicBezTo>
                  <a:pt x="14500" y="5848"/>
                  <a:pt x="14382" y="5984"/>
                  <a:pt x="14387" y="5978"/>
                </a:cubicBezTo>
                <a:cubicBezTo>
                  <a:pt x="14395" y="5961"/>
                  <a:pt x="14404" y="5945"/>
                  <a:pt x="14412" y="5928"/>
                </a:cubicBezTo>
              </a:path>
              <a:path w="3027" h="696">
                <a:moveTo>
                  <a:pt x="15503" y="5457"/>
                </a:moveTo>
                <a:cubicBezTo>
                  <a:pt x="15641" y="5443"/>
                  <a:pt x="15787" y="5418"/>
                  <a:pt x="15925" y="5407"/>
                </a:cubicBezTo>
                <a:cubicBezTo>
                  <a:pt x="15949" y="5407"/>
                  <a:pt x="15957" y="5407"/>
                  <a:pt x="15949" y="5383"/>
                </a:cubicBezTo>
              </a:path>
              <a:path w="3027" h="696">
                <a:moveTo>
                  <a:pt x="15453" y="5631"/>
                </a:moveTo>
                <a:cubicBezTo>
                  <a:pt x="15468" y="5674"/>
                  <a:pt x="15525" y="5655"/>
                  <a:pt x="15577" y="5655"/>
                </a:cubicBezTo>
                <a:cubicBezTo>
                  <a:pt x="15695" y="5655"/>
                  <a:pt x="15787" y="5641"/>
                  <a:pt x="15900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27840" y="1795320"/>
            <a:ext cx="276120" cy="32076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6867" y="5209"/>
                </a:moveTo>
                <a:cubicBezTo>
                  <a:pt x="16829" y="5305"/>
                  <a:pt x="16721" y="5490"/>
                  <a:pt x="16743" y="5606"/>
                </a:cubicBezTo>
                <a:cubicBezTo>
                  <a:pt x="16755" y="5670"/>
                  <a:pt x="16792" y="5760"/>
                  <a:pt x="16842" y="5804"/>
                </a:cubicBezTo>
                <a:cubicBezTo>
                  <a:pt x="16902" y="5856"/>
                  <a:pt x="16992" y="5876"/>
                  <a:pt x="17066" y="5879"/>
                </a:cubicBezTo>
                <a:cubicBezTo>
                  <a:pt x="17172" y="5883"/>
                  <a:pt x="17253" y="5876"/>
                  <a:pt x="17338" y="5804"/>
                </a:cubicBezTo>
                <a:cubicBezTo>
                  <a:pt x="17413" y="5741"/>
                  <a:pt x="17517" y="5593"/>
                  <a:pt x="17512" y="5482"/>
                </a:cubicBezTo>
                <a:cubicBezTo>
                  <a:pt x="17509" y="5412"/>
                  <a:pt x="17431" y="5288"/>
                  <a:pt x="17388" y="5234"/>
                </a:cubicBezTo>
                <a:cubicBezTo>
                  <a:pt x="17316" y="5143"/>
                  <a:pt x="17171" y="5051"/>
                  <a:pt x="17066" y="5011"/>
                </a:cubicBezTo>
                <a:cubicBezTo>
                  <a:pt x="17041" y="5003"/>
                  <a:pt x="17016" y="4994"/>
                  <a:pt x="16991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62160" y="1419120"/>
            <a:ext cx="49212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9550" y="3994"/>
                </a:moveTo>
                <a:cubicBezTo>
                  <a:pt x="9607" y="3986"/>
                  <a:pt x="9637" y="3969"/>
                  <a:pt x="9699" y="3969"/>
                </a:cubicBezTo>
                <a:cubicBezTo>
                  <a:pt x="9741" y="3969"/>
                  <a:pt x="9736" y="3979"/>
                  <a:pt x="9748" y="3944"/>
                </a:cubicBezTo>
                <a:cubicBezTo>
                  <a:pt x="9616" y="3944"/>
                  <a:pt x="9269" y="3944"/>
                  <a:pt x="9401" y="3944"/>
                </a:cubicBezTo>
                <a:cubicBezTo>
                  <a:pt x="9458" y="3944"/>
                  <a:pt x="9794" y="3949"/>
                  <a:pt x="9748" y="3969"/>
                </a:cubicBezTo>
                <a:cubicBezTo>
                  <a:pt x="9712" y="3984"/>
                  <a:pt x="9639" y="3986"/>
                  <a:pt x="9599" y="3994"/>
                </a:cubicBezTo>
                <a:cubicBezTo>
                  <a:pt x="9684" y="3983"/>
                  <a:pt x="9761" y="3969"/>
                  <a:pt x="9847" y="3969"/>
                </a:cubicBezTo>
                <a:cubicBezTo>
                  <a:pt x="9872" y="3969"/>
                  <a:pt x="9880" y="3969"/>
                  <a:pt x="9847" y="3969"/>
                </a:cubicBezTo>
              </a:path>
              <a:path w="1365" h="944">
                <a:moveTo>
                  <a:pt x="8880" y="4043"/>
                </a:moveTo>
                <a:cubicBezTo>
                  <a:pt x="8861" y="4156"/>
                  <a:pt x="8855" y="4252"/>
                  <a:pt x="8855" y="4366"/>
                </a:cubicBezTo>
                <a:cubicBezTo>
                  <a:pt x="8855" y="4452"/>
                  <a:pt x="8876" y="4506"/>
                  <a:pt x="8855" y="4589"/>
                </a:cubicBezTo>
                <a:cubicBezTo>
                  <a:pt x="8848" y="4618"/>
                  <a:pt x="8855" y="4658"/>
                  <a:pt x="8855" y="4688"/>
                </a:cubicBezTo>
                <a:cubicBezTo>
                  <a:pt x="8802" y="4688"/>
                  <a:pt x="8794" y="4676"/>
                  <a:pt x="8756" y="4638"/>
                </a:cubicBezTo>
              </a:path>
              <a:path w="1365" h="944">
                <a:moveTo>
                  <a:pt x="8533" y="4490"/>
                </a:moveTo>
                <a:cubicBezTo>
                  <a:pt x="8518" y="4511"/>
                  <a:pt x="8515" y="4537"/>
                  <a:pt x="8533" y="4589"/>
                </a:cubicBezTo>
                <a:cubicBezTo>
                  <a:pt x="8555" y="4653"/>
                  <a:pt x="8598" y="4686"/>
                  <a:pt x="8632" y="4738"/>
                </a:cubicBezTo>
                <a:cubicBezTo>
                  <a:pt x="8665" y="4788"/>
                  <a:pt x="8687" y="4793"/>
                  <a:pt x="8731" y="4837"/>
                </a:cubicBezTo>
                <a:cubicBezTo>
                  <a:pt x="8754" y="4860"/>
                  <a:pt x="8790" y="4910"/>
                  <a:pt x="8830" y="4887"/>
                </a:cubicBezTo>
                <a:cubicBezTo>
                  <a:pt x="8893" y="4851"/>
                  <a:pt x="8938" y="4766"/>
                  <a:pt x="8979" y="4713"/>
                </a:cubicBezTo>
                <a:cubicBezTo>
                  <a:pt x="9017" y="4664"/>
                  <a:pt x="9069" y="4647"/>
                  <a:pt x="9103" y="4589"/>
                </a:cubicBezTo>
                <a:cubicBezTo>
                  <a:pt x="9129" y="4545"/>
                  <a:pt x="9153" y="4509"/>
                  <a:pt x="917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9240" y="2455920"/>
            <a:ext cx="928800" cy="669960"/>
          </a:xfrm>
          <a:custGeom>
            <a:avLst/>
            <a:gdLst/>
            <a:ahLst/>
            <a:rect l="l" t="t" r="r" b="b"/>
            <a:pathLst>
              <a:path w="2581" h="1862">
                <a:moveTo>
                  <a:pt x="14908" y="6821"/>
                </a:moveTo>
                <a:cubicBezTo>
                  <a:pt x="14937" y="6901"/>
                  <a:pt x="14959" y="6947"/>
                  <a:pt x="15007" y="7020"/>
                </a:cubicBezTo>
                <a:cubicBezTo>
                  <a:pt x="15091" y="7150"/>
                  <a:pt x="15161" y="7344"/>
                  <a:pt x="15205" y="7491"/>
                </a:cubicBezTo>
                <a:cubicBezTo>
                  <a:pt x="15252" y="7648"/>
                  <a:pt x="15256" y="7802"/>
                  <a:pt x="15230" y="7962"/>
                </a:cubicBezTo>
                <a:cubicBezTo>
                  <a:pt x="15209" y="8090"/>
                  <a:pt x="15160" y="8230"/>
                  <a:pt x="15081" y="8334"/>
                </a:cubicBezTo>
                <a:cubicBezTo>
                  <a:pt x="14995" y="8446"/>
                  <a:pt x="14857" y="8589"/>
                  <a:pt x="14734" y="8657"/>
                </a:cubicBezTo>
                <a:cubicBezTo>
                  <a:pt x="14703" y="8675"/>
                  <a:pt x="14678" y="8695"/>
                  <a:pt x="14635" y="8682"/>
                </a:cubicBezTo>
                <a:cubicBezTo>
                  <a:pt x="14610" y="8682"/>
                  <a:pt x="14602" y="8682"/>
                  <a:pt x="14610" y="8657"/>
                </a:cubicBezTo>
              </a:path>
              <a:path w="2581" h="1862">
                <a:moveTo>
                  <a:pt x="15404" y="7665"/>
                </a:moveTo>
                <a:cubicBezTo>
                  <a:pt x="15499" y="7648"/>
                  <a:pt x="15584" y="7634"/>
                  <a:pt x="15677" y="7615"/>
                </a:cubicBezTo>
                <a:cubicBezTo>
                  <a:pt x="15708" y="7609"/>
                  <a:pt x="15744" y="7615"/>
                  <a:pt x="15776" y="7615"/>
                </a:cubicBezTo>
              </a:path>
              <a:path w="2581" h="1862">
                <a:moveTo>
                  <a:pt x="15354" y="7962"/>
                </a:moveTo>
                <a:cubicBezTo>
                  <a:pt x="15502" y="7962"/>
                  <a:pt x="15569" y="7933"/>
                  <a:pt x="15701" y="7913"/>
                </a:cubicBezTo>
                <a:cubicBezTo>
                  <a:pt x="15781" y="7913"/>
                  <a:pt x="15810" y="7910"/>
                  <a:pt x="15850" y="7863"/>
                </a:cubicBezTo>
              </a:path>
              <a:path w="2581" h="1862">
                <a:moveTo>
                  <a:pt x="16520" y="7317"/>
                </a:moveTo>
                <a:cubicBezTo>
                  <a:pt x="16490" y="7400"/>
                  <a:pt x="16456" y="7484"/>
                  <a:pt x="16421" y="7565"/>
                </a:cubicBezTo>
                <a:cubicBezTo>
                  <a:pt x="16380" y="7661"/>
                  <a:pt x="16357" y="7760"/>
                  <a:pt x="16346" y="7863"/>
                </a:cubicBezTo>
                <a:cubicBezTo>
                  <a:pt x="16334" y="7973"/>
                  <a:pt x="16341" y="8105"/>
                  <a:pt x="16371" y="8210"/>
                </a:cubicBezTo>
                <a:cubicBezTo>
                  <a:pt x="16388" y="8270"/>
                  <a:pt x="16485" y="8321"/>
                  <a:pt x="16545" y="8334"/>
                </a:cubicBezTo>
                <a:cubicBezTo>
                  <a:pt x="16614" y="8349"/>
                  <a:pt x="16732" y="8343"/>
                  <a:pt x="16793" y="8310"/>
                </a:cubicBezTo>
                <a:cubicBezTo>
                  <a:pt x="16918" y="8243"/>
                  <a:pt x="17068" y="8143"/>
                  <a:pt x="17140" y="8012"/>
                </a:cubicBezTo>
                <a:cubicBezTo>
                  <a:pt x="17194" y="7913"/>
                  <a:pt x="17190" y="7798"/>
                  <a:pt x="17190" y="7689"/>
                </a:cubicBezTo>
                <a:cubicBezTo>
                  <a:pt x="17190" y="7585"/>
                  <a:pt x="17146" y="7520"/>
                  <a:pt x="17090" y="7441"/>
                </a:cubicBezTo>
                <a:cubicBezTo>
                  <a:pt x="17029" y="7355"/>
                  <a:pt x="17006" y="7301"/>
                  <a:pt x="16917" y="7243"/>
                </a:cubicBezTo>
                <a:cubicBezTo>
                  <a:pt x="16839" y="7192"/>
                  <a:pt x="16784" y="7163"/>
                  <a:pt x="16694" y="7144"/>
                </a:cubicBezTo>
                <a:cubicBezTo>
                  <a:pt x="16686" y="7144"/>
                  <a:pt x="16677" y="7144"/>
                  <a:pt x="16669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97280" y="4133880"/>
            <a:ext cx="1428840" cy="1073160"/>
          </a:xfrm>
          <a:custGeom>
            <a:avLst/>
            <a:gdLst/>
            <a:ahLst/>
            <a:rect l="l" t="t" r="r" b="b"/>
            <a:pathLst>
              <a:path w="3970" h="2977">
                <a:moveTo>
                  <a:pt x="14635" y="11807"/>
                </a:moveTo>
                <a:cubicBezTo>
                  <a:pt x="14704" y="11788"/>
                  <a:pt x="14784" y="11766"/>
                  <a:pt x="14858" y="11782"/>
                </a:cubicBezTo>
                <a:cubicBezTo>
                  <a:pt x="14925" y="11805"/>
                  <a:pt x="14943" y="11816"/>
                  <a:pt x="14982" y="11782"/>
                </a:cubicBezTo>
              </a:path>
              <a:path w="3970" h="2977">
                <a:moveTo>
                  <a:pt x="15329" y="11584"/>
                </a:moveTo>
                <a:cubicBezTo>
                  <a:pt x="15329" y="11618"/>
                  <a:pt x="15292" y="12109"/>
                  <a:pt x="15354" y="12129"/>
                </a:cubicBezTo>
              </a:path>
              <a:path w="3970" h="2977">
                <a:moveTo>
                  <a:pt x="15925" y="11832"/>
                </a:moveTo>
                <a:cubicBezTo>
                  <a:pt x="16058" y="11832"/>
                  <a:pt x="16127" y="11826"/>
                  <a:pt x="16247" y="11782"/>
                </a:cubicBezTo>
              </a:path>
              <a:path w="3970" h="2977">
                <a:moveTo>
                  <a:pt x="16644" y="11485"/>
                </a:moveTo>
                <a:cubicBezTo>
                  <a:pt x="16644" y="11675"/>
                  <a:pt x="16627" y="11874"/>
                  <a:pt x="16669" y="12055"/>
                </a:cubicBezTo>
                <a:cubicBezTo>
                  <a:pt x="16679" y="12099"/>
                  <a:pt x="16669" y="12158"/>
                  <a:pt x="16669" y="12204"/>
                </a:cubicBezTo>
              </a:path>
              <a:path w="3970" h="2977">
                <a:moveTo>
                  <a:pt x="13072" y="12750"/>
                </a:moveTo>
                <a:cubicBezTo>
                  <a:pt x="13141" y="12729"/>
                  <a:pt x="13201" y="12705"/>
                  <a:pt x="13271" y="12700"/>
                </a:cubicBezTo>
                <a:cubicBezTo>
                  <a:pt x="13336" y="12695"/>
                  <a:pt x="13351" y="12706"/>
                  <a:pt x="13395" y="12750"/>
                </a:cubicBezTo>
                <a:cubicBezTo>
                  <a:pt x="13459" y="12814"/>
                  <a:pt x="13484" y="12883"/>
                  <a:pt x="13494" y="12973"/>
                </a:cubicBezTo>
                <a:cubicBezTo>
                  <a:pt x="13504" y="13056"/>
                  <a:pt x="13476" y="13172"/>
                  <a:pt x="13444" y="13246"/>
                </a:cubicBezTo>
                <a:cubicBezTo>
                  <a:pt x="13417" y="13309"/>
                  <a:pt x="13357" y="13393"/>
                  <a:pt x="13295" y="13419"/>
                </a:cubicBezTo>
                <a:cubicBezTo>
                  <a:pt x="13260" y="13433"/>
                  <a:pt x="13238" y="13444"/>
                  <a:pt x="13196" y="13444"/>
                </a:cubicBezTo>
                <a:cubicBezTo>
                  <a:pt x="13168" y="13444"/>
                  <a:pt x="13157" y="13442"/>
                  <a:pt x="13146" y="13419"/>
                </a:cubicBezTo>
                <a:cubicBezTo>
                  <a:pt x="13201" y="13396"/>
                  <a:pt x="13242" y="13392"/>
                  <a:pt x="13295" y="13419"/>
                </a:cubicBezTo>
                <a:cubicBezTo>
                  <a:pt x="13347" y="13445"/>
                  <a:pt x="13377" y="13444"/>
                  <a:pt x="13444" y="13444"/>
                </a:cubicBezTo>
                <a:cubicBezTo>
                  <a:pt x="13477" y="13444"/>
                  <a:pt x="13494" y="13444"/>
                  <a:pt x="13519" y="13444"/>
                </a:cubicBezTo>
              </a:path>
              <a:path w="3970" h="2977">
                <a:moveTo>
                  <a:pt x="13841" y="12948"/>
                </a:moveTo>
                <a:cubicBezTo>
                  <a:pt x="13758" y="12986"/>
                  <a:pt x="13701" y="12998"/>
                  <a:pt x="13717" y="13072"/>
                </a:cubicBezTo>
                <a:cubicBezTo>
                  <a:pt x="13726" y="13114"/>
                  <a:pt x="13783" y="13192"/>
                  <a:pt x="13816" y="13221"/>
                </a:cubicBezTo>
                <a:cubicBezTo>
                  <a:pt x="13877" y="13274"/>
                  <a:pt x="13945" y="13304"/>
                  <a:pt x="13965" y="13395"/>
                </a:cubicBezTo>
                <a:cubicBezTo>
                  <a:pt x="13976" y="13444"/>
                  <a:pt x="13963" y="13484"/>
                  <a:pt x="13915" y="13494"/>
                </a:cubicBezTo>
                <a:cubicBezTo>
                  <a:pt x="13870" y="13504"/>
                  <a:pt x="13821" y="13471"/>
                  <a:pt x="13791" y="13444"/>
                </a:cubicBezTo>
                <a:cubicBezTo>
                  <a:pt x="13749" y="13406"/>
                  <a:pt x="13770" y="13395"/>
                  <a:pt x="13791" y="13345"/>
                </a:cubicBezTo>
              </a:path>
              <a:path w="3970" h="2977">
                <a:moveTo>
                  <a:pt x="14188" y="13196"/>
                </a:moveTo>
                <a:cubicBezTo>
                  <a:pt x="14188" y="13269"/>
                  <a:pt x="14194" y="13397"/>
                  <a:pt x="14188" y="13395"/>
                </a:cubicBezTo>
                <a:cubicBezTo>
                  <a:pt x="14180" y="13395"/>
                  <a:pt x="14171" y="13395"/>
                  <a:pt x="14163" y="13395"/>
                </a:cubicBezTo>
              </a:path>
              <a:path w="3970" h="2977">
                <a:moveTo>
                  <a:pt x="14139" y="12824"/>
                </a:moveTo>
                <a:cubicBezTo>
                  <a:pt x="14139" y="12799"/>
                  <a:pt x="14139" y="12791"/>
                  <a:pt x="14163" y="12799"/>
                </a:cubicBezTo>
              </a:path>
              <a:path w="3970" h="2977">
                <a:moveTo>
                  <a:pt x="14337" y="13295"/>
                </a:moveTo>
                <a:cubicBezTo>
                  <a:pt x="14337" y="13352"/>
                  <a:pt x="14331" y="13438"/>
                  <a:pt x="14362" y="13345"/>
                </a:cubicBezTo>
                <a:cubicBezTo>
                  <a:pt x="14379" y="13293"/>
                  <a:pt x="14369" y="13224"/>
                  <a:pt x="14387" y="13171"/>
                </a:cubicBezTo>
                <a:cubicBezTo>
                  <a:pt x="14409" y="13107"/>
                  <a:pt x="14439" y="13006"/>
                  <a:pt x="14511" y="12998"/>
                </a:cubicBezTo>
                <a:cubicBezTo>
                  <a:pt x="14591" y="12989"/>
                  <a:pt x="14572" y="13080"/>
                  <a:pt x="14585" y="13122"/>
                </a:cubicBezTo>
                <a:cubicBezTo>
                  <a:pt x="14607" y="13195"/>
                  <a:pt x="14649" y="13254"/>
                  <a:pt x="14684" y="13320"/>
                </a:cubicBezTo>
                <a:cubicBezTo>
                  <a:pt x="14709" y="13367"/>
                  <a:pt x="14729" y="13413"/>
                  <a:pt x="14784" y="13419"/>
                </a:cubicBezTo>
                <a:cubicBezTo>
                  <a:pt x="14792" y="13419"/>
                  <a:pt x="14800" y="13419"/>
                  <a:pt x="14808" y="13419"/>
                </a:cubicBezTo>
              </a:path>
              <a:path w="3970" h="2977">
                <a:moveTo>
                  <a:pt x="14957" y="13072"/>
                </a:moveTo>
                <a:cubicBezTo>
                  <a:pt x="14997" y="13302"/>
                  <a:pt x="14986" y="13233"/>
                  <a:pt x="15106" y="13370"/>
                </a:cubicBezTo>
                <a:cubicBezTo>
                  <a:pt x="15155" y="13426"/>
                  <a:pt x="15200" y="13469"/>
                  <a:pt x="15280" y="13494"/>
                </a:cubicBezTo>
                <a:cubicBezTo>
                  <a:pt x="15326" y="13508"/>
                  <a:pt x="15341" y="13470"/>
                  <a:pt x="15354" y="13444"/>
                </a:cubicBezTo>
              </a:path>
              <a:path w="3970" h="2977">
                <a:moveTo>
                  <a:pt x="15156" y="12973"/>
                </a:moveTo>
                <a:cubicBezTo>
                  <a:pt x="15065" y="13076"/>
                  <a:pt x="14980" y="13178"/>
                  <a:pt x="14908" y="13295"/>
                </a:cubicBezTo>
                <a:cubicBezTo>
                  <a:pt x="14885" y="13332"/>
                  <a:pt x="14837" y="13379"/>
                  <a:pt x="14833" y="13419"/>
                </a:cubicBezTo>
                <a:cubicBezTo>
                  <a:pt x="14833" y="13427"/>
                  <a:pt x="14833" y="13436"/>
                  <a:pt x="14833" y="13444"/>
                </a:cubicBezTo>
              </a:path>
              <a:path w="3970" h="2977">
                <a:moveTo>
                  <a:pt x="15429" y="13146"/>
                </a:moveTo>
                <a:cubicBezTo>
                  <a:pt x="15478" y="13138"/>
                  <a:pt x="15528" y="13130"/>
                  <a:pt x="15577" y="13122"/>
                </a:cubicBezTo>
              </a:path>
              <a:path w="3970" h="2977">
                <a:moveTo>
                  <a:pt x="15379" y="13320"/>
                </a:moveTo>
                <a:cubicBezTo>
                  <a:pt x="15436" y="13342"/>
                  <a:pt x="15513" y="13363"/>
                  <a:pt x="15577" y="13345"/>
                </a:cubicBezTo>
                <a:cubicBezTo>
                  <a:pt x="15627" y="13320"/>
                  <a:pt x="15644" y="13312"/>
                  <a:pt x="15677" y="13295"/>
                </a:cubicBezTo>
              </a:path>
              <a:path w="3970" h="2977">
                <a:moveTo>
                  <a:pt x="15801" y="13146"/>
                </a:moveTo>
                <a:cubicBezTo>
                  <a:pt x="15922" y="13140"/>
                  <a:pt x="15992" y="13137"/>
                  <a:pt x="16098" y="13097"/>
                </a:cubicBezTo>
              </a:path>
              <a:path w="3970" h="2977">
                <a:moveTo>
                  <a:pt x="16446" y="12675"/>
                </a:moveTo>
                <a:cubicBezTo>
                  <a:pt x="16462" y="12804"/>
                  <a:pt x="16485" y="12945"/>
                  <a:pt x="16495" y="13072"/>
                </a:cubicBezTo>
                <a:cubicBezTo>
                  <a:pt x="16503" y="13171"/>
                  <a:pt x="16520" y="13247"/>
                  <a:pt x="16520" y="13345"/>
                </a:cubicBezTo>
              </a:path>
              <a:path w="3970" h="2977">
                <a:moveTo>
                  <a:pt x="13047" y="13568"/>
                </a:moveTo>
                <a:cubicBezTo>
                  <a:pt x="13241" y="13568"/>
                  <a:pt x="13430" y="13566"/>
                  <a:pt x="13618" y="13593"/>
                </a:cubicBezTo>
                <a:cubicBezTo>
                  <a:pt x="13654" y="13598"/>
                  <a:pt x="13705" y="13593"/>
                  <a:pt x="13742" y="13593"/>
                </a:cubicBezTo>
              </a:path>
              <a:path w="3970" h="2977">
                <a:moveTo>
                  <a:pt x="13395" y="13742"/>
                </a:moveTo>
                <a:cubicBezTo>
                  <a:pt x="13438" y="13775"/>
                  <a:pt x="13461" y="13767"/>
                  <a:pt x="13519" y="13767"/>
                </a:cubicBezTo>
                <a:cubicBezTo>
                  <a:pt x="13581" y="13767"/>
                  <a:pt x="13619" y="13802"/>
                  <a:pt x="13667" y="13841"/>
                </a:cubicBezTo>
                <a:cubicBezTo>
                  <a:pt x="13652" y="13904"/>
                  <a:pt x="13616" y="13925"/>
                  <a:pt x="13568" y="13965"/>
                </a:cubicBezTo>
                <a:cubicBezTo>
                  <a:pt x="13530" y="13997"/>
                  <a:pt x="13442" y="14048"/>
                  <a:pt x="13419" y="14089"/>
                </a:cubicBezTo>
                <a:cubicBezTo>
                  <a:pt x="13419" y="14097"/>
                  <a:pt x="13419" y="14106"/>
                  <a:pt x="13419" y="14114"/>
                </a:cubicBezTo>
                <a:cubicBezTo>
                  <a:pt x="13479" y="14150"/>
                  <a:pt x="13543" y="14160"/>
                  <a:pt x="13618" y="14163"/>
                </a:cubicBezTo>
                <a:cubicBezTo>
                  <a:pt x="13677" y="14163"/>
                  <a:pt x="13703" y="14160"/>
                  <a:pt x="13742" y="14139"/>
                </a:cubicBezTo>
              </a:path>
              <a:path w="3970" h="2977">
                <a:moveTo>
                  <a:pt x="16148" y="13568"/>
                </a:moveTo>
                <a:cubicBezTo>
                  <a:pt x="16248" y="13546"/>
                  <a:pt x="16344" y="13523"/>
                  <a:pt x="16446" y="13519"/>
                </a:cubicBezTo>
                <a:cubicBezTo>
                  <a:pt x="16568" y="13515"/>
                  <a:pt x="16676" y="13526"/>
                  <a:pt x="16793" y="13494"/>
                </a:cubicBezTo>
              </a:path>
              <a:path w="3970" h="2977">
                <a:moveTo>
                  <a:pt x="16421" y="13816"/>
                </a:moveTo>
                <a:cubicBezTo>
                  <a:pt x="16502" y="13835"/>
                  <a:pt x="16590" y="13846"/>
                  <a:pt x="16669" y="13866"/>
                </a:cubicBezTo>
                <a:cubicBezTo>
                  <a:pt x="16749" y="13886"/>
                  <a:pt x="16803" y="13917"/>
                  <a:pt x="16768" y="13990"/>
                </a:cubicBezTo>
                <a:cubicBezTo>
                  <a:pt x="16739" y="14051"/>
                  <a:pt x="16669" y="14090"/>
                  <a:pt x="16619" y="14139"/>
                </a:cubicBezTo>
                <a:cubicBezTo>
                  <a:pt x="16590" y="14167"/>
                  <a:pt x="16554" y="14192"/>
                  <a:pt x="16570" y="14238"/>
                </a:cubicBezTo>
                <a:cubicBezTo>
                  <a:pt x="16590" y="14296"/>
                  <a:pt x="16667" y="14360"/>
                  <a:pt x="16718" y="14387"/>
                </a:cubicBezTo>
                <a:cubicBezTo>
                  <a:pt x="16777" y="14418"/>
                  <a:pt x="16899" y="14475"/>
                  <a:pt x="16966" y="14461"/>
                </a:cubicBezTo>
                <a:cubicBezTo>
                  <a:pt x="17006" y="14441"/>
                  <a:pt x="17023" y="14443"/>
                  <a:pt x="17016" y="14412"/>
                </a:cubicBezTo>
              </a:path>
              <a:path w="3970" h="2977">
                <a:moveTo>
                  <a:pt x="13345" y="13022"/>
                </a:moveTo>
                <a:cubicBezTo>
                  <a:pt x="13363" y="13198"/>
                  <a:pt x="13377" y="13350"/>
                  <a:pt x="13419" y="13519"/>
                </a:cubicBezTo>
                <a:cubicBezTo>
                  <a:pt x="13464" y="13699"/>
                  <a:pt x="13510" y="13865"/>
                  <a:pt x="13568" y="14039"/>
                </a:cubicBezTo>
                <a:cubicBezTo>
                  <a:pt x="13591" y="14107"/>
                  <a:pt x="13610" y="14183"/>
                  <a:pt x="13643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44800" y="2054160"/>
            <a:ext cx="3349440" cy="276120"/>
          </a:xfrm>
          <a:custGeom>
            <a:avLst/>
            <a:gdLst/>
            <a:ahLst/>
            <a:rect l="l" t="t" r="r" b="b"/>
            <a:pathLst>
              <a:path w="9303" h="770">
                <a:moveTo>
                  <a:pt x="5730" y="5705"/>
                </a:moveTo>
                <a:cubicBezTo>
                  <a:pt x="5738" y="5769"/>
                  <a:pt x="5763" y="5807"/>
                  <a:pt x="5755" y="5879"/>
                </a:cubicBezTo>
                <a:cubicBezTo>
                  <a:pt x="5748" y="5941"/>
                  <a:pt x="5717" y="6014"/>
                  <a:pt x="5705" y="6077"/>
                </a:cubicBezTo>
                <a:cubicBezTo>
                  <a:pt x="5691" y="6146"/>
                  <a:pt x="5671" y="6227"/>
                  <a:pt x="5680" y="6300"/>
                </a:cubicBezTo>
                <a:cubicBezTo>
                  <a:pt x="5684" y="6334"/>
                  <a:pt x="5721" y="6402"/>
                  <a:pt x="5755" y="6424"/>
                </a:cubicBezTo>
                <a:cubicBezTo>
                  <a:pt x="5813" y="6462"/>
                  <a:pt x="5913" y="6468"/>
                  <a:pt x="5978" y="6474"/>
                </a:cubicBezTo>
                <a:cubicBezTo>
                  <a:pt x="6097" y="6485"/>
                  <a:pt x="6208" y="6455"/>
                  <a:pt x="6325" y="6449"/>
                </a:cubicBezTo>
                <a:cubicBezTo>
                  <a:pt x="6449" y="6443"/>
                  <a:pt x="6576" y="6429"/>
                  <a:pt x="6697" y="6424"/>
                </a:cubicBezTo>
                <a:cubicBezTo>
                  <a:pt x="6905" y="6415"/>
                  <a:pt x="7111" y="6410"/>
                  <a:pt x="7317" y="6400"/>
                </a:cubicBezTo>
                <a:cubicBezTo>
                  <a:pt x="7525" y="6390"/>
                  <a:pt x="7732" y="6389"/>
                  <a:pt x="7938" y="6375"/>
                </a:cubicBezTo>
                <a:cubicBezTo>
                  <a:pt x="8248" y="6354"/>
                  <a:pt x="8570" y="6361"/>
                  <a:pt x="8880" y="6350"/>
                </a:cubicBezTo>
                <a:cubicBezTo>
                  <a:pt x="9169" y="6339"/>
                  <a:pt x="9460" y="6330"/>
                  <a:pt x="9748" y="6325"/>
                </a:cubicBezTo>
                <a:cubicBezTo>
                  <a:pt x="10072" y="6319"/>
                  <a:pt x="10394" y="6318"/>
                  <a:pt x="10716" y="6300"/>
                </a:cubicBezTo>
                <a:cubicBezTo>
                  <a:pt x="11028" y="6282"/>
                  <a:pt x="11350" y="6294"/>
                  <a:pt x="11658" y="6276"/>
                </a:cubicBezTo>
                <a:cubicBezTo>
                  <a:pt x="11716" y="6273"/>
                  <a:pt x="11762" y="6259"/>
                  <a:pt x="11807" y="6251"/>
                </a:cubicBezTo>
                <a:cubicBezTo>
                  <a:pt x="11815" y="6251"/>
                  <a:pt x="11824" y="6251"/>
                  <a:pt x="11832" y="6251"/>
                </a:cubicBezTo>
                <a:cubicBezTo>
                  <a:pt x="11819" y="6209"/>
                  <a:pt x="11784" y="6177"/>
                  <a:pt x="11782" y="6127"/>
                </a:cubicBezTo>
                <a:cubicBezTo>
                  <a:pt x="11781" y="6080"/>
                  <a:pt x="11798" y="6047"/>
                  <a:pt x="11807" y="6003"/>
                </a:cubicBezTo>
                <a:cubicBezTo>
                  <a:pt x="11816" y="5958"/>
                  <a:pt x="11851" y="5903"/>
                  <a:pt x="11857" y="5854"/>
                </a:cubicBezTo>
                <a:cubicBezTo>
                  <a:pt x="11862" y="5813"/>
                  <a:pt x="11855" y="5771"/>
                  <a:pt x="11857" y="5730"/>
                </a:cubicBezTo>
              </a:path>
              <a:path w="9303" h="770">
                <a:moveTo>
                  <a:pt x="12750" y="5953"/>
                </a:moveTo>
                <a:cubicBezTo>
                  <a:pt x="12736" y="6010"/>
                  <a:pt x="12739" y="6073"/>
                  <a:pt x="12725" y="6127"/>
                </a:cubicBezTo>
                <a:cubicBezTo>
                  <a:pt x="12712" y="6176"/>
                  <a:pt x="12685" y="6233"/>
                  <a:pt x="12675" y="6276"/>
                </a:cubicBezTo>
                <a:cubicBezTo>
                  <a:pt x="12675" y="6284"/>
                  <a:pt x="12675" y="6292"/>
                  <a:pt x="12675" y="6300"/>
                </a:cubicBezTo>
                <a:cubicBezTo>
                  <a:pt x="12736" y="6315"/>
                  <a:pt x="12724" y="6304"/>
                  <a:pt x="12774" y="6300"/>
                </a:cubicBezTo>
                <a:cubicBezTo>
                  <a:pt x="12875" y="6291"/>
                  <a:pt x="12976" y="6288"/>
                  <a:pt x="13072" y="6276"/>
                </a:cubicBezTo>
                <a:cubicBezTo>
                  <a:pt x="13353" y="6242"/>
                  <a:pt x="13663" y="6278"/>
                  <a:pt x="13940" y="6300"/>
                </a:cubicBezTo>
                <a:cubicBezTo>
                  <a:pt x="14104" y="6313"/>
                  <a:pt x="14276" y="6313"/>
                  <a:pt x="14436" y="6325"/>
                </a:cubicBezTo>
                <a:cubicBezTo>
                  <a:pt x="14528" y="6332"/>
                  <a:pt x="14704" y="6349"/>
                  <a:pt x="14784" y="6300"/>
                </a:cubicBezTo>
                <a:cubicBezTo>
                  <a:pt x="14817" y="6280"/>
                  <a:pt x="14805" y="6276"/>
                  <a:pt x="14808" y="6226"/>
                </a:cubicBezTo>
                <a:cubicBezTo>
                  <a:pt x="14810" y="6187"/>
                  <a:pt x="14816" y="6158"/>
                  <a:pt x="14833" y="6127"/>
                </a:cubicBezTo>
                <a:cubicBezTo>
                  <a:pt x="14862" y="6075"/>
                  <a:pt x="14904" y="6032"/>
                  <a:pt x="14932" y="5978"/>
                </a:cubicBezTo>
                <a:cubicBezTo>
                  <a:pt x="14947" y="5949"/>
                  <a:pt x="14984" y="5884"/>
                  <a:pt x="14982" y="5854"/>
                </a:cubicBezTo>
                <a:cubicBezTo>
                  <a:pt x="14982" y="5829"/>
                  <a:pt x="14982" y="5821"/>
                  <a:pt x="14957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93960" y="2625840"/>
            <a:ext cx="2044800" cy="490320"/>
          </a:xfrm>
          <a:custGeom>
            <a:avLst/>
            <a:gdLst/>
            <a:ahLst/>
            <a:rect l="l" t="t" r="r" b="b"/>
            <a:pathLst>
              <a:path w="5681" h="1365">
                <a:moveTo>
                  <a:pt x="5779" y="7888"/>
                </a:moveTo>
                <a:cubicBezTo>
                  <a:pt x="5801" y="7881"/>
                  <a:pt x="5824" y="7849"/>
                  <a:pt x="5804" y="7813"/>
                </a:cubicBezTo>
                <a:cubicBezTo>
                  <a:pt x="5783" y="7777"/>
                  <a:pt x="5756" y="7679"/>
                  <a:pt x="5705" y="7665"/>
                </a:cubicBezTo>
                <a:cubicBezTo>
                  <a:pt x="5670" y="7655"/>
                  <a:pt x="5582" y="7661"/>
                  <a:pt x="5556" y="7689"/>
                </a:cubicBezTo>
                <a:cubicBezTo>
                  <a:pt x="5508" y="7741"/>
                  <a:pt x="5448" y="7800"/>
                  <a:pt x="5407" y="7863"/>
                </a:cubicBezTo>
                <a:cubicBezTo>
                  <a:pt x="5357" y="7940"/>
                  <a:pt x="5314" y="7996"/>
                  <a:pt x="5283" y="8086"/>
                </a:cubicBezTo>
                <a:cubicBezTo>
                  <a:pt x="5259" y="8156"/>
                  <a:pt x="5240" y="8259"/>
                  <a:pt x="5259" y="8334"/>
                </a:cubicBezTo>
                <a:cubicBezTo>
                  <a:pt x="5283" y="8430"/>
                  <a:pt x="5336" y="8434"/>
                  <a:pt x="5407" y="8483"/>
                </a:cubicBezTo>
                <a:cubicBezTo>
                  <a:pt x="5464" y="8523"/>
                  <a:pt x="5534" y="8508"/>
                  <a:pt x="5606" y="8508"/>
                </a:cubicBezTo>
                <a:cubicBezTo>
                  <a:pt x="5706" y="8508"/>
                  <a:pt x="5776" y="8440"/>
                  <a:pt x="5854" y="8384"/>
                </a:cubicBezTo>
              </a:path>
              <a:path w="5681" h="1365">
                <a:moveTo>
                  <a:pt x="6102" y="7888"/>
                </a:moveTo>
                <a:cubicBezTo>
                  <a:pt x="6095" y="7989"/>
                  <a:pt x="6066" y="8062"/>
                  <a:pt x="6052" y="8161"/>
                </a:cubicBezTo>
                <a:cubicBezTo>
                  <a:pt x="6044" y="8217"/>
                  <a:pt x="6055" y="8311"/>
                  <a:pt x="6077" y="8359"/>
                </a:cubicBezTo>
                <a:cubicBezTo>
                  <a:pt x="6092" y="8391"/>
                  <a:pt x="6144" y="8432"/>
                  <a:pt x="6176" y="8434"/>
                </a:cubicBezTo>
                <a:cubicBezTo>
                  <a:pt x="6270" y="8439"/>
                  <a:pt x="6284" y="8411"/>
                  <a:pt x="6325" y="8334"/>
                </a:cubicBezTo>
                <a:cubicBezTo>
                  <a:pt x="6368" y="8254"/>
                  <a:pt x="6396" y="8201"/>
                  <a:pt x="6400" y="8111"/>
                </a:cubicBezTo>
                <a:cubicBezTo>
                  <a:pt x="6403" y="8054"/>
                  <a:pt x="6380" y="7962"/>
                  <a:pt x="6350" y="7913"/>
                </a:cubicBezTo>
                <a:cubicBezTo>
                  <a:pt x="6324" y="7870"/>
                  <a:pt x="6248" y="7794"/>
                  <a:pt x="6201" y="7789"/>
                </a:cubicBezTo>
                <a:cubicBezTo>
                  <a:pt x="6159" y="7784"/>
                  <a:pt x="6138" y="7780"/>
                  <a:pt x="6127" y="7813"/>
                </a:cubicBezTo>
              </a:path>
              <a:path w="5681" h="1365">
                <a:moveTo>
                  <a:pt x="6970" y="7739"/>
                </a:moveTo>
                <a:cubicBezTo>
                  <a:pt x="6891" y="7769"/>
                  <a:pt x="6803" y="7813"/>
                  <a:pt x="6722" y="7838"/>
                </a:cubicBezTo>
                <a:cubicBezTo>
                  <a:pt x="6673" y="7853"/>
                  <a:pt x="6672" y="7861"/>
                  <a:pt x="6672" y="7913"/>
                </a:cubicBezTo>
                <a:cubicBezTo>
                  <a:pt x="6672" y="7948"/>
                  <a:pt x="6733" y="7989"/>
                  <a:pt x="6772" y="8012"/>
                </a:cubicBezTo>
                <a:cubicBezTo>
                  <a:pt x="6834" y="8048"/>
                  <a:pt x="6902" y="8101"/>
                  <a:pt x="6945" y="8161"/>
                </a:cubicBezTo>
                <a:cubicBezTo>
                  <a:pt x="7008" y="8251"/>
                  <a:pt x="7005" y="8295"/>
                  <a:pt x="6945" y="8384"/>
                </a:cubicBezTo>
                <a:cubicBezTo>
                  <a:pt x="6908" y="8438"/>
                  <a:pt x="6853" y="8434"/>
                  <a:pt x="6796" y="8434"/>
                </a:cubicBezTo>
                <a:cubicBezTo>
                  <a:pt x="6741" y="8434"/>
                  <a:pt x="6715" y="8409"/>
                  <a:pt x="6697" y="8384"/>
                </a:cubicBezTo>
                <a:cubicBezTo>
                  <a:pt x="6674" y="8361"/>
                  <a:pt x="6666" y="8357"/>
                  <a:pt x="6672" y="8334"/>
                </a:cubicBezTo>
              </a:path>
              <a:path w="5681" h="1365">
                <a:moveTo>
                  <a:pt x="7193" y="7888"/>
                </a:moveTo>
                <a:cubicBezTo>
                  <a:pt x="7215" y="7979"/>
                  <a:pt x="7235" y="8107"/>
                  <a:pt x="7293" y="8186"/>
                </a:cubicBezTo>
                <a:cubicBezTo>
                  <a:pt x="7351" y="8264"/>
                  <a:pt x="7409" y="8308"/>
                  <a:pt x="7466" y="8384"/>
                </a:cubicBezTo>
                <a:cubicBezTo>
                  <a:pt x="7499" y="8427"/>
                  <a:pt x="7506" y="8476"/>
                  <a:pt x="7565" y="8483"/>
                </a:cubicBezTo>
                <a:cubicBezTo>
                  <a:pt x="7595" y="8486"/>
                  <a:pt x="7613" y="8440"/>
                  <a:pt x="7615" y="8409"/>
                </a:cubicBezTo>
                <a:cubicBezTo>
                  <a:pt x="7615" y="8359"/>
                  <a:pt x="7615" y="8343"/>
                  <a:pt x="7615" y="8310"/>
                </a:cubicBezTo>
              </a:path>
              <a:path w="5681" h="1365">
                <a:moveTo>
                  <a:pt x="7640" y="7888"/>
                </a:moveTo>
                <a:cubicBezTo>
                  <a:pt x="7585" y="7963"/>
                  <a:pt x="7526" y="8040"/>
                  <a:pt x="7466" y="8111"/>
                </a:cubicBezTo>
                <a:cubicBezTo>
                  <a:pt x="7415" y="8171"/>
                  <a:pt x="7354" y="8264"/>
                  <a:pt x="7293" y="8310"/>
                </a:cubicBezTo>
                <a:cubicBezTo>
                  <a:pt x="7239" y="8351"/>
                  <a:pt x="7197" y="8388"/>
                  <a:pt x="7144" y="8434"/>
                </a:cubicBezTo>
                <a:cubicBezTo>
                  <a:pt x="7109" y="8465"/>
                  <a:pt x="7107" y="8471"/>
                  <a:pt x="7094" y="8434"/>
                </a:cubicBezTo>
              </a:path>
              <a:path w="5681" h="1365">
                <a:moveTo>
                  <a:pt x="8260" y="7293"/>
                </a:moveTo>
                <a:cubicBezTo>
                  <a:pt x="8201" y="7385"/>
                  <a:pt x="8130" y="7466"/>
                  <a:pt x="8086" y="7565"/>
                </a:cubicBezTo>
                <a:cubicBezTo>
                  <a:pt x="8038" y="7672"/>
                  <a:pt x="7993" y="7772"/>
                  <a:pt x="7962" y="7888"/>
                </a:cubicBezTo>
                <a:cubicBezTo>
                  <a:pt x="7932" y="8001"/>
                  <a:pt x="7892" y="8116"/>
                  <a:pt x="7913" y="8235"/>
                </a:cubicBezTo>
                <a:cubicBezTo>
                  <a:pt x="7927" y="8314"/>
                  <a:pt x="7935" y="8416"/>
                  <a:pt x="7987" y="8483"/>
                </a:cubicBezTo>
                <a:cubicBezTo>
                  <a:pt x="8021" y="8526"/>
                  <a:pt x="8063" y="8601"/>
                  <a:pt x="8111" y="8632"/>
                </a:cubicBezTo>
                <a:cubicBezTo>
                  <a:pt x="8177" y="8674"/>
                  <a:pt x="8139" y="8643"/>
                  <a:pt x="8136" y="8632"/>
                </a:cubicBezTo>
                <a:cubicBezTo>
                  <a:pt x="8136" y="8624"/>
                  <a:pt x="8136" y="8615"/>
                  <a:pt x="8136" y="8607"/>
                </a:cubicBezTo>
              </a:path>
              <a:path w="5681" h="1365">
                <a:moveTo>
                  <a:pt x="8582" y="7466"/>
                </a:moveTo>
                <a:cubicBezTo>
                  <a:pt x="8600" y="7444"/>
                  <a:pt x="8618" y="7395"/>
                  <a:pt x="8657" y="7367"/>
                </a:cubicBezTo>
                <a:cubicBezTo>
                  <a:pt x="8683" y="7349"/>
                  <a:pt x="8748" y="7302"/>
                  <a:pt x="8781" y="7293"/>
                </a:cubicBezTo>
                <a:cubicBezTo>
                  <a:pt x="8855" y="7274"/>
                  <a:pt x="8919" y="7341"/>
                  <a:pt x="8954" y="7392"/>
                </a:cubicBezTo>
                <a:cubicBezTo>
                  <a:pt x="8999" y="7457"/>
                  <a:pt x="9019" y="7536"/>
                  <a:pt x="9004" y="7615"/>
                </a:cubicBezTo>
                <a:cubicBezTo>
                  <a:pt x="8976" y="7760"/>
                  <a:pt x="8912" y="7922"/>
                  <a:pt x="8830" y="8037"/>
                </a:cubicBezTo>
                <a:cubicBezTo>
                  <a:pt x="8759" y="8138"/>
                  <a:pt x="8714" y="8218"/>
                  <a:pt x="8607" y="8285"/>
                </a:cubicBezTo>
                <a:cubicBezTo>
                  <a:pt x="8547" y="8322"/>
                  <a:pt x="8502" y="8366"/>
                  <a:pt x="8434" y="8384"/>
                </a:cubicBezTo>
                <a:cubicBezTo>
                  <a:pt x="8371" y="8401"/>
                  <a:pt x="8352" y="8381"/>
                  <a:pt x="8334" y="8334"/>
                </a:cubicBezTo>
                <a:cubicBezTo>
                  <a:pt x="8313" y="8279"/>
                  <a:pt x="8350" y="8222"/>
                  <a:pt x="8384" y="8186"/>
                </a:cubicBezTo>
                <a:cubicBezTo>
                  <a:pt x="8415" y="8153"/>
                  <a:pt x="8487" y="8071"/>
                  <a:pt x="8533" y="8062"/>
                </a:cubicBezTo>
                <a:cubicBezTo>
                  <a:pt x="8591" y="8051"/>
                  <a:pt x="8669" y="8063"/>
                  <a:pt x="8706" y="8111"/>
                </a:cubicBezTo>
                <a:cubicBezTo>
                  <a:pt x="8741" y="8155"/>
                  <a:pt x="8755" y="8217"/>
                  <a:pt x="8781" y="8260"/>
                </a:cubicBezTo>
                <a:cubicBezTo>
                  <a:pt x="8808" y="8305"/>
                  <a:pt x="8808" y="8320"/>
                  <a:pt x="8830" y="8260"/>
                </a:cubicBezTo>
                <a:cubicBezTo>
                  <a:pt x="8830" y="8252"/>
                  <a:pt x="8830" y="8243"/>
                  <a:pt x="8830" y="8235"/>
                </a:cubicBezTo>
              </a:path>
              <a:path w="5681" h="1365">
                <a:moveTo>
                  <a:pt x="9426" y="7789"/>
                </a:moveTo>
                <a:cubicBezTo>
                  <a:pt x="9377" y="7789"/>
                  <a:pt x="9367" y="7800"/>
                  <a:pt x="9327" y="7813"/>
                </a:cubicBezTo>
                <a:cubicBezTo>
                  <a:pt x="9285" y="7827"/>
                  <a:pt x="9236" y="7858"/>
                  <a:pt x="9203" y="7888"/>
                </a:cubicBezTo>
                <a:cubicBezTo>
                  <a:pt x="9158" y="7928"/>
                  <a:pt x="9177" y="7942"/>
                  <a:pt x="9203" y="7962"/>
                </a:cubicBezTo>
                <a:cubicBezTo>
                  <a:pt x="9246" y="7995"/>
                  <a:pt x="9288" y="8023"/>
                  <a:pt x="9327" y="8062"/>
                </a:cubicBezTo>
                <a:cubicBezTo>
                  <a:pt x="9337" y="8072"/>
                  <a:pt x="9496" y="8197"/>
                  <a:pt x="9451" y="8260"/>
                </a:cubicBezTo>
                <a:cubicBezTo>
                  <a:pt x="9416" y="8310"/>
                  <a:pt x="9362" y="8353"/>
                  <a:pt x="9302" y="8359"/>
                </a:cubicBezTo>
                <a:cubicBezTo>
                  <a:pt x="9257" y="8363"/>
                  <a:pt x="9211" y="8355"/>
                  <a:pt x="9178" y="8334"/>
                </a:cubicBezTo>
                <a:cubicBezTo>
                  <a:pt x="9131" y="8304"/>
                  <a:pt x="9154" y="8267"/>
                  <a:pt x="9178" y="8235"/>
                </a:cubicBezTo>
              </a:path>
              <a:path w="5681" h="1365">
                <a:moveTo>
                  <a:pt x="9674" y="7962"/>
                </a:moveTo>
                <a:cubicBezTo>
                  <a:pt x="9656" y="8044"/>
                  <a:pt x="9637" y="8131"/>
                  <a:pt x="9624" y="8210"/>
                </a:cubicBezTo>
                <a:cubicBezTo>
                  <a:pt x="9619" y="8240"/>
                  <a:pt x="9624" y="8279"/>
                  <a:pt x="9624" y="8310"/>
                </a:cubicBezTo>
                <a:cubicBezTo>
                  <a:pt x="9624" y="8260"/>
                  <a:pt x="9624" y="8211"/>
                  <a:pt x="9624" y="8161"/>
                </a:cubicBezTo>
              </a:path>
              <a:path w="5681" h="1365">
                <a:moveTo>
                  <a:pt x="9674" y="7689"/>
                </a:moveTo>
                <a:cubicBezTo>
                  <a:pt x="9696" y="7646"/>
                  <a:pt x="9700" y="7635"/>
                  <a:pt x="9723" y="7615"/>
                </a:cubicBezTo>
              </a:path>
              <a:path w="5681" h="1365">
                <a:moveTo>
                  <a:pt x="9798" y="8111"/>
                </a:moveTo>
                <a:cubicBezTo>
                  <a:pt x="9783" y="8190"/>
                  <a:pt x="9773" y="8219"/>
                  <a:pt x="9773" y="8285"/>
                </a:cubicBezTo>
                <a:cubicBezTo>
                  <a:pt x="9773" y="8225"/>
                  <a:pt x="9772" y="8192"/>
                  <a:pt x="9798" y="8136"/>
                </a:cubicBezTo>
                <a:cubicBezTo>
                  <a:pt x="9826" y="8076"/>
                  <a:pt x="9878" y="8010"/>
                  <a:pt x="9922" y="7962"/>
                </a:cubicBezTo>
                <a:cubicBezTo>
                  <a:pt x="9974" y="7905"/>
                  <a:pt x="10020" y="7906"/>
                  <a:pt x="10071" y="7913"/>
                </a:cubicBezTo>
                <a:cubicBezTo>
                  <a:pt x="10141" y="7923"/>
                  <a:pt x="10172" y="7988"/>
                  <a:pt x="10195" y="8062"/>
                </a:cubicBezTo>
                <a:cubicBezTo>
                  <a:pt x="10211" y="8114"/>
                  <a:pt x="10202" y="8186"/>
                  <a:pt x="10220" y="8235"/>
                </a:cubicBezTo>
                <a:cubicBezTo>
                  <a:pt x="10224" y="8245"/>
                  <a:pt x="10254" y="8330"/>
                  <a:pt x="10269" y="8310"/>
                </a:cubicBezTo>
                <a:cubicBezTo>
                  <a:pt x="10269" y="8302"/>
                  <a:pt x="10269" y="8293"/>
                  <a:pt x="10269" y="8285"/>
                </a:cubicBezTo>
              </a:path>
              <a:path w="5681" h="1365">
                <a:moveTo>
                  <a:pt x="10468" y="7913"/>
                </a:moveTo>
                <a:cubicBezTo>
                  <a:pt x="10506" y="8006"/>
                  <a:pt x="10523" y="8123"/>
                  <a:pt x="10567" y="8210"/>
                </a:cubicBezTo>
                <a:cubicBezTo>
                  <a:pt x="10580" y="8235"/>
                  <a:pt x="10723" y="8367"/>
                  <a:pt x="10765" y="8384"/>
                </a:cubicBezTo>
                <a:cubicBezTo>
                  <a:pt x="10791" y="8395"/>
                  <a:pt x="10883" y="8425"/>
                  <a:pt x="10914" y="8409"/>
                </a:cubicBezTo>
                <a:cubicBezTo>
                  <a:pt x="10937" y="8386"/>
                  <a:pt x="10945" y="8382"/>
                  <a:pt x="10939" y="8359"/>
                </a:cubicBezTo>
              </a:path>
              <a:path w="5681" h="1365">
                <a:moveTo>
                  <a:pt x="10889" y="7938"/>
                </a:moveTo>
                <a:cubicBezTo>
                  <a:pt x="10802" y="8006"/>
                  <a:pt x="10686" y="8076"/>
                  <a:pt x="10616" y="8161"/>
                </a:cubicBezTo>
                <a:cubicBezTo>
                  <a:pt x="10553" y="8237"/>
                  <a:pt x="10501" y="8280"/>
                  <a:pt x="10418" y="8334"/>
                </a:cubicBezTo>
                <a:cubicBezTo>
                  <a:pt x="10375" y="8362"/>
                  <a:pt x="10329" y="8441"/>
                  <a:pt x="10294" y="8458"/>
                </a:cubicBezTo>
                <a:cubicBezTo>
                  <a:pt x="10252" y="8478"/>
                  <a:pt x="10259" y="8479"/>
                  <a:pt x="10294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79960" y="2732040"/>
            <a:ext cx="1602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1881" y="7590"/>
                </a:moveTo>
                <a:cubicBezTo>
                  <a:pt x="11845" y="7715"/>
                  <a:pt x="11878" y="7832"/>
                  <a:pt x="11857" y="7962"/>
                </a:cubicBezTo>
                <a:cubicBezTo>
                  <a:pt x="11846" y="8031"/>
                  <a:pt x="11832" y="8086"/>
                  <a:pt x="11832" y="8161"/>
                </a:cubicBezTo>
                <a:cubicBezTo>
                  <a:pt x="11832" y="8220"/>
                  <a:pt x="11842" y="8214"/>
                  <a:pt x="11832" y="8210"/>
                </a:cubicBezTo>
                <a:cubicBezTo>
                  <a:pt x="11824" y="8210"/>
                  <a:pt x="11815" y="8210"/>
                  <a:pt x="11807" y="8210"/>
                </a:cubicBezTo>
              </a:path>
              <a:path w="447" h="646">
                <a:moveTo>
                  <a:pt x="11609" y="7913"/>
                </a:moveTo>
                <a:cubicBezTo>
                  <a:pt x="11655" y="7941"/>
                  <a:pt x="11722" y="7951"/>
                  <a:pt x="11782" y="7938"/>
                </a:cubicBezTo>
                <a:cubicBezTo>
                  <a:pt x="11877" y="7917"/>
                  <a:pt x="11957" y="7913"/>
                  <a:pt x="12055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6280" y="2697120"/>
            <a:ext cx="36720" cy="330120"/>
          </a:xfrm>
          <a:custGeom>
            <a:avLst/>
            <a:gdLst/>
            <a:ahLst/>
            <a:rect l="l" t="t" r="r" b="b"/>
            <a:pathLst>
              <a:path w="100" h="919">
                <a:moveTo>
                  <a:pt x="12923" y="7491"/>
                </a:moveTo>
                <a:cubicBezTo>
                  <a:pt x="12900" y="7614"/>
                  <a:pt x="12876" y="7743"/>
                  <a:pt x="12849" y="7863"/>
                </a:cubicBezTo>
                <a:cubicBezTo>
                  <a:pt x="12828" y="7958"/>
                  <a:pt x="12824" y="8038"/>
                  <a:pt x="12824" y="8136"/>
                </a:cubicBezTo>
                <a:cubicBezTo>
                  <a:pt x="12824" y="8196"/>
                  <a:pt x="12850" y="8309"/>
                  <a:pt x="12874" y="8359"/>
                </a:cubicBezTo>
                <a:cubicBezTo>
                  <a:pt x="12885" y="8382"/>
                  <a:pt x="12898" y="8431"/>
                  <a:pt x="12898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7120" y="3616200"/>
            <a:ext cx="1455840" cy="322560"/>
          </a:xfrm>
          <a:custGeom>
            <a:avLst/>
            <a:gdLst/>
            <a:ahLst/>
            <a:rect l="l" t="t" r="r" b="b"/>
            <a:pathLst>
              <a:path w="4044" h="894">
                <a:moveTo>
                  <a:pt x="4762" y="10195"/>
                </a:moveTo>
                <a:cubicBezTo>
                  <a:pt x="4762" y="10223"/>
                  <a:pt x="4764" y="10234"/>
                  <a:pt x="4787" y="10244"/>
                </a:cubicBezTo>
                <a:cubicBezTo>
                  <a:pt x="4767" y="10218"/>
                  <a:pt x="4727" y="10176"/>
                  <a:pt x="4713" y="10145"/>
                </a:cubicBezTo>
                <a:cubicBezTo>
                  <a:pt x="4698" y="10110"/>
                  <a:pt x="4680" y="10085"/>
                  <a:pt x="4638" y="10071"/>
                </a:cubicBezTo>
                <a:cubicBezTo>
                  <a:pt x="4614" y="10063"/>
                  <a:pt x="4570" y="10029"/>
                  <a:pt x="4539" y="10046"/>
                </a:cubicBezTo>
                <a:cubicBezTo>
                  <a:pt x="4502" y="10067"/>
                  <a:pt x="4449" y="10119"/>
                  <a:pt x="4415" y="10145"/>
                </a:cubicBezTo>
                <a:cubicBezTo>
                  <a:pt x="4366" y="10181"/>
                  <a:pt x="4343" y="10266"/>
                  <a:pt x="4316" y="10319"/>
                </a:cubicBezTo>
                <a:cubicBezTo>
                  <a:pt x="4285" y="10380"/>
                  <a:pt x="4237" y="10497"/>
                  <a:pt x="4242" y="10567"/>
                </a:cubicBezTo>
                <a:cubicBezTo>
                  <a:pt x="4249" y="10664"/>
                  <a:pt x="4285" y="10755"/>
                  <a:pt x="4366" y="10815"/>
                </a:cubicBezTo>
                <a:cubicBezTo>
                  <a:pt x="4405" y="10844"/>
                  <a:pt x="4462" y="10840"/>
                  <a:pt x="4514" y="10840"/>
                </a:cubicBezTo>
                <a:cubicBezTo>
                  <a:pt x="4578" y="10840"/>
                  <a:pt x="4604" y="10837"/>
                  <a:pt x="4663" y="10815"/>
                </a:cubicBezTo>
              </a:path>
              <a:path w="4044" h="894">
                <a:moveTo>
                  <a:pt x="5085" y="10220"/>
                </a:moveTo>
                <a:cubicBezTo>
                  <a:pt x="5062" y="10272"/>
                  <a:pt x="5044" y="10338"/>
                  <a:pt x="5035" y="10393"/>
                </a:cubicBezTo>
                <a:cubicBezTo>
                  <a:pt x="5022" y="10468"/>
                  <a:pt x="5011" y="10539"/>
                  <a:pt x="5011" y="10616"/>
                </a:cubicBezTo>
                <a:cubicBezTo>
                  <a:pt x="5011" y="10673"/>
                  <a:pt x="5026" y="10748"/>
                  <a:pt x="5060" y="10790"/>
                </a:cubicBezTo>
                <a:cubicBezTo>
                  <a:pt x="5083" y="10819"/>
                  <a:pt x="5172" y="10830"/>
                  <a:pt x="5209" y="10815"/>
                </a:cubicBezTo>
                <a:cubicBezTo>
                  <a:pt x="5269" y="10790"/>
                  <a:pt x="5325" y="10721"/>
                  <a:pt x="5358" y="10666"/>
                </a:cubicBezTo>
                <a:cubicBezTo>
                  <a:pt x="5402" y="10592"/>
                  <a:pt x="5407" y="10525"/>
                  <a:pt x="5407" y="10443"/>
                </a:cubicBezTo>
                <a:cubicBezTo>
                  <a:pt x="5407" y="10368"/>
                  <a:pt x="5410" y="10327"/>
                  <a:pt x="5358" y="10269"/>
                </a:cubicBezTo>
                <a:cubicBezTo>
                  <a:pt x="5326" y="10234"/>
                  <a:pt x="5291" y="10216"/>
                  <a:pt x="5259" y="10195"/>
                </a:cubicBezTo>
                <a:cubicBezTo>
                  <a:pt x="5222" y="10170"/>
                  <a:pt x="5199" y="10149"/>
                  <a:pt x="5184" y="10195"/>
                </a:cubicBezTo>
              </a:path>
              <a:path w="4044" h="894">
                <a:moveTo>
                  <a:pt x="5978" y="10170"/>
                </a:moveTo>
                <a:cubicBezTo>
                  <a:pt x="5922" y="10170"/>
                  <a:pt x="5851" y="10172"/>
                  <a:pt x="5804" y="10195"/>
                </a:cubicBezTo>
                <a:cubicBezTo>
                  <a:pt x="5776" y="10209"/>
                  <a:pt x="5729" y="10228"/>
                  <a:pt x="5705" y="10244"/>
                </a:cubicBezTo>
                <a:cubicBezTo>
                  <a:pt x="5654" y="10278"/>
                  <a:pt x="5684" y="10303"/>
                  <a:pt x="5705" y="10319"/>
                </a:cubicBezTo>
                <a:cubicBezTo>
                  <a:pt x="5747" y="10351"/>
                  <a:pt x="5784" y="10391"/>
                  <a:pt x="5829" y="10418"/>
                </a:cubicBezTo>
                <a:cubicBezTo>
                  <a:pt x="5905" y="10464"/>
                  <a:pt x="5959" y="10514"/>
                  <a:pt x="6003" y="10592"/>
                </a:cubicBezTo>
                <a:cubicBezTo>
                  <a:pt x="6041" y="10660"/>
                  <a:pt x="6064" y="10671"/>
                  <a:pt x="6028" y="10740"/>
                </a:cubicBezTo>
                <a:cubicBezTo>
                  <a:pt x="5995" y="10803"/>
                  <a:pt x="5953" y="10811"/>
                  <a:pt x="5879" y="10815"/>
                </a:cubicBezTo>
                <a:cubicBezTo>
                  <a:pt x="5810" y="10819"/>
                  <a:pt x="5769" y="10805"/>
                  <a:pt x="5705" y="10790"/>
                </a:cubicBezTo>
                <a:cubicBezTo>
                  <a:pt x="5668" y="10781"/>
                  <a:pt x="5680" y="10780"/>
                  <a:pt x="5680" y="10740"/>
                </a:cubicBezTo>
              </a:path>
              <a:path w="4044" h="894">
                <a:moveTo>
                  <a:pt x="6226" y="10344"/>
                </a:moveTo>
                <a:cubicBezTo>
                  <a:pt x="6272" y="10435"/>
                  <a:pt x="6320" y="10510"/>
                  <a:pt x="6375" y="10592"/>
                </a:cubicBezTo>
                <a:cubicBezTo>
                  <a:pt x="6426" y="10667"/>
                  <a:pt x="6464" y="10733"/>
                  <a:pt x="6524" y="10790"/>
                </a:cubicBezTo>
                <a:cubicBezTo>
                  <a:pt x="6554" y="10818"/>
                  <a:pt x="6608" y="10896"/>
                  <a:pt x="6648" y="10914"/>
                </a:cubicBezTo>
                <a:cubicBezTo>
                  <a:pt x="6684" y="10930"/>
                  <a:pt x="6690" y="10911"/>
                  <a:pt x="6697" y="10889"/>
                </a:cubicBezTo>
              </a:path>
              <a:path w="4044" h="894">
                <a:moveTo>
                  <a:pt x="6697" y="10269"/>
                </a:moveTo>
                <a:cubicBezTo>
                  <a:pt x="6653" y="10339"/>
                  <a:pt x="6584" y="10422"/>
                  <a:pt x="6548" y="10492"/>
                </a:cubicBezTo>
                <a:cubicBezTo>
                  <a:pt x="6499" y="10588"/>
                  <a:pt x="6445" y="10681"/>
                  <a:pt x="6375" y="10765"/>
                </a:cubicBezTo>
                <a:cubicBezTo>
                  <a:pt x="6333" y="10815"/>
                  <a:pt x="6294" y="10867"/>
                  <a:pt x="6251" y="10914"/>
                </a:cubicBezTo>
                <a:cubicBezTo>
                  <a:pt x="6215" y="10954"/>
                  <a:pt x="6217" y="10925"/>
                  <a:pt x="6251" y="10914"/>
                </a:cubicBezTo>
              </a:path>
              <a:path w="4044" h="894">
                <a:moveTo>
                  <a:pt x="6995" y="10468"/>
                </a:moveTo>
                <a:cubicBezTo>
                  <a:pt x="7111" y="10468"/>
                  <a:pt x="7218" y="10473"/>
                  <a:pt x="7317" y="10443"/>
                </a:cubicBezTo>
                <a:cubicBezTo>
                  <a:pt x="7325" y="10443"/>
                  <a:pt x="7334" y="10443"/>
                  <a:pt x="7342" y="10443"/>
                </a:cubicBezTo>
              </a:path>
              <a:path w="4044" h="894">
                <a:moveTo>
                  <a:pt x="6995" y="10641"/>
                </a:moveTo>
                <a:cubicBezTo>
                  <a:pt x="7109" y="10634"/>
                  <a:pt x="7184" y="10607"/>
                  <a:pt x="7293" y="10592"/>
                </a:cubicBezTo>
                <a:cubicBezTo>
                  <a:pt x="7368" y="10582"/>
                  <a:pt x="7422" y="10552"/>
                  <a:pt x="7491" y="10517"/>
                </a:cubicBezTo>
              </a:path>
              <a:path w="4044" h="894">
                <a:moveTo>
                  <a:pt x="7739" y="10393"/>
                </a:moveTo>
                <a:cubicBezTo>
                  <a:pt x="7690" y="10512"/>
                  <a:pt x="7665" y="10567"/>
                  <a:pt x="7665" y="10691"/>
                </a:cubicBezTo>
                <a:cubicBezTo>
                  <a:pt x="7665" y="10755"/>
                  <a:pt x="7661" y="10840"/>
                  <a:pt x="7714" y="10889"/>
                </a:cubicBezTo>
                <a:cubicBezTo>
                  <a:pt x="7776" y="10947"/>
                  <a:pt x="7861" y="10939"/>
                  <a:pt x="7938" y="10939"/>
                </a:cubicBezTo>
                <a:cubicBezTo>
                  <a:pt x="7999" y="10939"/>
                  <a:pt x="8138" y="10906"/>
                  <a:pt x="8186" y="10864"/>
                </a:cubicBezTo>
                <a:cubicBezTo>
                  <a:pt x="8239" y="10818"/>
                  <a:pt x="8282" y="10736"/>
                  <a:pt x="8285" y="10666"/>
                </a:cubicBezTo>
                <a:cubicBezTo>
                  <a:pt x="8289" y="10567"/>
                  <a:pt x="8273" y="10449"/>
                  <a:pt x="8210" y="10368"/>
                </a:cubicBezTo>
                <a:cubicBezTo>
                  <a:pt x="8166" y="10311"/>
                  <a:pt x="8103" y="10275"/>
                  <a:pt x="8037" y="10269"/>
                </a:cubicBezTo>
                <a:cubicBezTo>
                  <a:pt x="7986" y="10265"/>
                  <a:pt x="7982" y="10266"/>
                  <a:pt x="7962" y="10294"/>
                </a:cubicBezTo>
                <a:cubicBezTo>
                  <a:pt x="7954" y="10302"/>
                  <a:pt x="7946" y="10311"/>
                  <a:pt x="7938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3821040"/>
            <a:ext cx="268560" cy="162000"/>
          </a:xfrm>
          <a:custGeom>
            <a:avLst/>
            <a:gdLst/>
            <a:ahLst/>
            <a:rect l="l" t="t" r="r" b="b"/>
            <a:pathLst>
              <a:path w="745" h="448">
                <a:moveTo>
                  <a:pt x="10368" y="10740"/>
                </a:moveTo>
                <a:cubicBezTo>
                  <a:pt x="10297" y="10833"/>
                  <a:pt x="10238" y="10892"/>
                  <a:pt x="10220" y="11013"/>
                </a:cubicBezTo>
                <a:cubicBezTo>
                  <a:pt x="10220" y="11038"/>
                  <a:pt x="10220" y="11046"/>
                  <a:pt x="10220" y="11063"/>
                </a:cubicBezTo>
                <a:cubicBezTo>
                  <a:pt x="10270" y="11063"/>
                  <a:pt x="10302" y="11045"/>
                  <a:pt x="10344" y="11013"/>
                </a:cubicBezTo>
                <a:cubicBezTo>
                  <a:pt x="10402" y="10968"/>
                  <a:pt x="10420" y="10923"/>
                  <a:pt x="10443" y="10864"/>
                </a:cubicBezTo>
                <a:cubicBezTo>
                  <a:pt x="10474" y="10784"/>
                  <a:pt x="10470" y="10741"/>
                  <a:pt x="10418" y="10666"/>
                </a:cubicBezTo>
                <a:cubicBezTo>
                  <a:pt x="10381" y="10612"/>
                  <a:pt x="10326" y="10616"/>
                  <a:pt x="10269" y="10616"/>
                </a:cubicBezTo>
                <a:cubicBezTo>
                  <a:pt x="10254" y="10616"/>
                  <a:pt x="10155" y="10626"/>
                  <a:pt x="10195" y="10666"/>
                </a:cubicBezTo>
                <a:cubicBezTo>
                  <a:pt x="10203" y="10666"/>
                  <a:pt x="10212" y="10666"/>
                  <a:pt x="10220" y="10666"/>
                </a:cubicBezTo>
              </a:path>
              <a:path w="745" h="448">
                <a:moveTo>
                  <a:pt x="10765" y="10914"/>
                </a:moveTo>
                <a:cubicBezTo>
                  <a:pt x="10785" y="10991"/>
                  <a:pt x="10809" y="11009"/>
                  <a:pt x="10765" y="11038"/>
                </a:cubicBezTo>
                <a:cubicBezTo>
                  <a:pt x="10741" y="11005"/>
                  <a:pt x="10726" y="10957"/>
                  <a:pt x="10716" y="10914"/>
                </a:cubicBezTo>
                <a:cubicBezTo>
                  <a:pt x="10701" y="10853"/>
                  <a:pt x="10745" y="10779"/>
                  <a:pt x="10790" y="10740"/>
                </a:cubicBezTo>
                <a:cubicBezTo>
                  <a:pt x="10833" y="10702"/>
                  <a:pt x="10893" y="10678"/>
                  <a:pt x="10939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8080" y="3643200"/>
            <a:ext cx="1706760" cy="384120"/>
          </a:xfrm>
          <a:custGeom>
            <a:avLst/>
            <a:gdLst/>
            <a:ahLst/>
            <a:rect l="l" t="t" r="r" b="b"/>
            <a:pathLst>
              <a:path w="4739" h="1068">
                <a:moveTo>
                  <a:pt x="12105" y="10244"/>
                </a:moveTo>
                <a:cubicBezTo>
                  <a:pt x="12142" y="10179"/>
                  <a:pt x="12157" y="10187"/>
                  <a:pt x="12204" y="10145"/>
                </a:cubicBezTo>
                <a:cubicBezTo>
                  <a:pt x="12243" y="10110"/>
                  <a:pt x="12275" y="10120"/>
                  <a:pt x="12328" y="10120"/>
                </a:cubicBezTo>
                <a:cubicBezTo>
                  <a:pt x="12370" y="10120"/>
                  <a:pt x="12420" y="10166"/>
                  <a:pt x="12452" y="10195"/>
                </a:cubicBezTo>
                <a:cubicBezTo>
                  <a:pt x="12507" y="10245"/>
                  <a:pt x="12502" y="10270"/>
                  <a:pt x="12502" y="10344"/>
                </a:cubicBezTo>
                <a:cubicBezTo>
                  <a:pt x="12502" y="10432"/>
                  <a:pt x="12483" y="10485"/>
                  <a:pt x="12452" y="10567"/>
                </a:cubicBezTo>
                <a:cubicBezTo>
                  <a:pt x="12414" y="10668"/>
                  <a:pt x="12346" y="10758"/>
                  <a:pt x="12278" y="10840"/>
                </a:cubicBezTo>
                <a:cubicBezTo>
                  <a:pt x="12229" y="10899"/>
                  <a:pt x="12179" y="10957"/>
                  <a:pt x="12129" y="11013"/>
                </a:cubicBezTo>
                <a:cubicBezTo>
                  <a:pt x="12107" y="11037"/>
                  <a:pt x="12057" y="11071"/>
                  <a:pt x="12080" y="11112"/>
                </a:cubicBezTo>
                <a:cubicBezTo>
                  <a:pt x="12101" y="11150"/>
                  <a:pt x="12167" y="11159"/>
                  <a:pt x="12204" y="11162"/>
                </a:cubicBezTo>
                <a:cubicBezTo>
                  <a:pt x="12259" y="11167"/>
                  <a:pt x="12294" y="11187"/>
                  <a:pt x="12353" y="11187"/>
                </a:cubicBezTo>
                <a:cubicBezTo>
                  <a:pt x="12449" y="11187"/>
                  <a:pt x="12452" y="11184"/>
                  <a:pt x="12551" y="11137"/>
                </a:cubicBezTo>
                <a:cubicBezTo>
                  <a:pt x="12568" y="11129"/>
                  <a:pt x="12584" y="11120"/>
                  <a:pt x="12601" y="11112"/>
                </a:cubicBezTo>
              </a:path>
              <a:path w="4739" h="1068">
                <a:moveTo>
                  <a:pt x="13047" y="10691"/>
                </a:moveTo>
                <a:cubicBezTo>
                  <a:pt x="13047" y="10674"/>
                  <a:pt x="13047" y="10658"/>
                  <a:pt x="13047" y="10641"/>
                </a:cubicBezTo>
                <a:cubicBezTo>
                  <a:pt x="12985" y="10641"/>
                  <a:pt x="12956" y="10645"/>
                  <a:pt x="12898" y="10666"/>
                </a:cubicBezTo>
                <a:cubicBezTo>
                  <a:pt x="12844" y="10686"/>
                  <a:pt x="12781" y="10677"/>
                  <a:pt x="12774" y="10740"/>
                </a:cubicBezTo>
                <a:cubicBezTo>
                  <a:pt x="12768" y="10796"/>
                  <a:pt x="12840" y="10814"/>
                  <a:pt x="12874" y="10840"/>
                </a:cubicBezTo>
                <a:cubicBezTo>
                  <a:pt x="12922" y="10876"/>
                  <a:pt x="12999" y="10929"/>
                  <a:pt x="13022" y="10988"/>
                </a:cubicBezTo>
                <a:cubicBezTo>
                  <a:pt x="13042" y="11040"/>
                  <a:pt x="13058" y="11091"/>
                  <a:pt x="13022" y="11137"/>
                </a:cubicBezTo>
                <a:cubicBezTo>
                  <a:pt x="12981" y="11190"/>
                  <a:pt x="12934" y="11187"/>
                  <a:pt x="12874" y="11187"/>
                </a:cubicBezTo>
                <a:cubicBezTo>
                  <a:pt x="12832" y="11187"/>
                  <a:pt x="12769" y="11154"/>
                  <a:pt x="12750" y="11112"/>
                </a:cubicBezTo>
                <a:cubicBezTo>
                  <a:pt x="12739" y="11087"/>
                  <a:pt x="12750" y="11042"/>
                  <a:pt x="12750" y="11013"/>
                </a:cubicBezTo>
              </a:path>
              <a:path w="4739" h="1068">
                <a:moveTo>
                  <a:pt x="13246" y="10790"/>
                </a:moveTo>
                <a:cubicBezTo>
                  <a:pt x="13252" y="10904"/>
                  <a:pt x="13271" y="10959"/>
                  <a:pt x="13271" y="11063"/>
                </a:cubicBezTo>
                <a:cubicBezTo>
                  <a:pt x="13271" y="11107"/>
                  <a:pt x="13273" y="11102"/>
                  <a:pt x="13246" y="11137"/>
                </a:cubicBezTo>
                <a:cubicBezTo>
                  <a:pt x="13246" y="11104"/>
                  <a:pt x="13246" y="11071"/>
                  <a:pt x="13246" y="11038"/>
                </a:cubicBezTo>
              </a:path>
              <a:path w="4739" h="1068">
                <a:moveTo>
                  <a:pt x="13295" y="10468"/>
                </a:moveTo>
                <a:lnTo>
                  <a:pt x="13295" y="10468"/>
                </a:lnTo>
              </a:path>
              <a:path w="4739" h="1068">
                <a:moveTo>
                  <a:pt x="13444" y="10889"/>
                </a:moveTo>
                <a:cubicBezTo>
                  <a:pt x="13444" y="10963"/>
                  <a:pt x="13444" y="11038"/>
                  <a:pt x="13444" y="11112"/>
                </a:cubicBezTo>
                <a:cubicBezTo>
                  <a:pt x="13444" y="11153"/>
                  <a:pt x="13432" y="11078"/>
                  <a:pt x="13444" y="11038"/>
                </a:cubicBezTo>
                <a:cubicBezTo>
                  <a:pt x="13461" y="10980"/>
                  <a:pt x="13470" y="10892"/>
                  <a:pt x="13494" y="10840"/>
                </a:cubicBezTo>
                <a:cubicBezTo>
                  <a:pt x="13508" y="10810"/>
                  <a:pt x="13541" y="10735"/>
                  <a:pt x="13568" y="10716"/>
                </a:cubicBezTo>
                <a:cubicBezTo>
                  <a:pt x="13617" y="10682"/>
                  <a:pt x="13678" y="10690"/>
                  <a:pt x="13717" y="10740"/>
                </a:cubicBezTo>
                <a:cubicBezTo>
                  <a:pt x="13737" y="10765"/>
                  <a:pt x="13761" y="10901"/>
                  <a:pt x="13767" y="10939"/>
                </a:cubicBezTo>
                <a:cubicBezTo>
                  <a:pt x="13778" y="11002"/>
                  <a:pt x="13803" y="11082"/>
                  <a:pt x="13816" y="11112"/>
                </a:cubicBezTo>
                <a:cubicBezTo>
                  <a:pt x="13829" y="11143"/>
                  <a:pt x="13860" y="11134"/>
                  <a:pt x="13866" y="11112"/>
                </a:cubicBezTo>
                <a:cubicBezTo>
                  <a:pt x="13866" y="11096"/>
                  <a:pt x="13866" y="11079"/>
                  <a:pt x="13866" y="11063"/>
                </a:cubicBezTo>
              </a:path>
              <a:path w="4739" h="1068">
                <a:moveTo>
                  <a:pt x="14039" y="10641"/>
                </a:moveTo>
                <a:cubicBezTo>
                  <a:pt x="14090" y="10768"/>
                  <a:pt x="14121" y="10843"/>
                  <a:pt x="14213" y="10939"/>
                </a:cubicBezTo>
                <a:cubicBezTo>
                  <a:pt x="14267" y="10996"/>
                  <a:pt x="14331" y="11070"/>
                  <a:pt x="14412" y="11088"/>
                </a:cubicBezTo>
                <a:cubicBezTo>
                  <a:pt x="14456" y="11088"/>
                  <a:pt x="14469" y="11085"/>
                  <a:pt x="14486" y="11112"/>
                </a:cubicBezTo>
                <a:cubicBezTo>
                  <a:pt x="14532" y="11079"/>
                  <a:pt x="14548" y="11077"/>
                  <a:pt x="14560" y="11013"/>
                </a:cubicBezTo>
              </a:path>
              <a:path w="4739" h="1068">
                <a:moveTo>
                  <a:pt x="14337" y="10592"/>
                </a:moveTo>
                <a:cubicBezTo>
                  <a:pt x="14241" y="10709"/>
                  <a:pt x="14166" y="10815"/>
                  <a:pt x="14089" y="10939"/>
                </a:cubicBezTo>
                <a:cubicBezTo>
                  <a:pt x="14062" y="10983"/>
                  <a:pt x="14010" y="11044"/>
                  <a:pt x="13990" y="11088"/>
                </a:cubicBezTo>
                <a:cubicBezTo>
                  <a:pt x="13963" y="11147"/>
                  <a:pt x="14037" y="11090"/>
                  <a:pt x="14039" y="11088"/>
                </a:cubicBezTo>
              </a:path>
              <a:path w="4739" h="1068">
                <a:moveTo>
                  <a:pt x="14784" y="10492"/>
                </a:moveTo>
                <a:cubicBezTo>
                  <a:pt x="14767" y="10590"/>
                  <a:pt x="14739" y="10692"/>
                  <a:pt x="14734" y="10790"/>
                </a:cubicBezTo>
                <a:cubicBezTo>
                  <a:pt x="14730" y="10864"/>
                  <a:pt x="14754" y="10917"/>
                  <a:pt x="14759" y="10988"/>
                </a:cubicBezTo>
                <a:cubicBezTo>
                  <a:pt x="14762" y="11021"/>
                  <a:pt x="14769" y="11093"/>
                  <a:pt x="14784" y="11063"/>
                </a:cubicBezTo>
                <a:cubicBezTo>
                  <a:pt x="14799" y="11033"/>
                  <a:pt x="14763" y="10953"/>
                  <a:pt x="14759" y="10939"/>
                </a:cubicBezTo>
              </a:path>
              <a:path w="4739" h="1068">
                <a:moveTo>
                  <a:pt x="14585" y="10740"/>
                </a:moveTo>
                <a:cubicBezTo>
                  <a:pt x="14701" y="10740"/>
                  <a:pt x="14816" y="10740"/>
                  <a:pt x="14932" y="10740"/>
                </a:cubicBezTo>
              </a:path>
              <a:path w="4739" h="1068">
                <a:moveTo>
                  <a:pt x="15230" y="10344"/>
                </a:moveTo>
                <a:cubicBezTo>
                  <a:pt x="15222" y="10438"/>
                  <a:pt x="15205" y="10520"/>
                  <a:pt x="15205" y="10616"/>
                </a:cubicBezTo>
                <a:cubicBezTo>
                  <a:pt x="15205" y="10769"/>
                  <a:pt x="15184" y="10952"/>
                  <a:pt x="15230" y="11088"/>
                </a:cubicBezTo>
                <a:cubicBezTo>
                  <a:pt x="15230" y="11112"/>
                  <a:pt x="15230" y="11121"/>
                  <a:pt x="15230" y="11137"/>
                </a:cubicBezTo>
                <a:cubicBezTo>
                  <a:pt x="15270" y="11124"/>
                  <a:pt x="15255" y="11119"/>
                  <a:pt x="15255" y="11063"/>
                </a:cubicBezTo>
              </a:path>
              <a:path w="4739" h="1068">
                <a:moveTo>
                  <a:pt x="15602" y="10666"/>
                </a:moveTo>
                <a:cubicBezTo>
                  <a:pt x="15687" y="10646"/>
                  <a:pt x="15735" y="10643"/>
                  <a:pt x="15801" y="10592"/>
                </a:cubicBezTo>
              </a:path>
              <a:path w="4739" h="1068">
                <a:moveTo>
                  <a:pt x="15553" y="10840"/>
                </a:moveTo>
                <a:cubicBezTo>
                  <a:pt x="15652" y="10840"/>
                  <a:pt x="15734" y="10830"/>
                  <a:pt x="15825" y="10815"/>
                </a:cubicBezTo>
                <a:cubicBezTo>
                  <a:pt x="15907" y="10801"/>
                  <a:pt x="15942" y="10782"/>
                  <a:pt x="16024" y="10740"/>
                </a:cubicBezTo>
              </a:path>
              <a:path w="4739" h="1068">
                <a:moveTo>
                  <a:pt x="16346" y="10443"/>
                </a:moveTo>
                <a:cubicBezTo>
                  <a:pt x="16302" y="10550"/>
                  <a:pt x="16266" y="10659"/>
                  <a:pt x="16222" y="10765"/>
                </a:cubicBezTo>
                <a:cubicBezTo>
                  <a:pt x="16186" y="10853"/>
                  <a:pt x="16207" y="10857"/>
                  <a:pt x="16222" y="10939"/>
                </a:cubicBezTo>
                <a:cubicBezTo>
                  <a:pt x="16234" y="11007"/>
                  <a:pt x="16272" y="11063"/>
                  <a:pt x="16346" y="11088"/>
                </a:cubicBezTo>
                <a:cubicBezTo>
                  <a:pt x="16420" y="11113"/>
                  <a:pt x="16470" y="11119"/>
                  <a:pt x="16545" y="11088"/>
                </a:cubicBezTo>
                <a:cubicBezTo>
                  <a:pt x="16621" y="11056"/>
                  <a:pt x="16694" y="11007"/>
                  <a:pt x="16743" y="10939"/>
                </a:cubicBezTo>
                <a:cubicBezTo>
                  <a:pt x="16772" y="10899"/>
                  <a:pt x="16821" y="10787"/>
                  <a:pt x="16818" y="10740"/>
                </a:cubicBezTo>
                <a:cubicBezTo>
                  <a:pt x="16812" y="10663"/>
                  <a:pt x="16789" y="10557"/>
                  <a:pt x="16743" y="10492"/>
                </a:cubicBezTo>
                <a:cubicBezTo>
                  <a:pt x="16713" y="10450"/>
                  <a:pt x="16617" y="10421"/>
                  <a:pt x="16570" y="10393"/>
                </a:cubicBezTo>
                <a:cubicBezTo>
                  <a:pt x="16522" y="10369"/>
                  <a:pt x="16507" y="10361"/>
                  <a:pt x="16470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0040" y="4606920"/>
            <a:ext cx="1874880" cy="750960"/>
          </a:xfrm>
          <a:custGeom>
            <a:avLst/>
            <a:gdLst/>
            <a:ahLst/>
            <a:rect l="l" t="t" r="r" b="b"/>
            <a:pathLst>
              <a:path w="5210" h="2085">
                <a:moveTo>
                  <a:pt x="4638" y="12923"/>
                </a:moveTo>
                <a:cubicBezTo>
                  <a:pt x="4654" y="12902"/>
                  <a:pt x="4679" y="12854"/>
                  <a:pt x="4688" y="12849"/>
                </a:cubicBezTo>
                <a:cubicBezTo>
                  <a:pt x="4709" y="12839"/>
                  <a:pt x="4765" y="12826"/>
                  <a:pt x="4787" y="12824"/>
                </a:cubicBezTo>
                <a:cubicBezTo>
                  <a:pt x="4832" y="12819"/>
                  <a:pt x="4848" y="12856"/>
                  <a:pt x="4862" y="12874"/>
                </a:cubicBezTo>
                <a:cubicBezTo>
                  <a:pt x="4909" y="12936"/>
                  <a:pt x="4862" y="12937"/>
                  <a:pt x="4837" y="12998"/>
                </a:cubicBezTo>
                <a:cubicBezTo>
                  <a:pt x="4812" y="13059"/>
                  <a:pt x="4806" y="13057"/>
                  <a:pt x="4762" y="13097"/>
                </a:cubicBezTo>
                <a:cubicBezTo>
                  <a:pt x="4736" y="13120"/>
                  <a:pt x="4668" y="13122"/>
                  <a:pt x="4713" y="13122"/>
                </a:cubicBezTo>
                <a:cubicBezTo>
                  <a:pt x="4782" y="13122"/>
                  <a:pt x="4778" y="13118"/>
                  <a:pt x="4837" y="13171"/>
                </a:cubicBezTo>
                <a:cubicBezTo>
                  <a:pt x="4883" y="13213"/>
                  <a:pt x="4906" y="13263"/>
                  <a:pt x="4911" y="13320"/>
                </a:cubicBezTo>
                <a:cubicBezTo>
                  <a:pt x="4915" y="13371"/>
                  <a:pt x="4919" y="13407"/>
                  <a:pt x="4887" y="13444"/>
                </a:cubicBezTo>
                <a:cubicBezTo>
                  <a:pt x="4872" y="13461"/>
                  <a:pt x="4782" y="13503"/>
                  <a:pt x="4762" y="13494"/>
                </a:cubicBezTo>
                <a:cubicBezTo>
                  <a:pt x="4713" y="13472"/>
                  <a:pt x="4680" y="13461"/>
                  <a:pt x="4638" y="13419"/>
                </a:cubicBezTo>
              </a:path>
              <a:path w="5210" h="2085">
                <a:moveTo>
                  <a:pt x="5035" y="12923"/>
                </a:moveTo>
                <a:cubicBezTo>
                  <a:pt x="5152" y="12923"/>
                  <a:pt x="5249" y="12923"/>
                  <a:pt x="5358" y="12898"/>
                </a:cubicBezTo>
                <a:cubicBezTo>
                  <a:pt x="5366" y="12898"/>
                  <a:pt x="5375" y="12898"/>
                  <a:pt x="5383" y="12898"/>
                </a:cubicBezTo>
              </a:path>
              <a:path w="5210" h="2085">
                <a:moveTo>
                  <a:pt x="5085" y="13097"/>
                </a:moveTo>
                <a:cubicBezTo>
                  <a:pt x="5085" y="13175"/>
                  <a:pt x="5037" y="13345"/>
                  <a:pt x="5110" y="13320"/>
                </a:cubicBezTo>
                <a:cubicBezTo>
                  <a:pt x="5110" y="13312"/>
                  <a:pt x="5110" y="13303"/>
                  <a:pt x="5110" y="13295"/>
                </a:cubicBezTo>
              </a:path>
              <a:path w="5210" h="2085">
                <a:moveTo>
                  <a:pt x="5184" y="12923"/>
                </a:moveTo>
                <a:cubicBezTo>
                  <a:pt x="5184" y="13043"/>
                  <a:pt x="5177" y="13166"/>
                  <a:pt x="5209" y="13271"/>
                </a:cubicBezTo>
                <a:cubicBezTo>
                  <a:pt x="5209" y="13295"/>
                  <a:pt x="5209" y="13303"/>
                  <a:pt x="5234" y="13295"/>
                </a:cubicBezTo>
              </a:path>
              <a:path w="5210" h="2085">
                <a:moveTo>
                  <a:pt x="5531" y="12799"/>
                </a:moveTo>
                <a:cubicBezTo>
                  <a:pt x="5503" y="12905"/>
                  <a:pt x="5469" y="13015"/>
                  <a:pt x="5457" y="13122"/>
                </a:cubicBezTo>
                <a:cubicBezTo>
                  <a:pt x="5445" y="13230"/>
                  <a:pt x="5418" y="13335"/>
                  <a:pt x="5407" y="13444"/>
                </a:cubicBezTo>
                <a:cubicBezTo>
                  <a:pt x="5394" y="13568"/>
                  <a:pt x="5390" y="13694"/>
                  <a:pt x="5358" y="13816"/>
                </a:cubicBezTo>
                <a:cubicBezTo>
                  <a:pt x="5335" y="13905"/>
                  <a:pt x="5313" y="13997"/>
                  <a:pt x="5308" y="14089"/>
                </a:cubicBezTo>
                <a:cubicBezTo>
                  <a:pt x="5304" y="14156"/>
                  <a:pt x="5312" y="14151"/>
                  <a:pt x="5333" y="14213"/>
                </a:cubicBezTo>
              </a:path>
              <a:path w="5210" h="2085">
                <a:moveTo>
                  <a:pt x="5507" y="13841"/>
                </a:moveTo>
                <a:cubicBezTo>
                  <a:pt x="5578" y="13749"/>
                  <a:pt x="5592" y="13701"/>
                  <a:pt x="5705" y="13692"/>
                </a:cubicBezTo>
                <a:cubicBezTo>
                  <a:pt x="5761" y="13688"/>
                  <a:pt x="5811" y="13719"/>
                  <a:pt x="5829" y="13767"/>
                </a:cubicBezTo>
                <a:cubicBezTo>
                  <a:pt x="5853" y="13831"/>
                  <a:pt x="5859" y="13859"/>
                  <a:pt x="5829" y="13915"/>
                </a:cubicBezTo>
                <a:cubicBezTo>
                  <a:pt x="5795" y="13979"/>
                  <a:pt x="5800" y="14029"/>
                  <a:pt x="5755" y="14089"/>
                </a:cubicBezTo>
                <a:cubicBezTo>
                  <a:pt x="5725" y="14129"/>
                  <a:pt x="5674" y="14166"/>
                  <a:pt x="5655" y="14213"/>
                </a:cubicBezTo>
                <a:cubicBezTo>
                  <a:pt x="5639" y="14253"/>
                  <a:pt x="5703" y="14285"/>
                  <a:pt x="5730" y="14288"/>
                </a:cubicBezTo>
                <a:cubicBezTo>
                  <a:pt x="5791" y="14295"/>
                  <a:pt x="5838" y="14312"/>
                  <a:pt x="5904" y="14312"/>
                </a:cubicBezTo>
                <a:cubicBezTo>
                  <a:pt x="5979" y="14312"/>
                  <a:pt x="6093" y="14335"/>
                  <a:pt x="6152" y="14288"/>
                </a:cubicBezTo>
                <a:cubicBezTo>
                  <a:pt x="6176" y="14263"/>
                  <a:pt x="6184" y="14254"/>
                  <a:pt x="6201" y="14238"/>
                </a:cubicBezTo>
              </a:path>
              <a:path w="5210" h="2085">
                <a:moveTo>
                  <a:pt x="6325" y="14015"/>
                </a:moveTo>
                <a:cubicBezTo>
                  <a:pt x="6325" y="14088"/>
                  <a:pt x="6347" y="14140"/>
                  <a:pt x="6350" y="14213"/>
                </a:cubicBezTo>
                <a:cubicBezTo>
                  <a:pt x="6352" y="14273"/>
                  <a:pt x="6345" y="14405"/>
                  <a:pt x="6325" y="14461"/>
                </a:cubicBezTo>
                <a:cubicBezTo>
                  <a:pt x="6317" y="14469"/>
                  <a:pt x="6308" y="14478"/>
                  <a:pt x="6300" y="14486"/>
                </a:cubicBezTo>
              </a:path>
              <a:path w="5210" h="2085">
                <a:moveTo>
                  <a:pt x="6276" y="13072"/>
                </a:moveTo>
                <a:cubicBezTo>
                  <a:pt x="6361" y="13057"/>
                  <a:pt x="6510" y="13018"/>
                  <a:pt x="6598" y="13047"/>
                </a:cubicBezTo>
                <a:cubicBezTo>
                  <a:pt x="6641" y="13061"/>
                  <a:pt x="6670" y="13072"/>
                  <a:pt x="6722" y="13072"/>
                </a:cubicBezTo>
                <a:cubicBezTo>
                  <a:pt x="6730" y="13072"/>
                  <a:pt x="6739" y="13072"/>
                  <a:pt x="6747" y="13072"/>
                </a:cubicBezTo>
                <a:cubicBezTo>
                  <a:pt x="6747" y="13126"/>
                  <a:pt x="6725" y="13141"/>
                  <a:pt x="6722" y="13196"/>
                </a:cubicBezTo>
                <a:cubicBezTo>
                  <a:pt x="6719" y="13253"/>
                  <a:pt x="6713" y="13339"/>
                  <a:pt x="6697" y="13395"/>
                </a:cubicBezTo>
                <a:cubicBezTo>
                  <a:pt x="6682" y="13450"/>
                  <a:pt x="6672" y="13484"/>
                  <a:pt x="6672" y="13543"/>
                </a:cubicBezTo>
                <a:cubicBezTo>
                  <a:pt x="6672" y="13554"/>
                  <a:pt x="6672" y="13660"/>
                  <a:pt x="6672" y="13593"/>
                </a:cubicBezTo>
              </a:path>
              <a:path w="5210" h="2085">
                <a:moveTo>
                  <a:pt x="6921" y="13022"/>
                </a:moveTo>
                <a:cubicBezTo>
                  <a:pt x="7035" y="13004"/>
                  <a:pt x="7128" y="12998"/>
                  <a:pt x="7243" y="12998"/>
                </a:cubicBezTo>
                <a:cubicBezTo>
                  <a:pt x="7251" y="12998"/>
                  <a:pt x="7260" y="12998"/>
                  <a:pt x="7268" y="12998"/>
                </a:cubicBezTo>
              </a:path>
              <a:path w="5210" h="2085">
                <a:moveTo>
                  <a:pt x="6995" y="13171"/>
                </a:moveTo>
                <a:cubicBezTo>
                  <a:pt x="6974" y="13291"/>
                  <a:pt x="6966" y="13323"/>
                  <a:pt x="6995" y="13419"/>
                </a:cubicBezTo>
                <a:cubicBezTo>
                  <a:pt x="7006" y="13456"/>
                  <a:pt x="7008" y="13454"/>
                  <a:pt x="7020" y="13419"/>
                </a:cubicBezTo>
              </a:path>
              <a:path w="5210" h="2085">
                <a:moveTo>
                  <a:pt x="7144" y="13022"/>
                </a:moveTo>
                <a:cubicBezTo>
                  <a:pt x="7144" y="13096"/>
                  <a:pt x="7165" y="13150"/>
                  <a:pt x="7169" y="13221"/>
                </a:cubicBezTo>
                <a:cubicBezTo>
                  <a:pt x="7173" y="13284"/>
                  <a:pt x="7187" y="13335"/>
                  <a:pt x="7193" y="13395"/>
                </a:cubicBezTo>
                <a:cubicBezTo>
                  <a:pt x="7193" y="13419"/>
                  <a:pt x="7193" y="13427"/>
                  <a:pt x="7218" y="13419"/>
                </a:cubicBezTo>
              </a:path>
              <a:path w="5210" h="2085">
                <a:moveTo>
                  <a:pt x="7417" y="12923"/>
                </a:moveTo>
                <a:cubicBezTo>
                  <a:pt x="7417" y="13080"/>
                  <a:pt x="7423" y="13243"/>
                  <a:pt x="7392" y="13395"/>
                </a:cubicBezTo>
                <a:cubicBezTo>
                  <a:pt x="7369" y="13511"/>
                  <a:pt x="7343" y="13627"/>
                  <a:pt x="7317" y="13742"/>
                </a:cubicBezTo>
                <a:cubicBezTo>
                  <a:pt x="7289" y="13867"/>
                  <a:pt x="7278" y="13994"/>
                  <a:pt x="7243" y="14114"/>
                </a:cubicBezTo>
                <a:cubicBezTo>
                  <a:pt x="7219" y="14198"/>
                  <a:pt x="7174" y="14276"/>
                  <a:pt x="7169" y="14362"/>
                </a:cubicBezTo>
                <a:cubicBezTo>
                  <a:pt x="7168" y="14387"/>
                  <a:pt x="7169" y="14362"/>
                  <a:pt x="7169" y="14387"/>
                </a:cubicBezTo>
              </a:path>
              <a:path w="5210" h="2085">
                <a:moveTo>
                  <a:pt x="7541" y="13767"/>
                </a:moveTo>
                <a:cubicBezTo>
                  <a:pt x="7533" y="13856"/>
                  <a:pt x="7504" y="13927"/>
                  <a:pt x="7491" y="14015"/>
                </a:cubicBezTo>
                <a:cubicBezTo>
                  <a:pt x="7479" y="14098"/>
                  <a:pt x="7474" y="14240"/>
                  <a:pt x="7516" y="14312"/>
                </a:cubicBezTo>
                <a:cubicBezTo>
                  <a:pt x="7547" y="14366"/>
                  <a:pt x="7587" y="14404"/>
                  <a:pt x="7640" y="14436"/>
                </a:cubicBezTo>
                <a:cubicBezTo>
                  <a:pt x="7698" y="14471"/>
                  <a:pt x="7762" y="14476"/>
                  <a:pt x="7813" y="14436"/>
                </a:cubicBezTo>
                <a:cubicBezTo>
                  <a:pt x="7875" y="14387"/>
                  <a:pt x="7884" y="14368"/>
                  <a:pt x="7888" y="14288"/>
                </a:cubicBezTo>
                <a:cubicBezTo>
                  <a:pt x="7890" y="14255"/>
                  <a:pt x="7888" y="14221"/>
                  <a:pt x="7888" y="14188"/>
                </a:cubicBezTo>
                <a:cubicBezTo>
                  <a:pt x="7837" y="14188"/>
                  <a:pt x="7807" y="14206"/>
                  <a:pt x="7764" y="14238"/>
                </a:cubicBezTo>
                <a:cubicBezTo>
                  <a:pt x="7729" y="14264"/>
                  <a:pt x="7674" y="14342"/>
                  <a:pt x="7689" y="14387"/>
                </a:cubicBezTo>
                <a:cubicBezTo>
                  <a:pt x="7711" y="14454"/>
                  <a:pt x="7715" y="14461"/>
                  <a:pt x="7789" y="14461"/>
                </a:cubicBezTo>
              </a:path>
              <a:path w="5210" h="2085">
                <a:moveTo>
                  <a:pt x="8136" y="14560"/>
                </a:moveTo>
                <a:cubicBezTo>
                  <a:pt x="8100" y="14692"/>
                  <a:pt x="8092" y="14783"/>
                  <a:pt x="8012" y="14883"/>
                </a:cubicBezTo>
              </a:path>
              <a:path w="5210" h="2085">
                <a:moveTo>
                  <a:pt x="8285" y="12948"/>
                </a:moveTo>
                <a:cubicBezTo>
                  <a:pt x="8312" y="12957"/>
                  <a:pt x="8329" y="13013"/>
                  <a:pt x="8334" y="13047"/>
                </a:cubicBezTo>
                <a:cubicBezTo>
                  <a:pt x="8348" y="13141"/>
                  <a:pt x="8314" y="13227"/>
                  <a:pt x="8310" y="13320"/>
                </a:cubicBezTo>
                <a:cubicBezTo>
                  <a:pt x="8307" y="13394"/>
                  <a:pt x="8310" y="13469"/>
                  <a:pt x="8310" y="13543"/>
                </a:cubicBezTo>
              </a:path>
              <a:path w="5210" h="2085">
                <a:moveTo>
                  <a:pt x="8508" y="12998"/>
                </a:moveTo>
                <a:cubicBezTo>
                  <a:pt x="8555" y="13013"/>
                  <a:pt x="8533" y="13092"/>
                  <a:pt x="8533" y="13146"/>
                </a:cubicBezTo>
                <a:cubicBezTo>
                  <a:pt x="8533" y="13223"/>
                  <a:pt x="8508" y="13291"/>
                  <a:pt x="8508" y="13370"/>
                </a:cubicBezTo>
                <a:cubicBezTo>
                  <a:pt x="8508" y="13426"/>
                  <a:pt x="8533" y="13440"/>
                  <a:pt x="8533" y="13494"/>
                </a:cubicBezTo>
              </a:path>
              <a:path w="5210" h="2085">
                <a:moveTo>
                  <a:pt x="8806" y="12998"/>
                </a:moveTo>
                <a:cubicBezTo>
                  <a:pt x="8923" y="12998"/>
                  <a:pt x="9044" y="13014"/>
                  <a:pt x="9153" y="12973"/>
                </a:cubicBezTo>
              </a:path>
              <a:path w="5210" h="2085">
                <a:moveTo>
                  <a:pt x="8855" y="13072"/>
                </a:moveTo>
                <a:cubicBezTo>
                  <a:pt x="8837" y="13160"/>
                  <a:pt x="8830" y="13231"/>
                  <a:pt x="8830" y="13320"/>
                </a:cubicBezTo>
                <a:cubicBezTo>
                  <a:pt x="8830" y="13373"/>
                  <a:pt x="8844" y="13376"/>
                  <a:pt x="8855" y="13419"/>
                </a:cubicBezTo>
              </a:path>
              <a:path w="5210" h="2085">
                <a:moveTo>
                  <a:pt x="8954" y="13072"/>
                </a:moveTo>
                <a:cubicBezTo>
                  <a:pt x="8973" y="13201"/>
                  <a:pt x="8994" y="13257"/>
                  <a:pt x="9029" y="13370"/>
                </a:cubicBezTo>
                <a:cubicBezTo>
                  <a:pt x="9042" y="13413"/>
                  <a:pt x="9009" y="13404"/>
                  <a:pt x="9054" y="13419"/>
                </a:cubicBezTo>
              </a:path>
              <a:path w="5210" h="2085">
                <a:moveTo>
                  <a:pt x="9351" y="12948"/>
                </a:moveTo>
                <a:cubicBezTo>
                  <a:pt x="9329" y="13104"/>
                  <a:pt x="9307" y="13268"/>
                  <a:pt x="9277" y="13419"/>
                </a:cubicBezTo>
                <a:cubicBezTo>
                  <a:pt x="9252" y="13544"/>
                  <a:pt x="9235" y="13696"/>
                  <a:pt x="9203" y="13816"/>
                </a:cubicBezTo>
                <a:cubicBezTo>
                  <a:pt x="9165" y="13955"/>
                  <a:pt x="9119" y="14098"/>
                  <a:pt x="9079" y="14238"/>
                </a:cubicBezTo>
                <a:cubicBezTo>
                  <a:pt x="9061" y="14299"/>
                  <a:pt x="8977" y="14452"/>
                  <a:pt x="9004" y="14511"/>
                </a:cubicBezTo>
                <a:cubicBezTo>
                  <a:pt x="9020" y="14546"/>
                  <a:pt x="9060" y="14470"/>
                  <a:pt x="9079" y="14436"/>
                </a:cubicBezTo>
              </a:path>
              <a:path w="5210" h="2085">
                <a:moveTo>
                  <a:pt x="9451" y="13965"/>
                </a:moveTo>
                <a:cubicBezTo>
                  <a:pt x="9430" y="14040"/>
                  <a:pt x="9392" y="14115"/>
                  <a:pt x="9376" y="14188"/>
                </a:cubicBezTo>
                <a:cubicBezTo>
                  <a:pt x="9364" y="14243"/>
                  <a:pt x="9367" y="14341"/>
                  <a:pt x="9401" y="14387"/>
                </a:cubicBezTo>
                <a:cubicBezTo>
                  <a:pt x="9446" y="14449"/>
                  <a:pt x="9526" y="14496"/>
                  <a:pt x="9599" y="14511"/>
                </a:cubicBezTo>
                <a:cubicBezTo>
                  <a:pt x="9656" y="14523"/>
                  <a:pt x="9734" y="14506"/>
                  <a:pt x="9773" y="14461"/>
                </a:cubicBezTo>
                <a:cubicBezTo>
                  <a:pt x="9812" y="14417"/>
                  <a:pt x="9847" y="14371"/>
                  <a:pt x="9847" y="14312"/>
                </a:cubicBezTo>
                <a:cubicBezTo>
                  <a:pt x="9791" y="14312"/>
                  <a:pt x="9774" y="14335"/>
                  <a:pt x="9723" y="14362"/>
                </a:cubicBezTo>
                <a:cubicBezTo>
                  <a:pt x="9634" y="14409"/>
                  <a:pt x="9659" y="14461"/>
                  <a:pt x="9624" y="14536"/>
                </a:cubicBezTo>
                <a:cubicBezTo>
                  <a:pt x="9620" y="14544"/>
                  <a:pt x="9623" y="14660"/>
                  <a:pt x="9624" y="14660"/>
                </a:cubicBezTo>
                <a:cubicBezTo>
                  <a:pt x="9632" y="14652"/>
                  <a:pt x="9641" y="14643"/>
                  <a:pt x="9649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6960" y="5330880"/>
            <a:ext cx="1100160" cy="455400"/>
          </a:xfrm>
          <a:custGeom>
            <a:avLst/>
            <a:gdLst/>
            <a:ahLst/>
            <a:rect l="l" t="t" r="r" b="b"/>
            <a:pathLst>
              <a:path w="3052" h="1266">
                <a:moveTo>
                  <a:pt x="14511" y="14932"/>
                </a:moveTo>
                <a:cubicBezTo>
                  <a:pt x="14442" y="14912"/>
                  <a:pt x="14407" y="14908"/>
                  <a:pt x="14337" y="14908"/>
                </a:cubicBezTo>
                <a:cubicBezTo>
                  <a:pt x="14286" y="14908"/>
                  <a:pt x="14249" y="14925"/>
                  <a:pt x="14213" y="14957"/>
                </a:cubicBezTo>
                <a:cubicBezTo>
                  <a:pt x="14157" y="15007"/>
                  <a:pt x="14210" y="15013"/>
                  <a:pt x="14238" y="15056"/>
                </a:cubicBezTo>
                <a:cubicBezTo>
                  <a:pt x="14301" y="15153"/>
                  <a:pt x="14353" y="15253"/>
                  <a:pt x="14412" y="15354"/>
                </a:cubicBezTo>
                <a:cubicBezTo>
                  <a:pt x="14439" y="15400"/>
                  <a:pt x="14519" y="15488"/>
                  <a:pt x="14486" y="15553"/>
                </a:cubicBezTo>
                <a:cubicBezTo>
                  <a:pt x="14461" y="15602"/>
                  <a:pt x="14386" y="15621"/>
                  <a:pt x="14337" y="15602"/>
                </a:cubicBezTo>
                <a:cubicBezTo>
                  <a:pt x="14324" y="15597"/>
                  <a:pt x="14214" y="15505"/>
                  <a:pt x="14213" y="15503"/>
                </a:cubicBezTo>
                <a:cubicBezTo>
                  <a:pt x="14213" y="15468"/>
                  <a:pt x="14218" y="15451"/>
                  <a:pt x="14238" y="15429"/>
                </a:cubicBezTo>
              </a:path>
              <a:path w="3052" h="1266">
                <a:moveTo>
                  <a:pt x="14709" y="15205"/>
                </a:moveTo>
                <a:cubicBezTo>
                  <a:pt x="14688" y="15346"/>
                  <a:pt x="14681" y="15382"/>
                  <a:pt x="14709" y="15503"/>
                </a:cubicBezTo>
                <a:cubicBezTo>
                  <a:pt x="14717" y="15537"/>
                  <a:pt x="14734" y="15625"/>
                  <a:pt x="14734" y="15528"/>
                </a:cubicBezTo>
              </a:path>
              <a:path w="3052" h="1266">
                <a:moveTo>
                  <a:pt x="14684" y="14858"/>
                </a:moveTo>
                <a:cubicBezTo>
                  <a:pt x="14709" y="14833"/>
                  <a:pt x="14717" y="14825"/>
                  <a:pt x="14734" y="14808"/>
                </a:cubicBezTo>
              </a:path>
              <a:path w="3052" h="1266">
                <a:moveTo>
                  <a:pt x="14883" y="15354"/>
                </a:moveTo>
                <a:cubicBezTo>
                  <a:pt x="14883" y="15360"/>
                  <a:pt x="14902" y="15534"/>
                  <a:pt x="14908" y="15528"/>
                </a:cubicBezTo>
                <a:cubicBezTo>
                  <a:pt x="14938" y="15498"/>
                  <a:pt x="14921" y="15442"/>
                  <a:pt x="14932" y="15404"/>
                </a:cubicBezTo>
                <a:cubicBezTo>
                  <a:pt x="14953" y="15333"/>
                  <a:pt x="14971" y="15269"/>
                  <a:pt x="15007" y="15205"/>
                </a:cubicBezTo>
                <a:cubicBezTo>
                  <a:pt x="15051" y="15127"/>
                  <a:pt x="15111" y="15099"/>
                  <a:pt x="15156" y="15180"/>
                </a:cubicBezTo>
                <a:cubicBezTo>
                  <a:pt x="15189" y="15240"/>
                  <a:pt x="15240" y="15337"/>
                  <a:pt x="15255" y="15404"/>
                </a:cubicBezTo>
                <a:cubicBezTo>
                  <a:pt x="15269" y="15464"/>
                  <a:pt x="15283" y="15502"/>
                  <a:pt x="15329" y="15553"/>
                </a:cubicBezTo>
                <a:cubicBezTo>
                  <a:pt x="15337" y="15561"/>
                  <a:pt x="15346" y="15569"/>
                  <a:pt x="15354" y="15577"/>
                </a:cubicBezTo>
                <a:cubicBezTo>
                  <a:pt x="15370" y="15532"/>
                  <a:pt x="15379" y="15554"/>
                  <a:pt x="15379" y="15478"/>
                </a:cubicBezTo>
              </a:path>
              <a:path w="3052" h="1266">
                <a:moveTo>
                  <a:pt x="15503" y="15081"/>
                </a:moveTo>
                <a:cubicBezTo>
                  <a:pt x="15544" y="15203"/>
                  <a:pt x="15567" y="15333"/>
                  <a:pt x="15652" y="15429"/>
                </a:cubicBezTo>
                <a:cubicBezTo>
                  <a:pt x="15710" y="15493"/>
                  <a:pt x="15752" y="15553"/>
                  <a:pt x="15825" y="15602"/>
                </a:cubicBezTo>
                <a:cubicBezTo>
                  <a:pt x="15895" y="15649"/>
                  <a:pt x="15892" y="15627"/>
                  <a:pt x="15949" y="15577"/>
                </a:cubicBezTo>
              </a:path>
              <a:path w="3052" h="1266">
                <a:moveTo>
                  <a:pt x="15850" y="15081"/>
                </a:moveTo>
                <a:cubicBezTo>
                  <a:pt x="15756" y="15193"/>
                  <a:pt x="15685" y="15359"/>
                  <a:pt x="15577" y="15453"/>
                </a:cubicBezTo>
                <a:cubicBezTo>
                  <a:pt x="15531" y="15493"/>
                  <a:pt x="15518" y="15492"/>
                  <a:pt x="15503" y="15553"/>
                </a:cubicBezTo>
              </a:path>
              <a:path w="3052" h="1266">
                <a:moveTo>
                  <a:pt x="15925" y="15230"/>
                </a:moveTo>
                <a:cubicBezTo>
                  <a:pt x="16008" y="15230"/>
                  <a:pt x="16090" y="15230"/>
                  <a:pt x="16173" y="15230"/>
                </a:cubicBezTo>
              </a:path>
              <a:path w="3052" h="1266">
                <a:moveTo>
                  <a:pt x="15999" y="15429"/>
                </a:moveTo>
                <a:cubicBezTo>
                  <a:pt x="16090" y="15471"/>
                  <a:pt x="16117" y="15502"/>
                  <a:pt x="16197" y="15453"/>
                </a:cubicBezTo>
              </a:path>
              <a:path w="3052" h="1266">
                <a:moveTo>
                  <a:pt x="16346" y="15280"/>
                </a:moveTo>
                <a:cubicBezTo>
                  <a:pt x="16424" y="15238"/>
                  <a:pt x="16490" y="15220"/>
                  <a:pt x="16570" y="15180"/>
                </a:cubicBezTo>
              </a:path>
              <a:path w="3052" h="1266">
                <a:moveTo>
                  <a:pt x="16793" y="14808"/>
                </a:moveTo>
                <a:cubicBezTo>
                  <a:pt x="16873" y="14889"/>
                  <a:pt x="16867" y="14900"/>
                  <a:pt x="16892" y="15007"/>
                </a:cubicBezTo>
                <a:cubicBezTo>
                  <a:pt x="16914" y="15103"/>
                  <a:pt x="16917" y="15180"/>
                  <a:pt x="16917" y="15280"/>
                </a:cubicBezTo>
                <a:cubicBezTo>
                  <a:pt x="16917" y="15346"/>
                  <a:pt x="16916" y="15399"/>
                  <a:pt x="16892" y="15453"/>
                </a:cubicBezTo>
              </a:path>
              <a:path w="3052" h="1266">
                <a:moveTo>
                  <a:pt x="16594" y="15503"/>
                </a:moveTo>
                <a:cubicBezTo>
                  <a:pt x="16664" y="15512"/>
                  <a:pt x="16719" y="15528"/>
                  <a:pt x="16793" y="15528"/>
                </a:cubicBezTo>
                <a:cubicBezTo>
                  <a:pt x="16867" y="15528"/>
                  <a:pt x="16942" y="15528"/>
                  <a:pt x="17016" y="15528"/>
                </a:cubicBezTo>
              </a:path>
              <a:path w="3052" h="1266">
                <a:moveTo>
                  <a:pt x="16768" y="15751"/>
                </a:moveTo>
                <a:cubicBezTo>
                  <a:pt x="16794" y="15751"/>
                  <a:pt x="16904" y="15724"/>
                  <a:pt x="16917" y="15726"/>
                </a:cubicBezTo>
                <a:cubicBezTo>
                  <a:pt x="16944" y="15731"/>
                  <a:pt x="16990" y="15760"/>
                  <a:pt x="17016" y="15776"/>
                </a:cubicBezTo>
                <a:cubicBezTo>
                  <a:pt x="17000" y="15872"/>
                  <a:pt x="16986" y="15874"/>
                  <a:pt x="16917" y="15925"/>
                </a:cubicBezTo>
                <a:cubicBezTo>
                  <a:pt x="16874" y="15957"/>
                  <a:pt x="16821" y="15970"/>
                  <a:pt x="16768" y="15974"/>
                </a:cubicBezTo>
                <a:cubicBezTo>
                  <a:pt x="16760" y="15974"/>
                  <a:pt x="16751" y="15974"/>
                  <a:pt x="16743" y="15974"/>
                </a:cubicBezTo>
                <a:cubicBezTo>
                  <a:pt x="16772" y="15996"/>
                  <a:pt x="16829" y="16017"/>
                  <a:pt x="16867" y="16024"/>
                </a:cubicBezTo>
                <a:cubicBezTo>
                  <a:pt x="16940" y="16037"/>
                  <a:pt x="17018" y="16064"/>
                  <a:pt x="17090" y="16073"/>
                </a:cubicBezTo>
                <a:cubicBezTo>
                  <a:pt x="17146" y="16080"/>
                  <a:pt x="17217" y="16081"/>
                  <a:pt x="17239" y="16049"/>
                </a:cubicBezTo>
                <a:cubicBezTo>
                  <a:pt x="17232" y="16019"/>
                  <a:pt x="17221" y="16004"/>
                  <a:pt x="17214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96080" y="3081240"/>
            <a:ext cx="1473120" cy="892440"/>
          </a:xfrm>
          <a:custGeom>
            <a:avLst/>
            <a:gdLst/>
            <a:ahLst/>
            <a:rect l="l" t="t" r="r" b="b"/>
            <a:pathLst>
              <a:path w="4094" h="2481">
                <a:moveTo>
                  <a:pt x="19745" y="8806"/>
                </a:moveTo>
                <a:cubicBezTo>
                  <a:pt x="19690" y="8792"/>
                  <a:pt x="19654" y="8783"/>
                  <a:pt x="19596" y="8781"/>
                </a:cubicBezTo>
                <a:cubicBezTo>
                  <a:pt x="19364" y="8773"/>
                  <a:pt x="19099" y="8750"/>
                  <a:pt x="18876" y="8806"/>
                </a:cubicBezTo>
                <a:cubicBezTo>
                  <a:pt x="18900" y="8820"/>
                  <a:pt x="18924" y="8812"/>
                  <a:pt x="18951" y="8830"/>
                </a:cubicBezTo>
                <a:cubicBezTo>
                  <a:pt x="19003" y="8864"/>
                  <a:pt x="18983" y="8887"/>
                  <a:pt x="19000" y="8930"/>
                </a:cubicBezTo>
                <a:cubicBezTo>
                  <a:pt x="19020" y="8980"/>
                  <a:pt x="19041" y="9046"/>
                  <a:pt x="19050" y="9103"/>
                </a:cubicBezTo>
                <a:cubicBezTo>
                  <a:pt x="19074" y="9252"/>
                  <a:pt x="19063" y="9424"/>
                  <a:pt x="19075" y="9575"/>
                </a:cubicBezTo>
                <a:cubicBezTo>
                  <a:pt x="19089" y="9743"/>
                  <a:pt x="19061" y="9907"/>
                  <a:pt x="19050" y="10071"/>
                </a:cubicBezTo>
                <a:cubicBezTo>
                  <a:pt x="19040" y="10224"/>
                  <a:pt x="19077" y="10405"/>
                  <a:pt x="19025" y="10542"/>
                </a:cubicBezTo>
                <a:cubicBezTo>
                  <a:pt x="19046" y="10525"/>
                  <a:pt x="19054" y="10503"/>
                  <a:pt x="19100" y="10492"/>
                </a:cubicBezTo>
                <a:cubicBezTo>
                  <a:pt x="19236" y="10460"/>
                  <a:pt x="19414" y="10499"/>
                  <a:pt x="19546" y="10517"/>
                </a:cubicBezTo>
                <a:cubicBezTo>
                  <a:pt x="19619" y="10527"/>
                  <a:pt x="19698" y="10520"/>
                  <a:pt x="19769" y="10542"/>
                </a:cubicBezTo>
                <a:cubicBezTo>
                  <a:pt x="19790" y="10549"/>
                  <a:pt x="19842" y="10586"/>
                  <a:pt x="19869" y="10567"/>
                </a:cubicBezTo>
                <a:cubicBezTo>
                  <a:pt x="19877" y="10562"/>
                  <a:pt x="19887" y="10503"/>
                  <a:pt x="19893" y="10492"/>
                </a:cubicBezTo>
              </a:path>
              <a:path w="4094" h="2481">
                <a:moveTo>
                  <a:pt x="20092" y="9451"/>
                </a:moveTo>
                <a:cubicBezTo>
                  <a:pt x="20055" y="9506"/>
                  <a:pt x="20028" y="9583"/>
                  <a:pt x="20017" y="9649"/>
                </a:cubicBezTo>
                <a:cubicBezTo>
                  <a:pt x="19996" y="9773"/>
                  <a:pt x="19956" y="9895"/>
                  <a:pt x="19943" y="10021"/>
                </a:cubicBezTo>
                <a:cubicBezTo>
                  <a:pt x="19936" y="10091"/>
                  <a:pt x="19959" y="10209"/>
                  <a:pt x="19993" y="10269"/>
                </a:cubicBezTo>
                <a:cubicBezTo>
                  <a:pt x="20029" y="10333"/>
                  <a:pt x="20112" y="10418"/>
                  <a:pt x="20191" y="10418"/>
                </a:cubicBezTo>
                <a:cubicBezTo>
                  <a:pt x="20239" y="10418"/>
                  <a:pt x="20348" y="10375"/>
                  <a:pt x="20389" y="10344"/>
                </a:cubicBezTo>
                <a:cubicBezTo>
                  <a:pt x="20474" y="10278"/>
                  <a:pt x="20489" y="10188"/>
                  <a:pt x="20513" y="10096"/>
                </a:cubicBezTo>
                <a:cubicBezTo>
                  <a:pt x="20545" y="9972"/>
                  <a:pt x="20529" y="9897"/>
                  <a:pt x="20489" y="9773"/>
                </a:cubicBezTo>
                <a:cubicBezTo>
                  <a:pt x="20459" y="9680"/>
                  <a:pt x="20406" y="9630"/>
                  <a:pt x="20365" y="9550"/>
                </a:cubicBezTo>
                <a:cubicBezTo>
                  <a:pt x="20325" y="9472"/>
                  <a:pt x="20330" y="9451"/>
                  <a:pt x="20241" y="9451"/>
                </a:cubicBezTo>
                <a:cubicBezTo>
                  <a:pt x="20204" y="9451"/>
                  <a:pt x="20169" y="9435"/>
                  <a:pt x="20166" y="9475"/>
                </a:cubicBezTo>
                <a:cubicBezTo>
                  <a:pt x="20161" y="9533"/>
                  <a:pt x="20186" y="9589"/>
                  <a:pt x="20191" y="9649"/>
                </a:cubicBezTo>
              </a:path>
              <a:path w="4094" h="2481">
                <a:moveTo>
                  <a:pt x="20836" y="10294"/>
                </a:moveTo>
                <a:cubicBezTo>
                  <a:pt x="20829" y="10387"/>
                  <a:pt x="20811" y="10473"/>
                  <a:pt x="20811" y="10567"/>
                </a:cubicBezTo>
                <a:cubicBezTo>
                  <a:pt x="20811" y="10624"/>
                  <a:pt x="20803" y="10711"/>
                  <a:pt x="20786" y="10765"/>
                </a:cubicBezTo>
                <a:cubicBezTo>
                  <a:pt x="20769" y="10818"/>
                  <a:pt x="20762" y="10835"/>
                  <a:pt x="20762" y="10889"/>
                </a:cubicBezTo>
                <a:cubicBezTo>
                  <a:pt x="20762" y="10914"/>
                  <a:pt x="20762" y="10922"/>
                  <a:pt x="20762" y="10889"/>
                </a:cubicBezTo>
              </a:path>
              <a:path w="4094" h="2481">
                <a:moveTo>
                  <a:pt x="21059" y="9475"/>
                </a:moveTo>
                <a:cubicBezTo>
                  <a:pt x="21117" y="9454"/>
                  <a:pt x="21179" y="9444"/>
                  <a:pt x="21233" y="9426"/>
                </a:cubicBezTo>
                <a:cubicBezTo>
                  <a:pt x="21298" y="9404"/>
                  <a:pt x="21299" y="9397"/>
                  <a:pt x="21357" y="9426"/>
                </a:cubicBezTo>
                <a:cubicBezTo>
                  <a:pt x="21419" y="9457"/>
                  <a:pt x="21406" y="9518"/>
                  <a:pt x="21406" y="9575"/>
                </a:cubicBezTo>
                <a:cubicBezTo>
                  <a:pt x="21406" y="9663"/>
                  <a:pt x="21414" y="9740"/>
                  <a:pt x="21382" y="9823"/>
                </a:cubicBezTo>
                <a:cubicBezTo>
                  <a:pt x="21353" y="9898"/>
                  <a:pt x="21360" y="9977"/>
                  <a:pt x="21307" y="10046"/>
                </a:cubicBezTo>
                <a:cubicBezTo>
                  <a:pt x="21249" y="10121"/>
                  <a:pt x="21226" y="10188"/>
                  <a:pt x="21183" y="10269"/>
                </a:cubicBezTo>
                <a:cubicBezTo>
                  <a:pt x="21180" y="10274"/>
                  <a:pt x="21133" y="10390"/>
                  <a:pt x="21134" y="10393"/>
                </a:cubicBezTo>
                <a:cubicBezTo>
                  <a:pt x="21158" y="10393"/>
                  <a:pt x="21166" y="10393"/>
                  <a:pt x="21158" y="10418"/>
                </a:cubicBezTo>
                <a:cubicBezTo>
                  <a:pt x="21188" y="10400"/>
                  <a:pt x="21185" y="10395"/>
                  <a:pt x="21233" y="10393"/>
                </a:cubicBezTo>
                <a:cubicBezTo>
                  <a:pt x="21316" y="10389"/>
                  <a:pt x="21380" y="10405"/>
                  <a:pt x="21456" y="10418"/>
                </a:cubicBezTo>
                <a:cubicBezTo>
                  <a:pt x="21547" y="10433"/>
                  <a:pt x="21652" y="10416"/>
                  <a:pt x="21729" y="10393"/>
                </a:cubicBezTo>
                <a:cubicBezTo>
                  <a:pt x="21737" y="10393"/>
                  <a:pt x="21746" y="10393"/>
                  <a:pt x="21754" y="10393"/>
                </a:cubicBezTo>
              </a:path>
              <a:path w="4094" h="2481">
                <a:moveTo>
                  <a:pt x="21729" y="9575"/>
                </a:moveTo>
                <a:cubicBezTo>
                  <a:pt x="21832" y="9547"/>
                  <a:pt x="21919" y="9550"/>
                  <a:pt x="22027" y="9550"/>
                </a:cubicBezTo>
                <a:cubicBezTo>
                  <a:pt x="22101" y="9550"/>
                  <a:pt x="22152" y="9525"/>
                  <a:pt x="22225" y="9525"/>
                </a:cubicBezTo>
                <a:cubicBezTo>
                  <a:pt x="22233" y="9525"/>
                  <a:pt x="22242" y="9525"/>
                  <a:pt x="22250" y="9525"/>
                </a:cubicBezTo>
              </a:path>
              <a:path w="4094" h="2481">
                <a:moveTo>
                  <a:pt x="21927" y="9649"/>
                </a:moveTo>
                <a:cubicBezTo>
                  <a:pt x="21902" y="9776"/>
                  <a:pt x="21878" y="9869"/>
                  <a:pt x="21878" y="9996"/>
                </a:cubicBezTo>
                <a:cubicBezTo>
                  <a:pt x="21878" y="10059"/>
                  <a:pt x="21850" y="10251"/>
                  <a:pt x="21903" y="10269"/>
                </a:cubicBezTo>
              </a:path>
              <a:path w="4094" h="2481">
                <a:moveTo>
                  <a:pt x="22076" y="9674"/>
                </a:moveTo>
                <a:cubicBezTo>
                  <a:pt x="22076" y="9788"/>
                  <a:pt x="22065" y="9915"/>
                  <a:pt x="22101" y="10021"/>
                </a:cubicBezTo>
                <a:cubicBezTo>
                  <a:pt x="22117" y="10069"/>
                  <a:pt x="22106" y="10155"/>
                  <a:pt x="22126" y="10195"/>
                </a:cubicBezTo>
                <a:cubicBezTo>
                  <a:pt x="22160" y="10264"/>
                  <a:pt x="22151" y="10234"/>
                  <a:pt x="22151" y="10170"/>
                </a:cubicBezTo>
              </a:path>
              <a:path w="4094" h="2481">
                <a:moveTo>
                  <a:pt x="22473" y="8558"/>
                </a:moveTo>
                <a:cubicBezTo>
                  <a:pt x="22518" y="8589"/>
                  <a:pt x="22537" y="8609"/>
                  <a:pt x="22572" y="8657"/>
                </a:cubicBezTo>
                <a:cubicBezTo>
                  <a:pt x="22625" y="8730"/>
                  <a:pt x="22655" y="8849"/>
                  <a:pt x="22696" y="8930"/>
                </a:cubicBezTo>
                <a:cubicBezTo>
                  <a:pt x="22807" y="9153"/>
                  <a:pt x="22878" y="9380"/>
                  <a:pt x="22920" y="9624"/>
                </a:cubicBezTo>
                <a:cubicBezTo>
                  <a:pt x="22958" y="9842"/>
                  <a:pt x="22960" y="10002"/>
                  <a:pt x="22920" y="10220"/>
                </a:cubicBezTo>
                <a:cubicBezTo>
                  <a:pt x="22890" y="10384"/>
                  <a:pt x="22823" y="10521"/>
                  <a:pt x="22746" y="10666"/>
                </a:cubicBezTo>
                <a:cubicBezTo>
                  <a:pt x="22698" y="10755"/>
                  <a:pt x="22645" y="10828"/>
                  <a:pt x="22597" y="10914"/>
                </a:cubicBezTo>
                <a:cubicBezTo>
                  <a:pt x="22571" y="10961"/>
                  <a:pt x="22511" y="10990"/>
                  <a:pt x="22498" y="11013"/>
                </a:cubicBezTo>
                <a:cubicBezTo>
                  <a:pt x="22461" y="11080"/>
                  <a:pt x="22516" y="11017"/>
                  <a:pt x="22473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08080" y="4554360"/>
            <a:ext cx="534960" cy="714600"/>
          </a:xfrm>
          <a:custGeom>
            <a:avLst/>
            <a:gdLst/>
            <a:ahLst/>
            <a:rect l="l" t="t" r="r" b="b"/>
            <a:pathLst>
              <a:path w="1489" h="1986">
                <a:moveTo>
                  <a:pt x="3076" y="12750"/>
                </a:moveTo>
                <a:cubicBezTo>
                  <a:pt x="3106" y="12727"/>
                  <a:pt x="3137" y="12703"/>
                  <a:pt x="3175" y="12700"/>
                </a:cubicBezTo>
                <a:cubicBezTo>
                  <a:pt x="3272" y="12693"/>
                  <a:pt x="3358" y="12710"/>
                  <a:pt x="3448" y="12725"/>
                </a:cubicBezTo>
                <a:cubicBezTo>
                  <a:pt x="3520" y="12737"/>
                  <a:pt x="3600" y="12747"/>
                  <a:pt x="3671" y="12750"/>
                </a:cubicBezTo>
                <a:cubicBezTo>
                  <a:pt x="3720" y="12752"/>
                  <a:pt x="3771" y="12750"/>
                  <a:pt x="3820" y="12750"/>
                </a:cubicBezTo>
              </a:path>
              <a:path w="1489" h="1986">
                <a:moveTo>
                  <a:pt x="3373" y="12799"/>
                </a:moveTo>
                <a:cubicBezTo>
                  <a:pt x="3373" y="12915"/>
                  <a:pt x="3380" y="13014"/>
                  <a:pt x="3398" y="13122"/>
                </a:cubicBezTo>
                <a:cubicBezTo>
                  <a:pt x="3408" y="13184"/>
                  <a:pt x="3386" y="13197"/>
                  <a:pt x="3423" y="13246"/>
                </a:cubicBezTo>
              </a:path>
              <a:path w="1489" h="1986">
                <a:moveTo>
                  <a:pt x="3522" y="12774"/>
                </a:moveTo>
                <a:cubicBezTo>
                  <a:pt x="3544" y="12855"/>
                  <a:pt x="3547" y="12914"/>
                  <a:pt x="3547" y="12998"/>
                </a:cubicBezTo>
                <a:cubicBezTo>
                  <a:pt x="3547" y="13047"/>
                  <a:pt x="3544" y="13159"/>
                  <a:pt x="3572" y="13196"/>
                </a:cubicBezTo>
                <a:cubicBezTo>
                  <a:pt x="3579" y="13206"/>
                  <a:pt x="3606" y="13216"/>
                  <a:pt x="3621" y="13221"/>
                </a:cubicBezTo>
              </a:path>
              <a:path w="1489" h="1986">
                <a:moveTo>
                  <a:pt x="3919" y="12650"/>
                </a:moveTo>
                <a:cubicBezTo>
                  <a:pt x="3955" y="12747"/>
                  <a:pt x="3931" y="12775"/>
                  <a:pt x="3919" y="12874"/>
                </a:cubicBezTo>
                <a:cubicBezTo>
                  <a:pt x="3907" y="12979"/>
                  <a:pt x="3891" y="13092"/>
                  <a:pt x="3870" y="13196"/>
                </a:cubicBezTo>
                <a:cubicBezTo>
                  <a:pt x="3847" y="13312"/>
                  <a:pt x="3798" y="13428"/>
                  <a:pt x="3770" y="13543"/>
                </a:cubicBezTo>
                <a:cubicBezTo>
                  <a:pt x="3740" y="13666"/>
                  <a:pt x="3722" y="13794"/>
                  <a:pt x="3696" y="13915"/>
                </a:cubicBezTo>
                <a:cubicBezTo>
                  <a:pt x="3675" y="14014"/>
                  <a:pt x="3626" y="14087"/>
                  <a:pt x="3621" y="14188"/>
                </a:cubicBezTo>
                <a:cubicBezTo>
                  <a:pt x="3618" y="14249"/>
                  <a:pt x="3603" y="14252"/>
                  <a:pt x="3646" y="14238"/>
                </a:cubicBezTo>
              </a:path>
              <a:path w="1489" h="1986">
                <a:moveTo>
                  <a:pt x="3845" y="13791"/>
                </a:moveTo>
                <a:cubicBezTo>
                  <a:pt x="3904" y="13764"/>
                  <a:pt x="3954" y="13708"/>
                  <a:pt x="4018" y="13717"/>
                </a:cubicBezTo>
                <a:cubicBezTo>
                  <a:pt x="4064" y="13724"/>
                  <a:pt x="4152" y="13771"/>
                  <a:pt x="4167" y="13816"/>
                </a:cubicBezTo>
                <a:cubicBezTo>
                  <a:pt x="4184" y="13868"/>
                  <a:pt x="4192" y="13936"/>
                  <a:pt x="4167" y="13990"/>
                </a:cubicBezTo>
                <a:cubicBezTo>
                  <a:pt x="4142" y="14045"/>
                  <a:pt x="4086" y="14096"/>
                  <a:pt x="4043" y="14139"/>
                </a:cubicBezTo>
                <a:cubicBezTo>
                  <a:pt x="4003" y="14178"/>
                  <a:pt x="3957" y="14212"/>
                  <a:pt x="3944" y="14263"/>
                </a:cubicBezTo>
                <a:cubicBezTo>
                  <a:pt x="3998" y="14263"/>
                  <a:pt x="3991" y="14219"/>
                  <a:pt x="4043" y="14238"/>
                </a:cubicBezTo>
                <a:cubicBezTo>
                  <a:pt x="4096" y="14257"/>
                  <a:pt x="4125" y="14263"/>
                  <a:pt x="4192" y="14263"/>
                </a:cubicBezTo>
                <a:cubicBezTo>
                  <a:pt x="4254" y="14263"/>
                  <a:pt x="4291" y="14268"/>
                  <a:pt x="4341" y="14238"/>
                </a:cubicBezTo>
              </a:path>
              <a:path w="1489" h="1986">
                <a:moveTo>
                  <a:pt x="4539" y="14163"/>
                </a:moveTo>
                <a:cubicBezTo>
                  <a:pt x="4539" y="14259"/>
                  <a:pt x="4516" y="14665"/>
                  <a:pt x="4564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1960" y="4705200"/>
            <a:ext cx="573120" cy="501840"/>
          </a:xfrm>
          <a:custGeom>
            <a:avLst/>
            <a:gdLst/>
            <a:ahLst/>
            <a:rect l="l" t="t" r="r" b="b"/>
            <a:pathLst>
              <a:path w="1588" h="1390">
                <a:moveTo>
                  <a:pt x="1563" y="13221"/>
                </a:moveTo>
                <a:cubicBezTo>
                  <a:pt x="1573" y="13301"/>
                  <a:pt x="1610" y="13366"/>
                  <a:pt x="1637" y="13444"/>
                </a:cubicBezTo>
                <a:cubicBezTo>
                  <a:pt x="1677" y="13559"/>
                  <a:pt x="1745" y="13688"/>
                  <a:pt x="1811" y="13791"/>
                </a:cubicBezTo>
                <a:cubicBezTo>
                  <a:pt x="1892" y="13919"/>
                  <a:pt x="2027" y="14029"/>
                  <a:pt x="2133" y="14139"/>
                </a:cubicBezTo>
                <a:cubicBezTo>
                  <a:pt x="2227" y="14236"/>
                  <a:pt x="2308" y="14322"/>
                  <a:pt x="2406" y="14412"/>
                </a:cubicBezTo>
                <a:cubicBezTo>
                  <a:pt x="2431" y="14436"/>
                  <a:pt x="2440" y="14444"/>
                  <a:pt x="2456" y="14461"/>
                </a:cubicBezTo>
              </a:path>
              <a:path w="1588" h="1390">
                <a:moveTo>
                  <a:pt x="2158" y="13072"/>
                </a:moveTo>
                <a:cubicBezTo>
                  <a:pt x="2107" y="13135"/>
                  <a:pt x="2097" y="13201"/>
                  <a:pt x="2059" y="13271"/>
                </a:cubicBezTo>
                <a:cubicBezTo>
                  <a:pt x="1995" y="13389"/>
                  <a:pt x="1947" y="13511"/>
                  <a:pt x="1910" y="13643"/>
                </a:cubicBezTo>
                <a:cubicBezTo>
                  <a:pt x="1866" y="13801"/>
                  <a:pt x="1791" y="13939"/>
                  <a:pt x="1736" y="14089"/>
                </a:cubicBezTo>
                <a:cubicBezTo>
                  <a:pt x="1711" y="14157"/>
                  <a:pt x="1654" y="14249"/>
                  <a:pt x="1637" y="14312"/>
                </a:cubicBezTo>
                <a:cubicBezTo>
                  <a:pt x="1622" y="14370"/>
                  <a:pt x="1635" y="14346"/>
                  <a:pt x="1662" y="14337"/>
                </a:cubicBezTo>
              </a:path>
              <a:path w="1588" h="1390">
                <a:moveTo>
                  <a:pt x="2356" y="13618"/>
                </a:moveTo>
                <a:cubicBezTo>
                  <a:pt x="2470" y="13588"/>
                  <a:pt x="2587" y="13549"/>
                  <a:pt x="2704" y="13543"/>
                </a:cubicBezTo>
                <a:cubicBezTo>
                  <a:pt x="2786" y="13539"/>
                  <a:pt x="2870" y="13543"/>
                  <a:pt x="2952" y="13543"/>
                </a:cubicBezTo>
              </a:path>
              <a:path w="1588" h="1390">
                <a:moveTo>
                  <a:pt x="2480" y="13891"/>
                </a:moveTo>
                <a:cubicBezTo>
                  <a:pt x="2585" y="13916"/>
                  <a:pt x="2694" y="13936"/>
                  <a:pt x="2803" y="13940"/>
                </a:cubicBezTo>
                <a:cubicBezTo>
                  <a:pt x="2893" y="13944"/>
                  <a:pt x="2968" y="13951"/>
                  <a:pt x="3051" y="13965"/>
                </a:cubicBezTo>
                <a:cubicBezTo>
                  <a:pt x="3066" y="13968"/>
                  <a:pt x="3208" y="13989"/>
                  <a:pt x="3125" y="13965"/>
                </a:cubicBezTo>
                <a:cubicBezTo>
                  <a:pt x="3083" y="13953"/>
                  <a:pt x="3075" y="13961"/>
                  <a:pt x="3026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6840" y="4268880"/>
            <a:ext cx="3473280" cy="1204920"/>
          </a:xfrm>
          <a:custGeom>
            <a:avLst/>
            <a:gdLst/>
            <a:ahLst/>
            <a:rect l="l" t="t" r="r" b="b"/>
            <a:pathLst>
              <a:path w="9650" h="3349">
                <a:moveTo>
                  <a:pt x="8607" y="12427"/>
                </a:moveTo>
                <a:cubicBezTo>
                  <a:pt x="8108" y="12305"/>
                  <a:pt x="7605" y="12210"/>
                  <a:pt x="7094" y="12154"/>
                </a:cubicBezTo>
                <a:cubicBezTo>
                  <a:pt x="6799" y="12122"/>
                  <a:pt x="6497" y="12110"/>
                  <a:pt x="6201" y="12080"/>
                </a:cubicBezTo>
                <a:cubicBezTo>
                  <a:pt x="5944" y="12054"/>
                  <a:pt x="5689" y="12017"/>
                  <a:pt x="5432" y="12005"/>
                </a:cubicBezTo>
                <a:cubicBezTo>
                  <a:pt x="5158" y="11992"/>
                  <a:pt x="4887" y="11987"/>
                  <a:pt x="4614" y="11956"/>
                </a:cubicBezTo>
                <a:cubicBezTo>
                  <a:pt x="4301" y="11921"/>
                  <a:pt x="3985" y="11925"/>
                  <a:pt x="3671" y="11906"/>
                </a:cubicBezTo>
                <a:cubicBezTo>
                  <a:pt x="3300" y="11883"/>
                  <a:pt x="2926" y="11868"/>
                  <a:pt x="2555" y="11857"/>
                </a:cubicBezTo>
                <a:cubicBezTo>
                  <a:pt x="2389" y="11852"/>
                  <a:pt x="2223" y="11865"/>
                  <a:pt x="2059" y="11881"/>
                </a:cubicBezTo>
                <a:cubicBezTo>
                  <a:pt x="1941" y="11893"/>
                  <a:pt x="1802" y="11905"/>
                  <a:pt x="1687" y="11931"/>
                </a:cubicBezTo>
                <a:cubicBezTo>
                  <a:pt x="1559" y="11961"/>
                  <a:pt x="1362" y="12024"/>
                  <a:pt x="1265" y="12105"/>
                </a:cubicBezTo>
                <a:cubicBezTo>
                  <a:pt x="1203" y="12156"/>
                  <a:pt x="1165" y="12212"/>
                  <a:pt x="1141" y="12278"/>
                </a:cubicBezTo>
                <a:cubicBezTo>
                  <a:pt x="1079" y="12446"/>
                  <a:pt x="1128" y="12747"/>
                  <a:pt x="1116" y="12923"/>
                </a:cubicBezTo>
                <a:cubicBezTo>
                  <a:pt x="1108" y="13048"/>
                  <a:pt x="1099" y="13169"/>
                  <a:pt x="1091" y="13295"/>
                </a:cubicBezTo>
                <a:cubicBezTo>
                  <a:pt x="1081" y="13458"/>
                  <a:pt x="1049" y="13626"/>
                  <a:pt x="1042" y="13791"/>
                </a:cubicBezTo>
                <a:cubicBezTo>
                  <a:pt x="1034" y="13980"/>
                  <a:pt x="1023" y="14178"/>
                  <a:pt x="1017" y="14362"/>
                </a:cubicBezTo>
                <a:cubicBezTo>
                  <a:pt x="1012" y="14507"/>
                  <a:pt x="1031" y="14649"/>
                  <a:pt x="1042" y="14784"/>
                </a:cubicBezTo>
                <a:cubicBezTo>
                  <a:pt x="1048" y="14857"/>
                  <a:pt x="1035" y="14898"/>
                  <a:pt x="1067" y="14957"/>
                </a:cubicBezTo>
                <a:cubicBezTo>
                  <a:pt x="1083" y="14986"/>
                  <a:pt x="1099" y="15016"/>
                  <a:pt x="1116" y="15032"/>
                </a:cubicBezTo>
                <a:cubicBezTo>
                  <a:pt x="1130" y="15046"/>
                  <a:pt x="1176" y="15046"/>
                  <a:pt x="1191" y="15056"/>
                </a:cubicBezTo>
                <a:cubicBezTo>
                  <a:pt x="1221" y="15075"/>
                  <a:pt x="1257" y="15069"/>
                  <a:pt x="1290" y="15081"/>
                </a:cubicBezTo>
                <a:cubicBezTo>
                  <a:pt x="1340" y="15100"/>
                  <a:pt x="1379" y="15120"/>
                  <a:pt x="1439" y="15131"/>
                </a:cubicBezTo>
                <a:cubicBezTo>
                  <a:pt x="1575" y="15157"/>
                  <a:pt x="1721" y="15146"/>
                  <a:pt x="1860" y="15156"/>
                </a:cubicBezTo>
                <a:cubicBezTo>
                  <a:pt x="2001" y="15167"/>
                  <a:pt x="2141" y="15170"/>
                  <a:pt x="2282" y="15180"/>
                </a:cubicBezTo>
                <a:cubicBezTo>
                  <a:pt x="2407" y="15189"/>
                  <a:pt x="2529" y="15200"/>
                  <a:pt x="2654" y="15205"/>
                </a:cubicBezTo>
                <a:cubicBezTo>
                  <a:pt x="3021" y="15219"/>
                  <a:pt x="3383" y="15184"/>
                  <a:pt x="3746" y="15180"/>
                </a:cubicBezTo>
                <a:cubicBezTo>
                  <a:pt x="4103" y="15176"/>
                  <a:pt x="4456" y="15159"/>
                  <a:pt x="4812" y="15156"/>
                </a:cubicBezTo>
                <a:cubicBezTo>
                  <a:pt x="5129" y="15153"/>
                  <a:pt x="5440" y="15173"/>
                  <a:pt x="5755" y="15180"/>
                </a:cubicBezTo>
                <a:cubicBezTo>
                  <a:pt x="5988" y="15186"/>
                  <a:pt x="6217" y="15203"/>
                  <a:pt x="6449" y="15205"/>
                </a:cubicBezTo>
                <a:cubicBezTo>
                  <a:pt x="7004" y="15210"/>
                  <a:pt x="7559" y="15194"/>
                  <a:pt x="8111" y="15180"/>
                </a:cubicBezTo>
                <a:cubicBezTo>
                  <a:pt x="8344" y="15174"/>
                  <a:pt x="8574" y="15172"/>
                  <a:pt x="8806" y="15156"/>
                </a:cubicBezTo>
                <a:cubicBezTo>
                  <a:pt x="9005" y="15142"/>
                  <a:pt x="9201" y="15114"/>
                  <a:pt x="9401" y="15106"/>
                </a:cubicBezTo>
                <a:cubicBezTo>
                  <a:pt x="9568" y="15099"/>
                  <a:pt x="9731" y="15087"/>
                  <a:pt x="9897" y="15081"/>
                </a:cubicBezTo>
                <a:cubicBezTo>
                  <a:pt x="10089" y="15074"/>
                  <a:pt x="10280" y="15088"/>
                  <a:pt x="10468" y="15056"/>
                </a:cubicBezTo>
                <a:cubicBezTo>
                  <a:pt x="10518" y="15047"/>
                  <a:pt x="10565" y="15041"/>
                  <a:pt x="10616" y="15032"/>
                </a:cubicBezTo>
                <a:cubicBezTo>
                  <a:pt x="10639" y="15009"/>
                  <a:pt x="10643" y="15001"/>
                  <a:pt x="10666" y="15007"/>
                </a:cubicBezTo>
                <a:cubicBezTo>
                  <a:pt x="10666" y="14939"/>
                  <a:pt x="10639" y="14893"/>
                  <a:pt x="10641" y="14833"/>
                </a:cubicBezTo>
                <a:cubicBezTo>
                  <a:pt x="10644" y="14726"/>
                  <a:pt x="10666" y="14602"/>
                  <a:pt x="10666" y="14486"/>
                </a:cubicBezTo>
                <a:cubicBezTo>
                  <a:pt x="10666" y="14210"/>
                  <a:pt x="10660" y="13940"/>
                  <a:pt x="10641" y="13667"/>
                </a:cubicBezTo>
                <a:cubicBezTo>
                  <a:pt x="10623" y="13407"/>
                  <a:pt x="10582" y="13126"/>
                  <a:pt x="10517" y="12874"/>
                </a:cubicBezTo>
                <a:cubicBezTo>
                  <a:pt x="10491" y="12774"/>
                  <a:pt x="10476" y="12644"/>
                  <a:pt x="10443" y="12551"/>
                </a:cubicBezTo>
                <a:cubicBezTo>
                  <a:pt x="10413" y="12465"/>
                  <a:pt x="10371" y="12382"/>
                  <a:pt x="10344" y="12303"/>
                </a:cubicBezTo>
                <a:cubicBezTo>
                  <a:pt x="10336" y="12281"/>
                  <a:pt x="10327" y="12254"/>
                  <a:pt x="10319" y="12229"/>
                </a:cubicBezTo>
                <a:cubicBezTo>
                  <a:pt x="10200" y="12239"/>
                  <a:pt x="10093" y="12250"/>
                  <a:pt x="9971" y="12254"/>
                </a:cubicBezTo>
                <a:cubicBezTo>
                  <a:pt x="9566" y="12269"/>
                  <a:pt x="9159" y="12249"/>
                  <a:pt x="8756" y="12229"/>
                </a:cubicBezTo>
                <a:cubicBezTo>
                  <a:pt x="8512" y="12217"/>
                  <a:pt x="8283" y="12221"/>
                  <a:pt x="8037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Page 418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#3,5,7,9,21,23</a:t>
            </a:r>
            <a:br>
              <a:rPr sz="7500"/>
            </a:br>
            <a:endParaRPr b="0" lang="en-US" sz="7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47Z</dcterms:created>
  <dc:creator>jnewman</dc:creator>
  <dc:description/>
  <dc:language>en-US</dc:language>
  <cp:lastModifiedBy>abeason</cp:lastModifiedBy>
  <dcterms:modified xsi:type="dcterms:W3CDTF">2009-01-07T18:41:09Z</dcterms:modified>
  <cp:revision>12</cp:revision>
  <dc:subject/>
  <dc:title>Lesson 5.5 part one</dc:title>
</cp:coreProperties>
</file>